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03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6812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023240" y="662796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5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3720" y="1980720"/>
            <a:ext cx="4419360" cy="16765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elocity Formula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43" name="Picture 4" descr="flash_logo for powerpoint slides"/>
          <p:cNvPicPr/>
          <p:nvPr/>
        </p:nvPicPr>
        <p:blipFill>
          <a:blip r:embed="rId1"/>
          <a:stretch/>
        </p:blipFill>
        <p:spPr>
          <a:xfrm>
            <a:off x="8191440" y="5867280"/>
            <a:ext cx="952560" cy="2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20364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locity Formul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5" name="Group 10"/>
          <p:cNvGrpSpPr/>
          <p:nvPr/>
        </p:nvGrpSpPr>
        <p:grpSpPr>
          <a:xfrm>
            <a:off x="1309680" y="1843200"/>
            <a:ext cx="6831000" cy="1131120"/>
            <a:chOff x="1309680" y="1843200"/>
            <a:chExt cx="6831000" cy="1131120"/>
          </a:xfrm>
        </p:grpSpPr>
        <p:sp>
          <p:nvSpPr>
            <p:cNvPr id="46" name="Rectangle 4"/>
            <p:cNvSpPr/>
            <p:nvPr/>
          </p:nvSpPr>
          <p:spPr>
            <a:xfrm>
              <a:off x="1309680" y="1843200"/>
              <a:ext cx="68310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</a:rPr>
                <a:t>Speed = Distance ÷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Text Box 6"/>
            <p:cNvSpPr/>
            <p:nvPr/>
          </p:nvSpPr>
          <p:spPr>
            <a:xfrm>
              <a:off x="3505320" y="2514600"/>
              <a:ext cx="1866960" cy="4597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v = d /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Text Box 7"/>
          <p:cNvSpPr/>
          <p:nvPr/>
        </p:nvSpPr>
        <p:spPr>
          <a:xfrm>
            <a:off x="1447920" y="359424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v = velocity 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167640" y="42433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d = distance 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559680" y="494172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t = time 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mula triangl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2971800" y="3505320"/>
            <a:ext cx="3048120" cy="1981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267080" y="3962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733920" y="4724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64832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3657600" y="46483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8"/>
          <p:cNvSpPr/>
          <p:nvPr/>
        </p:nvSpPr>
        <p:spPr>
          <a:xfrm>
            <a:off x="4495680" y="46483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562720" y="4038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Symbol"/>
                <a:ea typeface="Symbol"/>
              </a:rPr>
              <a:t>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819520" y="40384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Symbol"/>
                <a:ea typeface="Symbol"/>
              </a:rPr>
              <a:t>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038480" y="54864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373640" y="526428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09480" y="6094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Formula triangles help you to rearrange formula, the triangle for the speed formula is shown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09480" y="15238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Whatever quantity you are trying to find cover it up and it will leave you with the calculation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609480" y="29718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So if you were trying to find speed, 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609480" y="43434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you would cover s up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952880" y="2666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nd you are left with the su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6248520" y="3657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6477120" y="350532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v  =   </a:t>
            </a:r>
            <a:r>
              <a:rPr b="0" lang="en-GB" sz="2400" spc="-1" strike="noStrike" u="sng">
                <a:solidFill>
                  <a:srgbClr val="9900cc"/>
                </a:solidFill>
                <a:uFillTx/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7238880" y="3886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3" descr="hand pointing"/>
          <p:cNvPicPr/>
          <p:nvPr/>
        </p:nvPicPr>
        <p:blipFill>
          <a:blip r:embed="rId1"/>
          <a:stretch/>
        </p:blipFill>
        <p:spPr>
          <a:xfrm>
            <a:off x="1981080" y="4876920"/>
            <a:ext cx="2152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ba</cp:lastModifiedBy>
  <cp:lastPrinted>2000-07-24T15:04:59Z</cp:lastPrinted>
  <dcterms:modified xsi:type="dcterms:W3CDTF">2011-08-30T04:16:24Z</dcterms:modified>
  <cp:revision>188</cp:revision>
  <dc:subject/>
  <dc:title>No Slide Title</dc:title>
</cp:coreProperties>
</file>