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F58-C8CC-4D60-B024-8C0C97E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78D-294A-465F-9F04-B0B0B5E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172-9A65-4418-9B7D-466CD624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A16-DE18-4637-AE13-C6299A7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5AF-56B7-49AE-8F33-83865FF9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AC71-A7DF-4D73-84FF-1D625A0B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50DA-40B4-430F-BD56-14B6B1B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5FF2-A385-4885-9862-AF4BB431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F44D-6D63-445A-B415-9FBAD83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08C-3559-408A-9318-A52FF257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3E55-CD3A-43F7-90DC-28B353F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7E1-8452-437C-8EDC-6779926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E3D1-7E14-4CB9-A585-50D871A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7853-C58F-40D7-83C4-D6CC755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AD0D-BAA1-47F8-9A1A-AE778C4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AB8-CEAA-4FB0-826B-35AED040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67C-626A-4853-9C8C-4DE894CD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40CA-E733-495A-A016-B6017BA4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00A5-03BB-4E89-80AA-5C5DB46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96A4-80BE-41BD-859D-9BD5B51A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518E-3070-47C3-BC59-8E9D64B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1E8B-C173-4E1F-8BD2-0C21B5F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41F-4601-45C5-A483-A62A3BB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99E8-8074-46E4-AEA2-A5D92FF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812A-C78E-4FA3-95EE-347EA54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1E90-B28A-4119-A7CC-8173A39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01CE-BBE6-4DC7-926D-046A0DE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24BC-6E6B-4E39-9447-B9718186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7FCE-9531-4B06-855B-AAD22E49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055C-8BC0-4F42-83E3-EE8534C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E319-9955-4A2F-BA8A-BB611101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8EB6-ACE7-4E49-89A4-3970317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0E89-C6DC-4CAA-9683-F2A4E356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F3A-DDAF-4F57-A639-693A6EB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D4D2-977A-4AD6-8220-C9D55AC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6B20-85E4-411A-AF45-D222A501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3B4A-1C4A-490B-AB51-D910884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2D4F-509A-42CF-B678-293E423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25C4-802D-429C-9BA9-7F81E05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7664-7B29-42F0-8EDB-5BAC93F2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E2A5-C853-463F-ACFB-EC8D156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648E-5CE4-4A0D-9F60-950F7EE0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1A66-2D93-4730-9AEC-6E636855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765C-7951-4765-BE49-88C56D28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F58-CF47-4ED8-9D6C-03CA7D92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2A30-9DD8-4659-84EF-261A063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73C0A-B9E2-4BE2-99BB-EDD3E6DE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D8A7-4ECF-42D7-BC5E-9434721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F923-EF88-499F-A7BB-4380027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8E9B-AFB2-4339-A6DB-EA5977FA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B24E-B853-4099-8F96-221D31B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8496-BC2F-4B83-989C-B38FFAE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ADA4-2D15-49DC-A504-276B3FE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08EF-9CBA-426C-8DB1-62182EC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7ED5-4B45-45F2-8DEF-4709997E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E9B-7058-45BB-B945-AA0259F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4DC0-CB2B-411A-A2CB-8A8D284F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2C7A-F24D-497B-BC4A-D891907E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16C1-60EC-4916-8961-DE2E29A2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BD03-610D-4813-8F36-FA81898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0DE8-F937-4B2A-8DE9-FF785B56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A55B-6824-44BA-BBA5-F0CCD02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A632-24EE-4BB9-BA4A-377B7E9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345B-7E8E-44F7-85D0-5CCB71E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5363-762B-4263-A31B-29EF897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A25D-0A8B-47B6-9FD0-27DF459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552-D25B-41C3-8104-963E35D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EB4F3-BB93-45E6-8825-A54E228B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CD468-C416-4B7A-AF81-19D77CD5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6263-0AD0-4C94-953E-E1B92E76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7A3-BA26-4951-91DD-431A27F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312-3FED-4C21-A3A6-B8BD623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CE44-50F4-4C03-9263-7C663D76E5F2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E65-946F-43BB-A32B-2AD28836B86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51BC-BDC6-43EB-9170-563032F1B27C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344D-292F-4F65-99E8-AC95C448C85D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340-395A-47AE-A890-6822A7F9F71A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43A-2215-403A-969E-831D3EA3A2BB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9090-7742-49FF-A4D4-4BD7EA4034D6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554-6977-4A2A-8C99-25C6C1F074AD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1E52-8C99-4A94-8559-7FB8B3F5C201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365F-0F25-4F92-89B1-7F743E2DA7D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4F8-E496-445E-B3CA-B4C69D764C4E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CFB9-5F87-4930-96A4-70E30BA2FEAE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8893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DE04-65D0-4CB8-8983-C7F296BECC94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90720" y="685800"/>
          <a:ext cx="7619760" cy="48769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20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ze of load (tonn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ximum length of jib 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6781680" y="26640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781680" y="35020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6781680" y="4227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6781680" y="48769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3048120" y="2664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3048120" y="346536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3048120" y="4227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048120" y="48769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2895480" y="79848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load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80880" y="5702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b.  All of the moments are the same.  1,200,000Nm is the maximum moment that the crane is saf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1,200,000 = 240,000 x d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d = 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D800-5731-417B-B64B-4C613A2A6D15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X x 0.2m = 4N x 0.2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X = 5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+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Y x 0.25m = (1N x 0.2m) + (2N x 0.40m)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Y = 4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21D-4809-4511-B952-F069BAF423CA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2N x 0.1m = Z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Z = 1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A8D-DFDE-4D3E-8709-32D9D9A9DE8C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5:07:30Z</dcterms:modified>
  <cp:revision>41</cp:revision>
  <dc:subject/>
  <dc:title>4C Work and Power</dc:title>
</cp:coreProperties>
</file>