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BA99-1DD8-4CCE-9B71-94C8CF686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F26B-DF04-494B-986D-D156F1E7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A1DB-4FA1-4E86-BB21-5B0A6C3D9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96ED-0CD3-449C-A901-EBC307D4E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937D-1ED3-4B80-9754-38E459F16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0CB3-D2A7-4DEE-A33C-524D6125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C189-F09B-4262-8158-FC4FB9FC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E1E5-0A86-4F22-842F-F92B55C0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0759-EDE4-42CD-B448-0A177314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3D61-C712-4104-9688-7AA061D9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66B2-F7DC-46B1-9BEE-11D1D88E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0ED3-D69C-4F47-85DD-9918E28B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3259C-24DF-4DE5-97DA-7A11FCF1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38F5-DD3F-4A4D-8F93-3A6454BB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8855-F465-4A71-8999-303A4183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2091-7413-437A-8423-9F8C6C70F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2738-E383-43DE-B725-6BBFDBE0F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C707E-0762-430E-AB1E-9F29BD32A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BA604-160C-4247-A531-6B467C3A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E37D6-71D0-48EF-BF93-2B40DB99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20508-9851-4048-B048-106FDD65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0BB49-37FB-4705-ACD8-6739C993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7ED6-06F6-4FEE-BE8B-5FC60974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88260-FAC9-4447-BDD4-E2F38F6D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470D7-4081-4DAF-BCB6-1286DF3A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F942B-9995-4DEB-AEAA-5282DAF0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10600-DEBF-4F31-9EFC-7D9F0D20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F0B2C-7356-45A4-B03A-E276E764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57058-1B2B-481C-88B1-8F9FD94DB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36C8E-B767-45B7-BE7B-49AD01D9B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81630-5F5E-4FD8-AAF9-B33EB34D4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363ED-65F9-4559-8CA2-1F862242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CC238-E4E1-4DF1-B92D-39026D17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4843-4F1D-457A-A6B3-EE91DDD9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E6247-D19B-46E3-A4C8-1119D503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46298-8E3A-4AFB-B50F-C13F91AA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6B75F-3D25-4DD0-9F32-07CED444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E83BC-5BD7-45A5-823D-0BDA8807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D260F-5BA8-499C-8973-2D08E3AB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99C26-17B5-476E-8CEC-4AD96B61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36F2E-A7CD-46FE-987E-539EC287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E4B07-80DC-4A1B-8057-86A5B6818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7A821-C84D-4777-BBA6-8E787C3D9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AC29B-6154-473A-B28A-58D5F39F9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F4A8-3986-4332-A994-DA9EC1D7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144B3-81BE-419A-9608-5F74275D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3975C-2E97-4C31-B273-363E31C9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BE7C4-8867-43C1-A5F8-32B9B479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92EF6-28C0-4610-AA66-8CE8DCC2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26CE8-4E7C-47EB-8E79-F6B2620F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DB9FF-BEE8-48FF-B454-41B89609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CEF31-897B-493C-BE36-177E39CD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2C3EC-4F16-47F1-AEAB-2017E4FC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AEE21-CA93-4F93-8079-1E3784B5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B0A7F-5B68-4C11-8183-39ACD77EF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62E9-4D26-4499-8416-B1C62C3B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CB7C7-437C-432C-A451-753312667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EF2F3-B611-43E8-BFE8-1C38E3457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BEEDA-5826-4A6C-9AD4-7EE09094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DFAA3-CE10-4752-AC6A-14CC4481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B0609-60A1-4334-A820-A4B118AE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B7F71-5494-4ADA-B995-2A498DD3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BDEB0-8417-4542-90FF-21945C44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23900-15D1-4062-B8D9-759DC771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FE740-E6DA-4982-B9D2-2607CD0E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2703C-649C-4412-AC32-7FC964B9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D39A-93D6-42B0-A2B0-E4DA163D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212DA-CB4C-476A-8672-5F66AAD8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09618-896D-4C69-8476-A48392952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89E2A-6B4B-4B2E-8CDC-08F73E1FE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9BC9-86ED-4EDF-8C75-F491262A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B61C-D3E8-494A-967D-BAEBF4DE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0DB3-32F2-4380-A5B9-AAB933A105A9}" type="datetime"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DA47-278D-4BEB-8368-7846689457A4}" type="slidenum">
              <a:rPr b="0" lang="en-GB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74B0-CAA1-4D10-876B-66DD8DCE881C}" type="datetime"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42FA-0434-45B3-A312-3887ACDB0283}" type="slidenum">
              <a:rPr b="0" lang="en-GB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56A5-12BB-4861-882A-B0D764D40A00}" type="datetime"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75BF-D2E3-4042-9CA4-646E46E9EDCF}" type="slidenum">
              <a:rPr b="0" lang="en-GB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66C0-3D04-4DF0-B5A6-F6207C718F1C}" type="datetime"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B08C-D25A-4FFA-80A5-0B2F72CCD465}" type="slidenum">
              <a:rPr b="0" lang="en-GB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0136-296C-47A4-8F66-93D06BA1FF67}" type="datetime"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E9C8-1B7D-483D-8ED6-A62EB9D86D1B}" type="slidenum">
              <a:rPr b="0" lang="en-GB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7009920" y="568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E96D-7ACA-4CAA-B23A-6A67F72D809A}" type="datetime"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79246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MBA 10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2598120" y="6089040"/>
            <a:ext cx="1508760" cy="3373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1C742-BC2B-4FEF-BCE9-B52D17AED042}" type="slidenum">
              <a:rPr b="0" lang="en-GB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75960" y="75960"/>
            <a:ext cx="889308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9b2d1f"/>
                </a:solidFill>
                <a:uFillTx/>
                <a:latin typeface="Perpetua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2" name="Date Placeholder 5"/>
          <p:cNvSpPr/>
          <p:nvPr/>
        </p:nvSpPr>
        <p:spPr>
          <a:xfrm>
            <a:off x="7010280" y="57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5FED-3E7F-4CE0-89C1-611F02164CD8}" type="datetime">
              <a:rPr b="0" lang="en-GB" sz="1400" spc="-1" strike="noStrike">
                <a:solidFill>
                  <a:srgbClr val="696464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ooter Placeholder 6"/>
          <p:cNvSpPr/>
          <p:nvPr/>
        </p:nvSpPr>
        <p:spPr>
          <a:xfrm>
            <a:off x="7924680" y="64008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96464"/>
                </a:solidFill>
                <a:latin typeface="Arial"/>
              </a:rPr>
              <a:t>MBA 10/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990720" y="685800"/>
          <a:ext cx="7619760" cy="4876920"/>
        </p:xfrm>
        <a:graphic>
          <a:graphicData uri="http://schemas.openxmlformats.org/drawingml/2006/table">
            <a:tbl>
              <a:tblPr/>
              <a:tblGrid>
                <a:gridCol w="1904760"/>
                <a:gridCol w="1905120"/>
                <a:gridCol w="1905120"/>
                <a:gridCol w="1904760"/>
              </a:tblGrid>
              <a:tr h="202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ize of load (tonne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Maximum length of jib (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Mo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(N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</a:tbl>
          </a:graphicData>
        </a:graphic>
      </p:graphicFrame>
      <p:sp>
        <p:nvSpPr>
          <p:cNvPr id="275" name="TextBox 6"/>
          <p:cNvSpPr/>
          <p:nvPr/>
        </p:nvSpPr>
        <p:spPr>
          <a:xfrm>
            <a:off x="6781680" y="2664000"/>
            <a:ext cx="243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20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7"/>
          <p:cNvSpPr/>
          <p:nvPr/>
        </p:nvSpPr>
        <p:spPr>
          <a:xfrm>
            <a:off x="6781680" y="3502080"/>
            <a:ext cx="243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20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8"/>
          <p:cNvSpPr/>
          <p:nvPr/>
        </p:nvSpPr>
        <p:spPr>
          <a:xfrm>
            <a:off x="6781680" y="4227480"/>
            <a:ext cx="243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20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9"/>
          <p:cNvSpPr/>
          <p:nvPr/>
        </p:nvSpPr>
        <p:spPr>
          <a:xfrm>
            <a:off x="6781680" y="4876920"/>
            <a:ext cx="243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20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0"/>
          <p:cNvSpPr/>
          <p:nvPr/>
        </p:nvSpPr>
        <p:spPr>
          <a:xfrm>
            <a:off x="3048120" y="266400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1"/>
          <p:cNvSpPr/>
          <p:nvPr/>
        </p:nvSpPr>
        <p:spPr>
          <a:xfrm>
            <a:off x="3048120" y="346536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2"/>
          <p:cNvSpPr/>
          <p:nvPr/>
        </p:nvSpPr>
        <p:spPr>
          <a:xfrm>
            <a:off x="3048120" y="422748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3"/>
          <p:cNvSpPr/>
          <p:nvPr/>
        </p:nvSpPr>
        <p:spPr>
          <a:xfrm>
            <a:off x="3048120" y="487692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4"/>
          <p:cNvSpPr/>
          <p:nvPr/>
        </p:nvSpPr>
        <p:spPr>
          <a:xfrm>
            <a:off x="2895480" y="798480"/>
            <a:ext cx="182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of load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6"/>
          <p:cNvSpPr/>
          <p:nvPr/>
        </p:nvSpPr>
        <p:spPr>
          <a:xfrm>
            <a:off x="380880" y="5702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b.  All of the moments are the same.  1,200,000Nm is the maximum moment that the crane is safe f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80"/>
                </a:solidFill>
                <a:latin typeface="Bookman Old Style"/>
              </a:rPr>
              <a:t>PFY p.96, Model Answers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9b2d1f"/>
                </a:solidFill>
                <a:uFillTx/>
                <a:latin typeface="Perpetua"/>
              </a:rPr>
              <a:t>Question 5c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erpetua"/>
              </a:rPr>
              <a:t>Formula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Moment = F  x d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Perpetu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Substitution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1,200,000 = 240,000 x d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Perpetu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nswer+Units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 u="sng">
                <a:solidFill>
                  <a:srgbClr val="9b2d1f"/>
                </a:solidFill>
                <a:uFillTx/>
                <a:latin typeface="Perpetua"/>
              </a:rPr>
              <a:t>d = 5m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Perpetua"/>
              </a:rPr>
              <a:t>2 mark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7" name="Date Placeholder 5"/>
          <p:cNvSpPr/>
          <p:nvPr/>
        </p:nvSpPr>
        <p:spPr>
          <a:xfrm>
            <a:off x="7010280" y="57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D784-A26D-4467-AC73-6BD40CB748F5}" type="datetime">
              <a:rPr b="0" lang="en-GB" sz="1400" spc="-1" strike="noStrike">
                <a:solidFill>
                  <a:srgbClr val="696464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ooter Placeholder 6"/>
          <p:cNvSpPr/>
          <p:nvPr/>
        </p:nvSpPr>
        <p:spPr>
          <a:xfrm>
            <a:off x="7924680" y="64008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96464"/>
                </a:solidFill>
                <a:latin typeface="Arial"/>
              </a:rPr>
              <a:t>MBA 10/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80"/>
                </a:solidFill>
                <a:latin typeface="Bookman Old Style"/>
              </a:rPr>
              <a:t>PFY p.96, Model Answers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9b2d1f"/>
                </a:solidFill>
                <a:uFillTx/>
                <a:latin typeface="Perpetua"/>
              </a:rPr>
              <a:t>Question 4a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erpetua"/>
              </a:rPr>
              <a:t>Formula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F</a:t>
            </a:r>
            <a:r>
              <a:rPr b="0" lang="en-GB" sz="2800" spc="-1" strike="noStrike" baseline="-25000">
                <a:solidFill>
                  <a:srgbClr val="9b2d1f"/>
                </a:solidFill>
                <a:latin typeface="Perpetua"/>
              </a:rPr>
              <a:t>1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 x d</a:t>
            </a:r>
            <a:r>
              <a:rPr b="0" lang="en-GB" sz="2800" spc="-1" strike="noStrike" baseline="-25000">
                <a:solidFill>
                  <a:srgbClr val="9b2d1f"/>
                </a:solidFill>
                <a:latin typeface="Perpetua"/>
              </a:rPr>
              <a:t>1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 = F</a:t>
            </a:r>
            <a:r>
              <a:rPr b="0" lang="en-GB" sz="2800" spc="-1" strike="noStrike" baseline="-25000">
                <a:solidFill>
                  <a:srgbClr val="9b2d1f"/>
                </a:solidFill>
                <a:latin typeface="Perpetua"/>
              </a:rPr>
              <a:t>2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 x d</a:t>
            </a:r>
            <a:r>
              <a:rPr b="0" lang="en-GB" sz="2800" spc="-1" strike="noStrike" baseline="-25000">
                <a:solidFill>
                  <a:srgbClr val="9b2d1f"/>
                </a:solidFill>
                <a:latin typeface="Perpetua"/>
              </a:rPr>
              <a:t>2</a:t>
            </a:r>
            <a:r>
              <a:rPr b="0" lang="en-GB" sz="2800" spc="-1" strike="noStrike" baseline="-25000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 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Perpetu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Substitution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X x 0.2m = 4N x 0.25m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Perpetu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nswer+Units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 u="sng">
                <a:solidFill>
                  <a:srgbClr val="9b2d1f"/>
                </a:solidFill>
                <a:uFillTx/>
                <a:latin typeface="Perpetua"/>
              </a:rPr>
              <a:t>X = 5N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Perpetua"/>
              </a:rPr>
              <a:t>2 mark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9b2d1f"/>
                </a:solidFill>
                <a:uFillTx/>
                <a:latin typeface="Perpetua"/>
              </a:rPr>
              <a:t>Question 4b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erpetua"/>
              </a:rPr>
              <a:t>Formula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F</a:t>
            </a:r>
            <a:r>
              <a:rPr b="0" lang="en-GB" sz="2800" spc="-1" strike="noStrike" baseline="-25000">
                <a:solidFill>
                  <a:srgbClr val="9b2d1f"/>
                </a:solidFill>
                <a:latin typeface="Perpetua"/>
              </a:rPr>
              <a:t>1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 x d</a:t>
            </a:r>
            <a:r>
              <a:rPr b="0" lang="en-GB" sz="2800" spc="-1" strike="noStrike" baseline="-25000">
                <a:solidFill>
                  <a:srgbClr val="9b2d1f"/>
                </a:solidFill>
                <a:latin typeface="Perpetua"/>
              </a:rPr>
              <a:t>1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 = (F</a:t>
            </a:r>
            <a:r>
              <a:rPr b="0" lang="en-GB" sz="2800" spc="-1" strike="noStrike" baseline="-25000">
                <a:solidFill>
                  <a:srgbClr val="9b2d1f"/>
                </a:solidFill>
                <a:latin typeface="Perpetua"/>
              </a:rPr>
              <a:t>2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 x d</a:t>
            </a:r>
            <a:r>
              <a:rPr b="0" lang="en-GB" sz="2800" spc="-1" strike="noStrike" baseline="-25000">
                <a:solidFill>
                  <a:srgbClr val="9b2d1f"/>
                </a:solidFill>
                <a:latin typeface="Perpetua"/>
              </a:rPr>
              <a:t>2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) + (F</a:t>
            </a:r>
            <a:r>
              <a:rPr b="0" lang="en-GB" sz="2800" spc="-1" strike="noStrike" baseline="-25000">
                <a:solidFill>
                  <a:srgbClr val="9b2d1f"/>
                </a:solidFill>
                <a:latin typeface="Perpetua"/>
              </a:rPr>
              <a:t>3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 x d</a:t>
            </a:r>
            <a:r>
              <a:rPr b="0" lang="en-GB" sz="2800" spc="-1" strike="noStrike" baseline="-25000">
                <a:solidFill>
                  <a:srgbClr val="9b2d1f"/>
                </a:solidFill>
                <a:latin typeface="Perpetua"/>
              </a:rPr>
              <a:t>3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) 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Perpetu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Substitution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Y x 0.25m = (1N x 0.2m) + (2N x 0.40m)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Perpetu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nswer+Units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 u="sng">
                <a:solidFill>
                  <a:srgbClr val="9b2d1f"/>
                </a:solidFill>
                <a:uFillTx/>
                <a:latin typeface="Perpetua"/>
              </a:rPr>
              <a:t>Y = 4N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Perpetua"/>
              </a:rPr>
              <a:t>2 mark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1" name="Date Placeholder 5"/>
          <p:cNvSpPr/>
          <p:nvPr/>
        </p:nvSpPr>
        <p:spPr>
          <a:xfrm>
            <a:off x="7010280" y="57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BDC5-C5CD-4D48-AD71-C8E0D6FA76DA}" type="datetime">
              <a:rPr b="0" lang="en-GB" sz="1400" spc="-1" strike="noStrike">
                <a:solidFill>
                  <a:srgbClr val="696464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ooter Placeholder 6"/>
          <p:cNvSpPr/>
          <p:nvPr/>
        </p:nvSpPr>
        <p:spPr>
          <a:xfrm>
            <a:off x="7924680" y="64008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96464"/>
                </a:solidFill>
                <a:latin typeface="Arial"/>
              </a:rPr>
              <a:t>MBA 10/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80"/>
                </a:solidFill>
                <a:latin typeface="Bookman Old Style"/>
              </a:rPr>
              <a:t>PFY p.96, Model Answers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9b2d1f"/>
                </a:solidFill>
                <a:uFillTx/>
                <a:latin typeface="Perpetua"/>
              </a:rPr>
              <a:t>Question 4c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erpetua"/>
              </a:rPr>
              <a:t>Formula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F</a:t>
            </a:r>
            <a:r>
              <a:rPr b="0" lang="en-GB" sz="2800" spc="-1" strike="noStrike" baseline="-25000">
                <a:solidFill>
                  <a:srgbClr val="9b2d1f"/>
                </a:solidFill>
                <a:latin typeface="Perpetua"/>
              </a:rPr>
              <a:t>1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 x d</a:t>
            </a:r>
            <a:r>
              <a:rPr b="0" lang="en-GB" sz="2800" spc="-1" strike="noStrike" baseline="-25000">
                <a:solidFill>
                  <a:srgbClr val="9b2d1f"/>
                </a:solidFill>
                <a:latin typeface="Perpetua"/>
              </a:rPr>
              <a:t>1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 = F</a:t>
            </a:r>
            <a:r>
              <a:rPr b="0" lang="en-GB" sz="2800" spc="-1" strike="noStrike" baseline="-25000">
                <a:solidFill>
                  <a:srgbClr val="9b2d1f"/>
                </a:solidFill>
                <a:latin typeface="Perpetua"/>
              </a:rPr>
              <a:t>2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 x d</a:t>
            </a:r>
            <a:r>
              <a:rPr b="0" lang="en-GB" sz="2800" spc="-1" strike="noStrike" baseline="-25000">
                <a:solidFill>
                  <a:srgbClr val="9b2d1f"/>
                </a:solidFill>
                <a:latin typeface="Perpetua"/>
              </a:rPr>
              <a:t>2</a:t>
            </a:r>
            <a:r>
              <a:rPr b="0" lang="en-GB" sz="2800" spc="-1" strike="noStrike" baseline="-25000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 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Perpetu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Substitution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2N x 0.1m = Z x 0.2m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Perpetu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nswer+Units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 u="sng">
                <a:solidFill>
                  <a:srgbClr val="9b2d1f"/>
                </a:solidFill>
                <a:uFillTx/>
                <a:latin typeface="Perpetua"/>
              </a:rPr>
              <a:t>Z = 1N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Perpetua"/>
              </a:rPr>
              <a:t>2 mark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5" name="Date Placeholder 5"/>
          <p:cNvSpPr/>
          <p:nvPr/>
        </p:nvSpPr>
        <p:spPr>
          <a:xfrm>
            <a:off x="7010280" y="57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6E8B-E0F6-4582-9888-F78981CFDA02}" type="datetime">
              <a:rPr b="0" lang="en-GB" sz="1400" spc="-1" strike="noStrike">
                <a:solidFill>
                  <a:srgbClr val="696464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ooter Placeholder 6"/>
          <p:cNvSpPr/>
          <p:nvPr/>
        </p:nvSpPr>
        <p:spPr>
          <a:xfrm>
            <a:off x="7924680" y="64008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96464"/>
                </a:solidFill>
                <a:latin typeface="Arial"/>
              </a:rPr>
              <a:t>MBA 10/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07:05:37Z</dcterms:created>
  <dc:creator>tempusers</dc:creator>
  <dc:description/>
  <dc:language>en-US</dc:language>
  <cp:lastModifiedBy>Matt Baker</cp:lastModifiedBy>
  <dcterms:modified xsi:type="dcterms:W3CDTF">2011-10-31T05:07:30Z</dcterms:modified>
  <cp:revision>41</cp:revision>
  <dc:subject/>
  <dc:title>4C Work and Power</dc:title>
</cp:coreProperties>
</file>