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AA51-E729-4E27-A330-D8B16C964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3CE4-7598-4DB1-BD21-8EDEB10F22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A0F4-AF93-4E80-96B0-559CAFA869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953-A290-4A4C-A6C7-B20D2466B0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069-0213-4302-9905-56DCCFE483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DEC3-23B3-492D-B170-4110E54CD6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651A-241F-4E36-86B6-933AE50229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7445-61AC-4EF7-A1E2-D8AFE2AC5B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D40-2627-484B-B4FC-FAD2285EEF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2006-2A1F-435A-B12E-7C9222D4C6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88E-4D1E-4811-B417-FFB19244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DB5-0F1D-4EBC-AD07-7AC2C9A7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270-EAC0-4C35-8AD0-F363D769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7F-CB17-4993-9EAC-536FDB84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92D-FF6A-4874-892F-4569E0BE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8C8-6A70-472D-8CF0-D8566F02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F3F-908B-45E5-82CC-E35DF2DC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54A-C078-402B-BFDF-A8816A03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1C4-AD87-457A-A1D5-CF18456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F07-0B7A-45B3-B57C-6FDF90E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53D-12C6-4117-9472-09415CE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545-D323-4387-B193-289F25E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70EF-456C-46E6-95C4-35F42DF9409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o the skydiver (m=70kg) jumps out of a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28" descr="para1"/>
          <p:cNvPicPr/>
          <p:nvPr/>
        </p:nvPicPr>
        <p:blipFill>
          <a:blip r:embed="rId1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Line 1029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30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only force on her is her weight, 700 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an unbalanced (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sul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for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lerat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downw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6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80880" y="914400"/>
            <a:ext cx="8534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’s no air resistance, because she is not moving through the a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e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she falls fas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9" descr="para1-B"/>
          <p:cNvPicPr/>
          <p:nvPr/>
        </p:nvPicPr>
        <p:blipFill>
          <a:blip r:embed="rId2"/>
          <a:stretch/>
        </p:blipFill>
        <p:spPr>
          <a:xfrm>
            <a:off x="455760" y="3505320"/>
            <a:ext cx="2624040" cy="1919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380880" y="990720"/>
            <a:ext cx="8610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air resistance (drag) increas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her acceleration is l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572000" y="25146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on the air resistance equals her we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8" descr="para2"/>
          <p:cNvPicPr/>
          <p:nvPr/>
        </p:nvPicPr>
        <p:blipFill>
          <a:blip r:embed="rId1"/>
          <a:stretch/>
        </p:blipFill>
        <p:spPr>
          <a:xfrm>
            <a:off x="519120" y="3276720"/>
            <a:ext cx="2604960" cy="291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ara2graph"/>
          <p:cNvPicPr/>
          <p:nvPr/>
        </p:nvPicPr>
        <p:blipFill>
          <a:blip r:embed="rId2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0880" y="838080"/>
            <a:ext cx="84582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 so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her  terminal velo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me to open the parachut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8532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it opens, the drag increases.  A 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 flipH="1">
            <a:off x="8532360" y="2743200"/>
            <a:ext cx="180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para3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para3"/>
          <p:cNvPicPr/>
          <p:nvPr/>
        </p:nvPicPr>
        <p:blipFill>
          <a:blip r:embed="rId2"/>
          <a:stretch/>
        </p:blipFill>
        <p:spPr>
          <a:xfrm>
            <a:off x="455760" y="2362320"/>
            <a:ext cx="2604960" cy="3875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80880" y="928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upward force is greater than the downward force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86200" y="14288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slows dow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(‘decelerates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she goes sl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para4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ara4"/>
          <p:cNvPicPr/>
          <p:nvPr/>
        </p:nvPicPr>
        <p:blipFill>
          <a:blip r:embed="rId2"/>
          <a:stretch/>
        </p:blipFill>
        <p:spPr>
          <a:xfrm>
            <a:off x="452520" y="2432160"/>
            <a:ext cx="2604960" cy="3994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380880" y="3049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drag is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til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80880" y="14479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n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 new, slower terminal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 lands on the grou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para5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para5"/>
          <p:cNvPicPr/>
          <p:nvPr/>
        </p:nvPicPr>
        <p:blipFill>
          <a:blip r:embed="rId2"/>
          <a:stretch/>
        </p:blipFill>
        <p:spPr>
          <a:xfrm>
            <a:off x="228600" y="3429000"/>
            <a:ext cx="3087720" cy="2468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380880" y="762120"/>
            <a:ext cx="85345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her weight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upward push from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r speed is now zero, …and because the forces are balanced it stays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6:50:13Z</dcterms:created>
  <dc:creator>Andy Darvill, Keith Johnson</dc:creator>
  <dc:description/>
  <dc:language>en-US</dc:language>
  <cp:lastModifiedBy>Matt Baker</cp:lastModifiedBy>
  <dcterms:modified xsi:type="dcterms:W3CDTF">2011-09-15T02:39:12Z</dcterms:modified>
  <cp:revision>73</cp:revision>
  <dc:subject/>
  <dc:title>Parachute &amp; Terminal Velo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