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340E-27E5-448C-8123-5DE27498B0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4541-EDC1-4187-9D2C-29453F699C6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A98A-2D07-47C9-BBE9-FEFD4D62BEE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6C55-763C-4863-906C-8495F5C3FA8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5217-92C9-4E33-9D1E-DD3ECB3B155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EE1F-A079-43F0-AFC6-BA856942BE7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7E44-E3E8-4D28-951E-3F45B4101FB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733F-CD03-46B2-BA79-5F830DDDB7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5631-E368-405D-A12A-903EB301BFA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AB32-A4BC-4B74-AFB2-3545910CFF4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C91-CC03-4094-BB9F-96CA9EB8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CEB2-6C06-4276-A417-01714E39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926E-9418-40EF-A4B3-44AB7DD1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BAF-9EA2-489D-B58E-247AE1A0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190F-BE2B-4C75-B9ED-C0E21F78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F3B-B659-47FC-A9D4-EB6443E6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4DF6-AE39-4110-BE05-3D7C4CF4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59A-BE81-4D9C-8C6C-B88C2547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07B-CA9E-4EC4-9C79-15135039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63E-721B-4BA0-B138-B10CE740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67F-9993-4EFB-81F4-4986DCE0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B922-F544-41A3-B540-6BB7F855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e7ff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2259-EC0A-4DF8-A9DB-DF0DB2225DD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o the skydiver (m=70kg) jumps out of a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028" descr="para1"/>
          <p:cNvPicPr/>
          <p:nvPr/>
        </p:nvPicPr>
        <p:blipFill>
          <a:blip r:embed="rId1"/>
          <a:stretch/>
        </p:blipFill>
        <p:spPr>
          <a:xfrm>
            <a:off x="457200" y="3505320"/>
            <a:ext cx="2624040" cy="1920600"/>
          </a:xfrm>
          <a:prstGeom prst="rect">
            <a:avLst/>
          </a:prstGeom>
          <a:ln w="0">
            <a:noFill/>
          </a:ln>
        </p:spPr>
      </p:pic>
      <p:sp>
        <p:nvSpPr>
          <p:cNvPr id="50" name="Line 1029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1030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031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5345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the star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only force on her is her weight, 700 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s an unbalanced (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resulta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 for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sh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ccelerate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downwa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para1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9840" cy="3381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para1"/>
          <p:cNvPicPr/>
          <p:nvPr/>
        </p:nvPicPr>
        <p:blipFill>
          <a:blip r:embed="rId2"/>
          <a:stretch/>
        </p:blipFill>
        <p:spPr>
          <a:xfrm>
            <a:off x="457200" y="3505320"/>
            <a:ext cx="2624040" cy="1920600"/>
          </a:xfrm>
          <a:prstGeom prst="rect">
            <a:avLst/>
          </a:prstGeom>
          <a:ln w="0">
            <a:noFill/>
          </a:ln>
        </p:spPr>
      </p:pic>
      <p:sp>
        <p:nvSpPr>
          <p:cNvPr id="56" name="Line 5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the star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3" descr="para1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9840" cy="3381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para1"/>
          <p:cNvPicPr/>
          <p:nvPr/>
        </p:nvPicPr>
        <p:blipFill>
          <a:blip r:embed="rId2"/>
          <a:stretch/>
        </p:blipFill>
        <p:spPr>
          <a:xfrm>
            <a:off x="457200" y="3505320"/>
            <a:ext cx="2624040" cy="1920600"/>
          </a:xfrm>
          <a:prstGeom prst="rect">
            <a:avLst/>
          </a:prstGeom>
          <a:ln w="0">
            <a:noFill/>
          </a:ln>
        </p:spPr>
      </p:pic>
      <p:sp>
        <p:nvSpPr>
          <p:cNvPr id="62" name="Line 5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80880" y="914400"/>
            <a:ext cx="85345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re’s no air resistance, because she is not moving through the ai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Yet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 she falls fast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para1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9840" cy="3381480"/>
          </a:xfrm>
          <a:prstGeom prst="rect">
            <a:avLst/>
          </a:prstGeom>
          <a:ln w="0">
            <a:noFill/>
          </a:ln>
        </p:spPr>
      </p:pic>
      <p:sp>
        <p:nvSpPr>
          <p:cNvPr id="68" name="Line 5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9" descr="para1-B"/>
          <p:cNvPicPr/>
          <p:nvPr/>
        </p:nvPicPr>
        <p:blipFill>
          <a:blip r:embed="rId2"/>
          <a:stretch/>
        </p:blipFill>
        <p:spPr>
          <a:xfrm>
            <a:off x="455760" y="3505320"/>
            <a:ext cx="2624040" cy="19191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"/>
          <p:cNvSpPr/>
          <p:nvPr/>
        </p:nvSpPr>
        <p:spPr>
          <a:xfrm>
            <a:off x="380880" y="990720"/>
            <a:ext cx="8610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air resistance (drag) increas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her acceleration is l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4572000" y="251460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on the air resistance equals her weigh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8" descr="para2"/>
          <p:cNvPicPr/>
          <p:nvPr/>
        </p:nvPicPr>
        <p:blipFill>
          <a:blip r:embed="rId1"/>
          <a:stretch/>
        </p:blipFill>
        <p:spPr>
          <a:xfrm>
            <a:off x="519120" y="3276720"/>
            <a:ext cx="2604960" cy="2913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para2graph"/>
          <p:cNvPicPr/>
          <p:nvPr/>
        </p:nvPicPr>
        <p:blipFill>
          <a:blip r:embed="rId2"/>
          <a:stretch/>
        </p:blipFill>
        <p:spPr>
          <a:xfrm>
            <a:off x="3419640" y="2852640"/>
            <a:ext cx="5106960" cy="3372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0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80880" y="838080"/>
            <a:ext cx="845820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the forces ar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alanc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d so she falls at a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onsta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p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s her  terminal velo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ime to open the parachute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8532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en it opens, the drag increases.  A l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 flipH="1">
            <a:off x="8532360" y="2743200"/>
            <a:ext cx="180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para3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6960" cy="33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para3"/>
          <p:cNvPicPr/>
          <p:nvPr/>
        </p:nvPicPr>
        <p:blipFill>
          <a:blip r:embed="rId2"/>
          <a:stretch/>
        </p:blipFill>
        <p:spPr>
          <a:xfrm>
            <a:off x="455760" y="2362320"/>
            <a:ext cx="2604960" cy="3875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80880" y="9288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the upward force is greater than the downward force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886200" y="142884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she slows dow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(‘decelerates’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w she goes slow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9" descr="para4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6960" cy="3372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para4"/>
          <p:cNvPicPr/>
          <p:nvPr/>
        </p:nvPicPr>
        <p:blipFill>
          <a:blip r:embed="rId2"/>
          <a:stretch/>
        </p:blipFill>
        <p:spPr>
          <a:xfrm>
            <a:off x="452520" y="2432160"/>
            <a:ext cx="2604960" cy="3994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2"/>
          <p:cNvSpPr/>
          <p:nvPr/>
        </p:nvSpPr>
        <p:spPr>
          <a:xfrm>
            <a:off x="380880" y="30492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the drag is 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til the forces ar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alanc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380880" y="1447920"/>
            <a:ext cx="8839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then she falls at a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onsta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a new, slower terminal velo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e lands on the grou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9" descr="para5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6960" cy="3372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para5"/>
          <p:cNvPicPr/>
          <p:nvPr/>
        </p:nvPicPr>
        <p:blipFill>
          <a:blip r:embed="rId2"/>
          <a:stretch/>
        </p:blipFill>
        <p:spPr>
          <a:xfrm>
            <a:off x="228600" y="3429000"/>
            <a:ext cx="3087720" cy="24685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380880" y="762120"/>
            <a:ext cx="853452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w her weight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alanc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equa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upward push from the g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r speed is now zero, …and because the forces are balanced it stays z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6:50:13Z</dcterms:created>
  <dc:creator>Andy Darvill, Keith Johnson</dc:creator>
  <dc:description/>
  <dc:language>en-US</dc:language>
  <cp:lastModifiedBy>Matt Baker</cp:lastModifiedBy>
  <dcterms:modified xsi:type="dcterms:W3CDTF">2011-09-15T02:39:12Z</dcterms:modified>
  <cp:revision>73</cp:revision>
  <dc:subject/>
  <dc:title>Parachute &amp; Terminal Veloc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