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69B-55B6-44CD-930C-D0965635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83B-9206-4ADE-991E-9A1E4125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C454-3598-482A-B076-6FEF6DB1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778-FA57-448A-9800-3433BB09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639F-A414-407D-8B16-1BD952B6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9538-0880-4BAD-82F8-35E4C288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68DC-BB22-434A-82F6-AC88A0C5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1400-F9CD-4414-98BA-F5E9410E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B136-BF90-4417-B3C0-41F50B88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FD0F-BA9F-4E55-99D4-F0614391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F80B-6BC0-4F17-9CE7-FD46C202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8B4-941B-4335-B3C0-3811C1FC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9016-6844-4378-BBCD-628F0DA2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940E-75F8-4A22-82B1-73C0CBD2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B1F9-AF87-4B4D-B114-1D8B589B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50AC-FE57-42FF-89B0-A1E967DA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622C-3B75-481F-9DC3-0022AB6D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D9576-3876-4585-BCEA-F88C4603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E9119-02B2-4028-B8C7-642BD718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D636E-3665-44D1-B3B4-83258313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3A9C2-AA68-4159-8529-91024197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418D0-B6C5-4FB6-B70E-7B674DC1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B03-474C-42CF-B8A2-89693509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3C43A-53E3-4C3C-AD56-8D97C432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123A2-DD23-45BB-B215-1C4204A4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E4790-EE76-47B0-9FE3-63B42C3B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542C7-4783-4959-9F95-8A0CE832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E0809-2A91-4C8F-AB8C-37896D43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01BED-F684-4D57-BF71-213F22B3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2338F-66F0-4054-8E21-050ED9C6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5EC34-C810-4AD2-B3D8-8313533E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BF712-0F02-4D3D-87DC-F0B6E4C9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EE690-45D0-4A69-9D9F-BA652690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F30-D7D0-4011-BFE1-656C6FDD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BAC02-D8C8-4E64-9983-922D8C8C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B6928-E94B-47CA-B5CF-7C8FFFA8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81648-6490-4C40-9D51-1EAEC17C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16EE1-BBEC-403A-8C22-83149315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2D7EB-11C8-4992-BEA9-D9A03708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C6B9E-777F-4E60-AC93-B6748ED3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BCDAB-CF85-4C2F-A409-C437CB1C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9C3A4-737C-49F2-AA72-A80291DF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565B3-750E-4ACF-9DB6-18DBA867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C9D4D-60AC-4B5E-98AC-3EE112E5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3C9-3624-4114-88DA-7D9CB193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DD92F-6FFF-4798-AA8D-DEB79D7F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73F75-E76E-402A-AFB0-0762683F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32798-3FF7-42D2-B2BB-701FD815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13251-5997-4220-8CF5-6FDC9A4F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51D8F-3131-49D6-8A59-72FA1827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8C9FA-5020-479F-9C2B-411A6022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166D4-1777-450F-9995-A4635B33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8520F-6D82-4C84-A339-2D0BA038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0D844-FE9F-475F-BD1B-D41E2DE9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F6CE4-3351-4296-938B-B5C09939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7D9-72AB-404B-9915-060C6C8C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6836A-95C7-4018-82BE-FF3A1665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4988C-E434-4851-816D-0CD9A537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12957-350C-406A-8D31-670E0002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B4626-77DA-4CB0-ABDE-27E31F01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11154-4CAF-49E2-996D-9F951DB0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33CA3-3129-4DDE-8DBB-C0D22502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F66E5-81E3-478A-B0B6-F7C4F917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FA479-D7C4-4FE0-A81C-B27C10F4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B086E-BE9F-429F-BE36-4B84AAA2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55438-7838-40CE-85BC-7688EF3D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D180-C6B5-4260-AB9C-937B77B5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367F0-E3D4-41EA-BE9D-E8A9BD0F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28382-096D-4998-BF9E-7FDBD6E4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14BB5-6523-4914-B529-7D06D0E6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A69-2B28-4C97-ABD5-EA63A210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3E0-8BDB-4015-8BDC-B5814454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94C8-4D01-43AF-8351-ABB0D10441A9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0973-8056-45BA-8BD7-198F90704189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2A8C-30C0-4B6B-B5DA-69C1ECA90C1B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13BA-78C2-4197-B8EE-6F1A73EC4B4C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7844-3166-4ABC-BEF3-6C86922B6E87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C556-1AE2-4BE6-8CFC-73E6992AD3B5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F246-D236-4D84-9D5B-36F7A8DD4EC7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AE76-25A2-4769-8305-4AF85F0B401A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C242-4F0A-4219-B2FB-A1F8D2CFD4E8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5C11-4A1C-4879-86FF-6D35669D3F79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7009920" y="568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CAE9-3C04-4AD6-8FB3-501A2D9DB630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79246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2598120" y="608904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85C2-908B-47A5-A7DB-801F6D898318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PFY p.96, Model Answer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2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When we use a long spanner we increase the perpendicular distance from the force to the pivo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To undo the nut the moment will be the same whatever length spanner we us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So with a long spanner, the mechanic can use less forc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AC99-3F7B-49DE-9840-C04C00C95971}" type="datetime">
              <a:rPr b="0" lang="en-GB" sz="1400" spc="-1" strike="noStrike">
                <a:solidFill>
                  <a:srgbClr val="696464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6"/>
          <p:cNvSpPr/>
          <p:nvPr/>
        </p:nvSpPr>
        <p:spPr>
          <a:xfrm>
            <a:off x="79246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Arial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PFY p.96, Model Answer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2b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If the door handle is placed well away from the hinge, the perpendicular distance from the force to the pivot is larg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To open the door, the moment will be the same wherever the handle i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So if the handle is far away from the hinge, we can use less force to open the doo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11EB-668A-476E-8F02-28C147A83C5A}" type="datetime">
              <a:rPr b="0" lang="en-GB" sz="1400" spc="-1" strike="noStrike">
                <a:solidFill>
                  <a:srgbClr val="696464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6"/>
          <p:cNvSpPr/>
          <p:nvPr/>
        </p:nvSpPr>
        <p:spPr>
          <a:xfrm>
            <a:off x="7924680" y="6400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Arial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PFY p.96, Model Answer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Formula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Moment = F  x d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ubstitutio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Moment = 200N x 0.2m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swer+Units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 u="sng">
                <a:solidFill>
                  <a:srgbClr val="9b2d1f"/>
                </a:solidFill>
                <a:uFillTx/>
                <a:latin typeface="Perpetua"/>
              </a:rPr>
              <a:t>Moment = 40Nm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0F39-FA7E-4C34-BEC4-2A1BF48E408B}" type="datetime">
              <a:rPr b="0" lang="en-GB" sz="1400" spc="-1" strike="noStrike">
                <a:solidFill>
                  <a:srgbClr val="696464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oter Placeholder 6"/>
          <p:cNvSpPr/>
          <p:nvPr/>
        </p:nvSpPr>
        <p:spPr>
          <a:xfrm>
            <a:off x="7924680" y="6400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Arial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05:37Z</dcterms:created>
  <dc:creator>tempusers</dc:creator>
  <dc:description/>
  <dc:language>en-US</dc:language>
  <cp:lastModifiedBy>Matt Baker</cp:lastModifiedBy>
  <dcterms:modified xsi:type="dcterms:W3CDTF">2011-10-31T04:56:06Z</dcterms:modified>
  <cp:revision>41</cp:revision>
  <dc:subject/>
  <dc:title>4C Work and Power</dc:title>
</cp:coreProperties>
</file>