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7B7-5C4B-449C-9EF1-F5AD6C29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3EF-3CDA-435B-961A-660B20B7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CC9-8DD7-487A-889E-537BAD83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3F8-8FD8-41B1-941B-86843A3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BD13-4D41-47E9-A5C6-AEF7A6BB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BA26-AFF2-40AC-BCDA-A1B2AFC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CE84-536D-4FC9-A466-2964FF8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9B2E-E5D5-4B02-BABD-25E8F440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EDF4-6B33-4E4D-AC7D-D11E1EE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DC44-48D1-4353-81C6-617A55A7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0673-43C6-4031-8B8B-48AE9C3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0C1-8538-45F8-96F2-BB5CB75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802-33D4-4867-AEE8-85AF3FC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4689-3082-4CE1-882F-C9047A9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7C66-061E-445D-BA10-9CA5478C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B69F-6B0C-4E26-90E0-45E33825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62B1-3CCE-4BBE-8755-96E1AC5F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2543-745B-48F8-95DA-D51142A5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BF2CA-6160-49D8-8D14-70014C98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24B2-4AD0-4C8C-9BEA-0EC236CD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CBDEA-1267-4C31-AD47-EE53B08E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116D-7156-4FFF-8445-F0157DB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758-EB4B-4893-A0A0-7C1F6795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434F-E4BC-49D4-BA82-9F98DFA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7A1D-0D51-4CEA-AC62-CC8A924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605C8-5450-42DF-B77C-5616F98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B6B5-0BED-41A8-A037-83E33C42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226E-78EA-4881-8D25-8BE6429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3F0E-382C-4321-B46D-054D00FD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5F7F3-3ACC-444D-9849-B6310892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10C8E-3096-47A7-90D6-A9453005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1A7F0-7921-460B-A53C-0E67A987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381AD-0923-48ED-A0F0-3069F345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C08-7311-4EB4-97B9-EB7E5E84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76CA7-C10C-46F2-8BE1-FFE8E16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916E-8645-4D23-9C28-EC30DEA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CEE09-0C55-4549-89C7-91D94FAD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786B-4CAA-4FDC-B454-B0C4B6DB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9D8D-ABE8-46DC-B515-6D20904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5F81-DFC6-4917-B735-E1ABA9BB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1D27E-F386-4ECB-9268-FC9FF422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934BF-24DC-47CB-BA0A-46E97AB7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10B6-05FF-45AD-AB5F-D058FB95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57348-C014-417F-A45E-5FBEBD11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98A-5CD6-4E45-96C8-9534AE2C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AE41B-380C-45E1-A292-10D82F8F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A1C6-EFDC-4ADA-9703-0FE35E52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5F31F-8D1D-4793-A7E1-B83DF0F7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9D1F-5585-43F4-A69E-5F4A7F6D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6C4C7-85C0-4844-9B25-B8C905B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A830-0418-4350-8041-8595403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81DD-8454-4E80-B322-02024E7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45262-E745-4FE8-84D5-97DD337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61F60-107E-4B0F-96C0-A38CBA83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2A919-920E-49BD-9779-7792015F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2A9C-2082-443D-BEA7-C672D610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7955B-1F21-4BE4-AFE3-852E900E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790B0-C1F8-4A02-87F3-7E1ED36D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EB6C-D55C-47DB-BFE7-D23B3218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283A7-CB74-4E17-BCAA-831CE20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3A44-6421-4180-958D-57F1827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A7BA8-943F-452A-B822-DA1B5008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7465-4A4D-4F6A-BB5E-A832EE5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196B3-0102-40C3-8664-87928B71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A4180-4EFA-4C6D-9C74-37963B4D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DA60-EB92-49EE-9398-4DFBE84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CA3-F063-4C07-8483-82227E9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A58A-3B38-4F21-88BB-28D197F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90D4-008F-4B76-8128-C92EC2E4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B5FD-C4C5-4D3F-A536-9F5A25F3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95AB-A322-4428-90EB-5A0D3CB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CB4-7B0E-4F1A-A6EB-E735882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02B6-2404-43C1-838C-82A7D5D308C2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7424-A3A4-4ED2-87FB-8EF1F7A4A041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698-C385-4234-99FB-8BB595DCC2F3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37DD-3899-4436-B83A-0F1A3B321518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BCCA-880C-4729-A9AF-FFADD61C6F86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132C-4F55-4555-B076-CF5CC5F9839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F3BC-E6DC-4BBD-91ED-8134D2D78029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C08F-6B35-4389-95F0-485D3C57B9F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7CF-2EFE-498D-9C81-D99DD4E5BCA9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4AC-ECEC-4757-8779-FD0C289733BC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22C3-C989-462E-B5ED-1147A9E2F86E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9333-3E06-451E-9AEB-2F724648ADF6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When we use a long spanner we increase the perpendicular distance from the force to the pivo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undo the nut the moment will be the same whatever length spanner we 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with a long spanner, the mechanic can use less for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65A-547A-4C3C-9A5A-607960FB0B59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79246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If the door handle is placed well away from the hinge, the perpendicular distance from the force to the pivot is lar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open the door, the moment will be the same wherever the handle 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if the handle is far away from the hinge, we can use less force to open the do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B7A7-FF69-429F-82B9-E2828EE21721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Moment = 200N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Moment = 40N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C99-AA16-47FD-AB52-DAEC9D09164B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4:56:06Z</dcterms:modified>
  <cp:revision>41</cp:revision>
  <dc:subject/>
  <dc:title>4C Work and Power</dc:title>
</cp:coreProperties>
</file>