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14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-9360" y="6611760"/>
            <a:ext cx="914544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2">
            <a:hlinkClick r:id="" action="ppaction://hlinkshowjump?jump=nextslide"/>
          </p:cNvPr>
          <p:cNvSpPr/>
          <p:nvPr/>
        </p:nvSpPr>
        <p:spPr>
          <a:xfrm>
            <a:off x="855036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3">
            <a:hlinkClick r:id="" action="ppaction://hlinkshowjump?jump=previousslide"/>
          </p:cNvPr>
          <p:cNvSpPr/>
          <p:nvPr/>
        </p:nvSpPr>
        <p:spPr>
          <a:xfrm rot="10801200">
            <a:off x="16812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7023240" y="662796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Boardworks Ltd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5" descr="boardworks_logo"/>
          <p:cNvPicPr/>
          <p:nvPr/>
        </p:nvPicPr>
        <p:blipFill>
          <a:blip r:embed="rId2"/>
          <a:srcRect l="4903" t="7433" r="6936" b="10843"/>
          <a:stretch/>
        </p:blipFill>
        <p:spPr>
          <a:xfrm>
            <a:off x="7924680" y="0"/>
            <a:ext cx="1219320" cy="74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ypes of force you need to know……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676520" y="1447920"/>
            <a:ext cx="1752480" cy="45972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008600" y="1052640"/>
            <a:ext cx="4653720" cy="45972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ight or Gravitational At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781920" y="2508120"/>
            <a:ext cx="1671120" cy="45972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gne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4203360" y="2203560"/>
            <a:ext cx="2026440" cy="45972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437280" y="3505320"/>
            <a:ext cx="1262880" cy="45972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3513960" y="5334120"/>
            <a:ext cx="1974600" cy="45972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5978880" y="3956040"/>
            <a:ext cx="1840320" cy="45972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ctro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513360" y="4565520"/>
            <a:ext cx="2416320" cy="45972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Strong) Nu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7692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scribing the forc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09480" y="1447920"/>
            <a:ext cx="335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09480" y="1600200"/>
            <a:ext cx="36576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net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952880" y="1523880"/>
            <a:ext cx="3657600" cy="46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orce you get when two materials rub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orce you get when a material is being stre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orce you get when a material is being squa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orce that enables compasses to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>
            <a:off x="3505320" y="2133720"/>
            <a:ext cx="1371600" cy="358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"/>
          <p:cNvSpPr/>
          <p:nvPr/>
        </p:nvSpPr>
        <p:spPr>
          <a:xfrm flipV="1">
            <a:off x="3429000" y="1905120"/>
            <a:ext cx="12193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1"/>
          <p:cNvSpPr/>
          <p:nvPr/>
        </p:nvSpPr>
        <p:spPr>
          <a:xfrm flipV="1">
            <a:off x="3429000" y="3276360"/>
            <a:ext cx="1295280" cy="243828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3434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scribing the forc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-36360" y="1116000"/>
            <a:ext cx="365760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ight or Gravitational At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Strong) Nu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ro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724280" y="1295280"/>
            <a:ext cx="38862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orce that holds the particles in a nucleus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orce you get when an object moves through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orce that exists between all objects with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orce you get between two charged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6"/>
          <p:cNvSpPr/>
          <p:nvPr/>
        </p:nvSpPr>
        <p:spPr>
          <a:xfrm>
            <a:off x="2843280" y="1773360"/>
            <a:ext cx="1957320" cy="234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7"/>
          <p:cNvSpPr/>
          <p:nvPr/>
        </p:nvSpPr>
        <p:spPr>
          <a:xfrm flipV="1">
            <a:off x="3124080" y="1676520"/>
            <a:ext cx="1676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8"/>
          <p:cNvSpPr/>
          <p:nvPr/>
        </p:nvSpPr>
        <p:spPr>
          <a:xfrm flipV="1">
            <a:off x="2987640" y="2971800"/>
            <a:ext cx="1965240" cy="1249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9"/>
          <p:cNvSpPr/>
          <p:nvPr/>
        </p:nvSpPr>
        <p:spPr>
          <a:xfrm flipV="1">
            <a:off x="2987640" y="5409720"/>
            <a:ext cx="1889280" cy="3492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0292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active or repulsive?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62120" y="1371600"/>
            <a:ext cx="33526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av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gnetis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rostat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5029200" y="144792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ractive, al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869000" y="327024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ractive and repul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4944960" y="517536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ractive and repul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33412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act and non-contac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85800" y="990720"/>
            <a:ext cx="73915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wo objects or materials need to be touching for the force to have an effect then it is a C________ fo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wo objects or materials do not need to be t______ for the force to have an effect then it is a NON CONTACT fo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467320" y="1352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6785640" y="2971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ou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2704320" y="19051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F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694960" y="23623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ir</a:t>
            </a:r>
            <a:r>
              <a:rPr b="0" lang="en-GB" sz="2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2667960" y="42670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2659680" y="472428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lectro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2696760" y="518148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Mag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4903560" y="210348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Pushes and Pu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18:52:53Z</dcterms:created>
  <dc:creator>Boardworks Ltd</dc:creator>
  <dc:description/>
  <dc:language>en-US</dc:language>
  <cp:lastModifiedBy>maba</cp:lastModifiedBy>
  <cp:lastPrinted>2000-07-24T15:04:59Z</cp:lastPrinted>
  <dcterms:modified xsi:type="dcterms:W3CDTF">2010-09-08T04:46:22Z</dcterms:modified>
  <cp:revision>176</cp:revision>
  <dc:subject/>
  <dc:title>No Slide Title</dc:title>
</cp:coreProperties>
</file>