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camera.wav" ContentType="audio/x-wav"/>
  <Override PartName="/ppt/media/type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1014E-A688-41ED-BA8B-97391E5AFCB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: if the animation speed looks wrong on your computer, click on Slide Show-&gt;Custom Animation, then change the automatic timing for Group 17 onwa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0D57-8CF6-4374-8267-1C4D75140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5625-560D-421F-BBC4-1FE319157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F08D-3F83-436A-ABB5-F7BF2662C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2919-DB29-43BA-A4F0-53CD55036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A659-D160-426B-A067-E26FDBC3C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ADE8-831B-40F0-932A-101E736D8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C24E-85A0-4EAE-B960-01563FEA4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B094-561F-4010-8CCC-DFF5AB523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37A1-241F-41F8-BC29-AD8C5E47D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9848-B71D-4AD8-8C2D-42B2D63C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5910-03F7-454B-AF29-8B3C2B29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CFB4-EC7B-432D-9F8C-53FB9A55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23549-F02C-49F8-93C4-F8E3051E2B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589960" y="3262320"/>
            <a:ext cx="554040" cy="35956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631360" y="6093000"/>
            <a:ext cx="512640" cy="76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4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4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4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4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4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3.png"/><Relationship Id="rId33" Type="http://schemas.openxmlformats.org/officeDocument/2006/relationships/image" Target="../media/image3.png"/><Relationship Id="rId34" Type="http://schemas.openxmlformats.org/officeDocument/2006/relationships/image" Target="../media/image4.png"/><Relationship Id="rId35" Type="http://schemas.openxmlformats.org/officeDocument/2006/relationships/image" Target="../media/image3.png"/><Relationship Id="rId36" Type="http://schemas.openxmlformats.org/officeDocument/2006/relationships/image" Target="../media/image3.png"/><Relationship Id="rId37" Type="http://schemas.openxmlformats.org/officeDocument/2006/relationships/image" Target="../media/image4.png"/><Relationship Id="rId38" Type="http://schemas.openxmlformats.org/officeDocument/2006/relationships/image" Target="../media/image3.png"/><Relationship Id="rId39" Type="http://schemas.openxmlformats.org/officeDocument/2006/relationships/image" Target="../media/image3.png"/><Relationship Id="rId40" Type="http://schemas.openxmlformats.org/officeDocument/2006/relationships/image" Target="../media/image4.png"/><Relationship Id="rId41" Type="http://schemas.openxmlformats.org/officeDocument/2006/relationships/image" Target="../media/image3.png"/><Relationship Id="rId42" Type="http://schemas.openxmlformats.org/officeDocument/2006/relationships/image" Target="../media/image3.png"/><Relationship Id="rId43" Type="http://schemas.openxmlformats.org/officeDocument/2006/relationships/image" Target="../media/image4.png"/><Relationship Id="rId44" Type="http://schemas.openxmlformats.org/officeDocument/2006/relationships/image" Target="../media/image3.png"/><Relationship Id="rId45" Type="http://schemas.openxmlformats.org/officeDocument/2006/relationships/image" Target="../media/image3.png"/><Relationship Id="rId46" Type="http://schemas.openxmlformats.org/officeDocument/2006/relationships/image" Target="../media/image4.png"/><Relationship Id="rId47" Type="http://schemas.openxmlformats.org/officeDocument/2006/relationships/image" Target="../media/image3.png"/><Relationship Id="rId48" Type="http://schemas.openxmlformats.org/officeDocument/2006/relationships/image" Target="../media/image3.png"/><Relationship Id="rId49" Type="http://schemas.openxmlformats.org/officeDocument/2006/relationships/image" Target="../media/image4.png"/><Relationship Id="rId50" Type="http://schemas.openxmlformats.org/officeDocument/2006/relationships/image" Target="../media/image3.png"/><Relationship Id="rId51" Type="http://schemas.openxmlformats.org/officeDocument/2006/relationships/image" Target="../media/image3.png"/><Relationship Id="rId52" Type="http://schemas.openxmlformats.org/officeDocument/2006/relationships/image" Target="../media/image4.png"/><Relationship Id="rId53" Type="http://schemas.openxmlformats.org/officeDocument/2006/relationships/image" Target="../media/image3.png"/><Relationship Id="rId54" Type="http://schemas.openxmlformats.org/officeDocument/2006/relationships/image" Target="../media/image3.png"/><Relationship Id="rId55" Type="http://schemas.openxmlformats.org/officeDocument/2006/relationships/image" Target="../media/image4.png"/><Relationship Id="rId56" Type="http://schemas.openxmlformats.org/officeDocument/2006/relationships/image" Target="../media/image3.png"/><Relationship Id="rId57" Type="http://schemas.openxmlformats.org/officeDocument/2006/relationships/image" Target="../media/image3.png"/><Relationship Id="rId58" Type="http://schemas.openxmlformats.org/officeDocument/2006/relationships/slideLayout" Target="../slideLayouts/slideLayout1.xml"/><Relationship Id="rId5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295280" y="106668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Verdana"/>
              </a:rPr>
              <a:t>Balanced fo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95280" y="297180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1.   A book on a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295280" y="106668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Resultant fo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95280" y="2971800"/>
            <a:ext cx="632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6720" indent="-66672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Verdana"/>
              </a:rPr>
              <a:t>A car travelling down the ro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3733920" cy="172404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685800" y="3049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ar is travelling along the road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066680" y="2590920"/>
            <a:ext cx="8077320" cy="380880"/>
          </a:xfrm>
          <a:prstGeom prst="rect">
            <a:avLst/>
          </a:prstGeom>
          <a:gradFill rotWithShape="0">
            <a:gsLst>
              <a:gs pos="0">
                <a:srgbClr val="b1b1b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971800" y="1828800"/>
            <a:ext cx="0" cy="1828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1962000" y="1695600"/>
            <a:ext cx="2057400" cy="914400"/>
            <a:chOff x="1962000" y="1695600"/>
            <a:chExt cx="2057400" cy="914400"/>
          </a:xfrm>
        </p:grpSpPr>
        <p:sp>
          <p:nvSpPr>
            <p:cNvPr id="344" name=""/>
            <p:cNvSpPr/>
            <p:nvPr/>
          </p:nvSpPr>
          <p:spPr>
            <a:xfrm flipV="1">
              <a:off x="1962000" y="1695600"/>
              <a:ext cx="0" cy="914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4019400" y="1695600"/>
              <a:ext cx="0" cy="914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4248000" y="1828800"/>
            <a:ext cx="222912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914040" y="1828800"/>
            <a:ext cx="85716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066680" y="3809880"/>
            <a:ext cx="685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red forces balanc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e blue ones do n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and explain what happens to the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685800" y="3733920"/>
            <a:ext cx="8153280" cy="2438280"/>
            <a:chOff x="685800" y="3733920"/>
            <a:chExt cx="8153280" cy="2438280"/>
          </a:xfrm>
        </p:grpSpPr>
        <p:sp>
          <p:nvSpPr>
            <p:cNvPr id="350" name=""/>
            <p:cNvSpPr/>
            <p:nvPr/>
          </p:nvSpPr>
          <p:spPr>
            <a:xfrm>
              <a:off x="685800" y="3733920"/>
              <a:ext cx="7924680" cy="2438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38080" y="3809880"/>
              <a:ext cx="800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Verticall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838080" y="4229280"/>
            <a:ext cx="8077320" cy="18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forces balance.  The car does not move up or d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orizontal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ere is 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resultant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force, to the right.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e car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ccelerates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553080" y="5410080"/>
            <a:ext cx="1224000" cy="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4200"/>
                            </p:stCondLst>
                            <p:childTnLst>
                              <p:par>
                                <p:cTn id="298" nodeType="after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2286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re is a book on a t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10080" y="91440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e table exerts a reaction force of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0 N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762120" y="4038480"/>
            <a:ext cx="3886200" cy="2057400"/>
            <a:chOff x="762120" y="4038480"/>
            <a:chExt cx="3886200" cy="2057400"/>
          </a:xfrm>
        </p:grpSpPr>
        <p:sp>
          <p:nvSpPr>
            <p:cNvPr id="55" name=""/>
            <p:cNvSpPr/>
            <p:nvPr/>
          </p:nvSpPr>
          <p:spPr>
            <a:xfrm>
              <a:off x="762120" y="4038480"/>
              <a:ext cx="3809880" cy="2057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4114800"/>
              <a:ext cx="381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2 forces are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qual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219480" y="3295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19480" y="9144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0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379520" y="2057400"/>
            <a:ext cx="3382200" cy="371520"/>
            <a:chOff x="1379520" y="2057400"/>
            <a:chExt cx="3382200" cy="371520"/>
          </a:xfrm>
        </p:grpSpPr>
        <p:sp>
          <p:nvSpPr>
            <p:cNvPr id="60" name=""/>
            <p:cNvSpPr/>
            <p:nvPr/>
          </p:nvSpPr>
          <p:spPr>
            <a:xfrm>
              <a:off x="1520640" y="2066760"/>
              <a:ext cx="3203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520640" y="2428920"/>
              <a:ext cx="3203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1379520" y="2057400"/>
              <a:ext cx="277200" cy="36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0878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087830"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520640" y="2095560"/>
              <a:ext cx="3124080" cy="312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4615560" y="2058840"/>
              <a:ext cx="145800" cy="360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0878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08783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 flipV="1">
            <a:off x="3048120" y="971640"/>
            <a:ext cx="0" cy="13716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762120" y="2502000"/>
            <a:ext cx="4678200" cy="355680"/>
            <a:chOff x="762120" y="2502000"/>
            <a:chExt cx="4678200" cy="355680"/>
          </a:xfrm>
        </p:grpSpPr>
        <p:sp>
          <p:nvSpPr>
            <p:cNvPr id="67" name=""/>
            <p:cNvSpPr/>
            <p:nvPr/>
          </p:nvSpPr>
          <p:spPr>
            <a:xfrm>
              <a:off x="762120" y="2552760"/>
              <a:ext cx="4678200" cy="304920"/>
            </a:xfrm>
            <a:prstGeom prst="rect">
              <a:avLst/>
            </a:prstGeom>
            <a:gradFill rotWithShape="0">
              <a:gsLst>
                <a:gs pos="0">
                  <a:srgbClr val="b9afa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62120" y="2502000"/>
              <a:ext cx="4678200" cy="0"/>
            </a:xfrm>
            <a:prstGeom prst="line">
              <a:avLst/>
            </a:prstGeom>
            <a:ln w="114480">
              <a:solidFill>
                <a:srgbClr val="b9af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5486400" y="297180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ravity pulls the book d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8120" y="2286000"/>
            <a:ext cx="0" cy="1371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86400" y="3886200"/>
            <a:ext cx="2819520" cy="16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force is calle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ight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is book weigh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 N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4629240"/>
            <a:ext cx="3733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lanc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rces cancel out.  The book do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295280" y="106668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Verdana"/>
              </a:rPr>
              <a:t>Balanced fo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95280" y="297180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2.   A book with fri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541680" y="1143000"/>
            <a:ext cx="611280" cy="13716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85800" y="2286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re is another book on a t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9144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e finger is pushing with a force of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2 N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4267080" y="3429000"/>
            <a:ext cx="3886200" cy="2057400"/>
            <a:chOff x="4267080" y="3429000"/>
            <a:chExt cx="3886200" cy="2057400"/>
          </a:xfrm>
        </p:grpSpPr>
        <p:sp>
          <p:nvSpPr>
            <p:cNvPr id="79" name=""/>
            <p:cNvSpPr/>
            <p:nvPr/>
          </p:nvSpPr>
          <p:spPr>
            <a:xfrm>
              <a:off x="4267080" y="3429000"/>
              <a:ext cx="3809880" cy="2057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3040" y="3505320"/>
              <a:ext cx="381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2 forces are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qual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1943280" y="23623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952880" y="1676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2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016160" y="2171880"/>
            <a:ext cx="2410560" cy="371160"/>
            <a:chOff x="4016160" y="2171880"/>
            <a:chExt cx="2410560" cy="371160"/>
          </a:xfrm>
        </p:grpSpPr>
        <p:sp>
          <p:nvSpPr>
            <p:cNvPr id="84" name=""/>
            <p:cNvSpPr/>
            <p:nvPr/>
          </p:nvSpPr>
          <p:spPr>
            <a:xfrm>
              <a:off x="4116960" y="2180880"/>
              <a:ext cx="2283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116960" y="2543040"/>
              <a:ext cx="2283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4015800" y="2171880"/>
              <a:ext cx="196920" cy="359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0878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087830"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16960" y="2209680"/>
              <a:ext cx="2226960" cy="3121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6323760" y="2172960"/>
              <a:ext cx="102960" cy="359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0878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08783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4038480" y="2362320"/>
            <a:ext cx="1474920" cy="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941560" y="2616120"/>
            <a:ext cx="4678200" cy="355680"/>
            <a:chOff x="2941560" y="2616120"/>
            <a:chExt cx="4678200" cy="355680"/>
          </a:xfrm>
        </p:grpSpPr>
        <p:sp>
          <p:nvSpPr>
            <p:cNvPr id="91" name=""/>
            <p:cNvSpPr/>
            <p:nvPr/>
          </p:nvSpPr>
          <p:spPr>
            <a:xfrm>
              <a:off x="2941560" y="2666880"/>
              <a:ext cx="4678200" cy="304920"/>
            </a:xfrm>
            <a:prstGeom prst="rect">
              <a:avLst/>
            </a:prstGeom>
            <a:gradFill rotWithShape="0">
              <a:gsLst>
                <a:gs pos="0">
                  <a:srgbClr val="b9afa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941560" y="2616120"/>
              <a:ext cx="4678200" cy="0"/>
            </a:xfrm>
            <a:prstGeom prst="line">
              <a:avLst/>
            </a:prstGeom>
            <a:ln w="114480">
              <a:solidFill>
                <a:srgbClr val="b9af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838080" y="320040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re is a friction force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629080" y="2514600"/>
            <a:ext cx="14745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43400" y="4019400"/>
            <a:ext cx="3733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lanc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rces cancel out.  The book do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40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300"/>
                            </p:stCondLst>
                            <p:childTnLst>
                              <p:par>
                                <p:cTn id="64" nodeType="after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400"/>
                            </p:stCondLst>
                            <p:childTnLst>
                              <p:par>
                                <p:cTn id="84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295280" y="106668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Verdana"/>
              </a:rPr>
              <a:t>Balanced fo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274320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57160" indent="-666720"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A car travelling down the ro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685800" y="4191120"/>
            <a:ext cx="6629400" cy="1218960"/>
            <a:chOff x="685800" y="4191120"/>
            <a:chExt cx="6629400" cy="1218960"/>
          </a:xfrm>
        </p:grpSpPr>
        <p:sp>
          <p:nvSpPr>
            <p:cNvPr id="100" name=""/>
            <p:cNvSpPr/>
            <p:nvPr/>
          </p:nvSpPr>
          <p:spPr>
            <a:xfrm>
              <a:off x="685800" y="4191120"/>
              <a:ext cx="6629400" cy="1218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62120" y="4286160"/>
              <a:ext cx="65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cc"/>
                  </a:solidFill>
                  <a:latin typeface="Arial"/>
                </a:rPr>
                <a:t>The forces are </a:t>
              </a:r>
              <a:r>
                <a:rPr b="1" lang="en-US" sz="2400" spc="-1" strike="noStrike">
                  <a:solidFill>
                    <a:srgbClr val="9900cc"/>
                  </a:solidFill>
                  <a:latin typeface="Arial"/>
                </a:rPr>
                <a:t>balanced</a:t>
              </a:r>
              <a:r>
                <a:rPr b="0" lang="en-US" sz="2400" spc="-1" strike="noStrike">
                  <a:solidFill>
                    <a:srgbClr val="9900cc"/>
                  </a:solidFill>
                  <a:latin typeface="Arial"/>
                </a:rPr>
                <a:t>  (no resultant force)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3733920" cy="17240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85800" y="3049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ar is travelling along the road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2590920"/>
            <a:ext cx="8077320" cy="380880"/>
          </a:xfrm>
          <a:prstGeom prst="rect">
            <a:avLst/>
          </a:prstGeom>
          <a:gradFill rotWithShape="0">
            <a:gsLst>
              <a:gs pos="0">
                <a:srgbClr val="b1b1b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172200" y="45720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weight of the car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9880" y="30481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e forward push of the engin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71800" y="1828800"/>
            <a:ext cx="0" cy="1828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962000" y="1695600"/>
            <a:ext cx="2057400" cy="914400"/>
            <a:chOff x="1962000" y="1695600"/>
            <a:chExt cx="2057400" cy="914400"/>
          </a:xfrm>
        </p:grpSpPr>
        <p:sp>
          <p:nvSpPr>
            <p:cNvPr id="109" name=""/>
            <p:cNvSpPr/>
            <p:nvPr/>
          </p:nvSpPr>
          <p:spPr>
            <a:xfrm flipV="1">
              <a:off x="1962000" y="1695600"/>
              <a:ext cx="0" cy="914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4019400" y="1695600"/>
              <a:ext cx="0" cy="914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4248000" y="1828800"/>
            <a:ext cx="161928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52280" y="1828800"/>
            <a:ext cx="161928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6200" y="35053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s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balanced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by the friction for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91280" y="137160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alanced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by the reaction forces from the gr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81200" y="483876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o the car moves at a </a:t>
            </a: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constant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sp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3733920" cy="17240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85800" y="3049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ar is travelling along the road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2590920"/>
            <a:ext cx="8077320" cy="380880"/>
          </a:xfrm>
          <a:prstGeom prst="rect">
            <a:avLst/>
          </a:prstGeom>
          <a:gradFill rotWithShape="0">
            <a:gsLst>
              <a:gs pos="0">
                <a:srgbClr val="b1b1b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71800" y="1828800"/>
            <a:ext cx="0" cy="1828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962000" y="1695600"/>
            <a:ext cx="2057400" cy="914400"/>
            <a:chOff x="1962000" y="1695600"/>
            <a:chExt cx="2057400" cy="914400"/>
          </a:xfrm>
        </p:grpSpPr>
        <p:sp>
          <p:nvSpPr>
            <p:cNvPr id="121" name=""/>
            <p:cNvSpPr/>
            <p:nvPr/>
          </p:nvSpPr>
          <p:spPr>
            <a:xfrm flipV="1">
              <a:off x="1962000" y="1695600"/>
              <a:ext cx="0" cy="914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4019400" y="1695600"/>
              <a:ext cx="0" cy="914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4248000" y="1828800"/>
            <a:ext cx="161928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152280" y="1828800"/>
            <a:ext cx="161928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609480" y="3733920"/>
            <a:ext cx="8153640" cy="2514600"/>
            <a:chOff x="609480" y="3733920"/>
            <a:chExt cx="8153640" cy="2514600"/>
          </a:xfrm>
        </p:grpSpPr>
        <p:sp>
          <p:nvSpPr>
            <p:cNvPr id="126" name=""/>
            <p:cNvSpPr/>
            <p:nvPr/>
          </p:nvSpPr>
          <p:spPr>
            <a:xfrm>
              <a:off x="609480" y="3733920"/>
              <a:ext cx="8153640" cy="2514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38080" y="3809880"/>
              <a:ext cx="358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ewton’s 1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st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Law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838080" y="4343400"/>
            <a:ext cx="792504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forces a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lanc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no resultant force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f it is at rest, it stays at r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f it is moving, it keeps on moving at a constant speed in a straight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295280" y="106668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Resultant fo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95280" y="29718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Verdana"/>
              </a:rPr>
              <a:t>1.   A book sliding on a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1582560" y="1539720"/>
            <a:ext cx="3066120" cy="1187280"/>
            <a:chOff x="1582560" y="1539720"/>
            <a:chExt cx="3066120" cy="1187280"/>
          </a:xfrm>
        </p:grpSpPr>
        <p:sp>
          <p:nvSpPr>
            <p:cNvPr id="132" name=""/>
            <p:cNvSpPr/>
            <p:nvPr/>
          </p:nvSpPr>
          <p:spPr>
            <a:xfrm>
              <a:off x="1582560" y="1616040"/>
              <a:ext cx="1447920" cy="11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3" name="" descr=""/>
            <p:cNvPicPr/>
            <p:nvPr/>
          </p:nvPicPr>
          <p:blipFill>
            <a:blip r:embed="rId1"/>
            <a:stretch/>
          </p:blipFill>
          <p:spPr>
            <a:xfrm>
              <a:off x="2573280" y="1539720"/>
              <a:ext cx="488880" cy="110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4" name=""/>
            <p:cNvGrpSpPr/>
            <p:nvPr/>
          </p:nvGrpSpPr>
          <p:grpSpPr>
            <a:xfrm>
              <a:off x="2962080" y="2340000"/>
              <a:ext cx="1686600" cy="371160"/>
              <a:chOff x="2962080" y="2340000"/>
              <a:chExt cx="1686600" cy="371160"/>
            </a:xfrm>
          </p:grpSpPr>
          <p:sp>
            <p:nvSpPr>
              <p:cNvPr id="135" name=""/>
              <p:cNvSpPr/>
              <p:nvPr/>
            </p:nvSpPr>
            <p:spPr>
              <a:xfrm>
                <a:off x="3032280" y="234900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032280" y="271116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2962080" y="2340000"/>
                <a:ext cx="13752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032280" y="2377800"/>
                <a:ext cx="1558440" cy="31212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4576680" y="2341080"/>
                <a:ext cx="7200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0" name=""/>
          <p:cNvGrpSpPr/>
          <p:nvPr/>
        </p:nvGrpSpPr>
        <p:grpSpPr>
          <a:xfrm>
            <a:off x="2057400" y="2784600"/>
            <a:ext cx="7086240" cy="354960"/>
            <a:chOff x="2057400" y="2784600"/>
            <a:chExt cx="7086240" cy="354960"/>
          </a:xfrm>
        </p:grpSpPr>
        <p:sp>
          <p:nvSpPr>
            <p:cNvPr id="141" name=""/>
            <p:cNvSpPr/>
            <p:nvPr/>
          </p:nvSpPr>
          <p:spPr>
            <a:xfrm>
              <a:off x="2057400" y="2835000"/>
              <a:ext cx="7086240" cy="304560"/>
            </a:xfrm>
            <a:prstGeom prst="rect">
              <a:avLst/>
            </a:prstGeom>
            <a:gradFill rotWithShape="0">
              <a:gsLst>
                <a:gs pos="0">
                  <a:srgbClr val="b9afa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57400" y="2784600"/>
              <a:ext cx="7086240" cy="0"/>
            </a:xfrm>
            <a:prstGeom prst="line">
              <a:avLst/>
            </a:prstGeom>
            <a:ln w="114480">
              <a:solidFill>
                <a:srgbClr val="b9af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80880" y="91440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Now the finger is pushing with a force of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4 N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57800" y="1768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4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952720" y="2511360"/>
            <a:ext cx="2951280" cy="0"/>
          </a:xfrm>
          <a:prstGeom prst="line">
            <a:avLst/>
          </a:prstGeom>
          <a:ln w="63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23716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727280" y="2689200"/>
            <a:ext cx="14745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321624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re is a friction force of just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43200" y="6094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o there is a </a:t>
            </a: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Resultant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forc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353360" y="609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1676520"/>
            <a:ext cx="144792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676520" y="1536840"/>
            <a:ext cx="2989800" cy="1186920"/>
            <a:chOff x="1676520" y="1536840"/>
            <a:chExt cx="2989800" cy="1186920"/>
          </a:xfrm>
        </p:grpSpPr>
        <p:sp>
          <p:nvSpPr>
            <p:cNvPr id="153" name=""/>
            <p:cNvSpPr/>
            <p:nvPr/>
          </p:nvSpPr>
          <p:spPr>
            <a:xfrm>
              <a:off x="1676520" y="1612800"/>
              <a:ext cx="1371600" cy="11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4" name="" descr=""/>
            <p:cNvPicPr/>
            <p:nvPr/>
          </p:nvPicPr>
          <p:blipFill>
            <a:blip r:embed="rId4"/>
            <a:stretch/>
          </p:blipFill>
          <p:spPr>
            <a:xfrm>
              <a:off x="2590920" y="1536840"/>
              <a:ext cx="488880" cy="110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5" name=""/>
            <p:cNvGrpSpPr/>
            <p:nvPr/>
          </p:nvGrpSpPr>
          <p:grpSpPr>
            <a:xfrm>
              <a:off x="2979720" y="2336760"/>
              <a:ext cx="1686600" cy="371160"/>
              <a:chOff x="2979720" y="2336760"/>
              <a:chExt cx="1686600" cy="371160"/>
            </a:xfrm>
          </p:grpSpPr>
          <p:sp>
            <p:nvSpPr>
              <p:cNvPr id="156" name=""/>
              <p:cNvSpPr/>
              <p:nvPr/>
            </p:nvSpPr>
            <p:spPr>
              <a:xfrm>
                <a:off x="3049920" y="234576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049920" y="270792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2979720" y="2336760"/>
                <a:ext cx="13752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049920" y="2374560"/>
                <a:ext cx="1558440" cy="31212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>
                <a:off x="4594320" y="2337840"/>
                <a:ext cx="7200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2984760" y="2527200"/>
              <a:ext cx="1474560" cy="0"/>
            </a:xfrm>
            <a:prstGeom prst="line">
              <a:avLst/>
            </a:prstGeom>
            <a:ln w="633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380880" y="914400"/>
            <a:ext cx="213372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3124080"/>
            <a:ext cx="25146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2362320"/>
            <a:ext cx="99072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71800" y="1536840"/>
            <a:ext cx="2989800" cy="1186920"/>
            <a:chOff x="2071800" y="1536840"/>
            <a:chExt cx="2989800" cy="1186920"/>
          </a:xfrm>
        </p:grpSpPr>
        <p:sp>
          <p:nvSpPr>
            <p:cNvPr id="166" name=""/>
            <p:cNvSpPr/>
            <p:nvPr/>
          </p:nvSpPr>
          <p:spPr>
            <a:xfrm>
              <a:off x="2071800" y="1612800"/>
              <a:ext cx="1371600" cy="11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7" name="" descr=""/>
            <p:cNvPicPr/>
            <p:nvPr/>
          </p:nvPicPr>
          <p:blipFill>
            <a:blip r:embed="rId7"/>
            <a:stretch/>
          </p:blipFill>
          <p:spPr>
            <a:xfrm>
              <a:off x="2986200" y="1536840"/>
              <a:ext cx="488880" cy="110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8" name=""/>
            <p:cNvGrpSpPr/>
            <p:nvPr/>
          </p:nvGrpSpPr>
          <p:grpSpPr>
            <a:xfrm>
              <a:off x="3375000" y="2336760"/>
              <a:ext cx="1686600" cy="371160"/>
              <a:chOff x="3375000" y="2336760"/>
              <a:chExt cx="1686600" cy="371160"/>
            </a:xfrm>
          </p:grpSpPr>
          <p:sp>
            <p:nvSpPr>
              <p:cNvPr id="169" name=""/>
              <p:cNvSpPr/>
              <p:nvPr/>
            </p:nvSpPr>
            <p:spPr>
              <a:xfrm>
                <a:off x="3445200" y="234576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445200" y="270792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>
                <a:off x="3375000" y="2336760"/>
                <a:ext cx="13752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445200" y="2374560"/>
                <a:ext cx="1558440" cy="31212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4989600" y="2337840"/>
                <a:ext cx="7200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380040" y="2527200"/>
              <a:ext cx="1474560" cy="0"/>
            </a:xfrm>
            <a:prstGeom prst="line">
              <a:avLst/>
            </a:prstGeom>
            <a:ln w="633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2468520" y="1536840"/>
            <a:ext cx="2989800" cy="1186920"/>
            <a:chOff x="2468520" y="1536840"/>
            <a:chExt cx="2989800" cy="1186920"/>
          </a:xfrm>
        </p:grpSpPr>
        <p:sp>
          <p:nvSpPr>
            <p:cNvPr id="176" name=""/>
            <p:cNvSpPr/>
            <p:nvPr/>
          </p:nvSpPr>
          <p:spPr>
            <a:xfrm>
              <a:off x="2468520" y="1612800"/>
              <a:ext cx="1371600" cy="11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10"/>
            <a:stretch/>
          </p:blipFill>
          <p:spPr>
            <a:xfrm>
              <a:off x="3382920" y="1536840"/>
              <a:ext cx="488880" cy="110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8" name=""/>
            <p:cNvGrpSpPr/>
            <p:nvPr/>
          </p:nvGrpSpPr>
          <p:grpSpPr>
            <a:xfrm>
              <a:off x="3771720" y="2336760"/>
              <a:ext cx="1686600" cy="371160"/>
              <a:chOff x="3771720" y="2336760"/>
              <a:chExt cx="1686600" cy="371160"/>
            </a:xfrm>
          </p:grpSpPr>
          <p:sp>
            <p:nvSpPr>
              <p:cNvPr id="179" name=""/>
              <p:cNvSpPr/>
              <p:nvPr/>
            </p:nvSpPr>
            <p:spPr>
              <a:xfrm>
                <a:off x="3841920" y="234576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841920" y="270792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>
                <a:off x="3771720" y="2336760"/>
                <a:ext cx="13752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blipFill rotWithShape="0">
                <a:blip r:embed="rId11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841920" y="2374560"/>
                <a:ext cx="1558440" cy="312120"/>
              </a:xfrm>
              <a:prstGeom prst="rect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>
                <a:off x="5386320" y="2337840"/>
                <a:ext cx="7200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3776760" y="2527200"/>
              <a:ext cx="1474560" cy="0"/>
            </a:xfrm>
            <a:prstGeom prst="line">
              <a:avLst/>
            </a:prstGeom>
            <a:ln w="633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2865600" y="1536840"/>
            <a:ext cx="2989800" cy="1186920"/>
            <a:chOff x="2865600" y="1536840"/>
            <a:chExt cx="2989800" cy="1186920"/>
          </a:xfrm>
        </p:grpSpPr>
        <p:sp>
          <p:nvSpPr>
            <p:cNvPr id="186" name=""/>
            <p:cNvSpPr/>
            <p:nvPr/>
          </p:nvSpPr>
          <p:spPr>
            <a:xfrm>
              <a:off x="2865600" y="1612800"/>
              <a:ext cx="1371600" cy="11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7" name="" descr=""/>
            <p:cNvPicPr/>
            <p:nvPr/>
          </p:nvPicPr>
          <p:blipFill>
            <a:blip r:embed="rId13"/>
            <a:stretch/>
          </p:blipFill>
          <p:spPr>
            <a:xfrm>
              <a:off x="3780000" y="1536840"/>
              <a:ext cx="488880" cy="110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8" name=""/>
            <p:cNvGrpSpPr/>
            <p:nvPr/>
          </p:nvGrpSpPr>
          <p:grpSpPr>
            <a:xfrm>
              <a:off x="4168800" y="2336760"/>
              <a:ext cx="1686600" cy="371160"/>
              <a:chOff x="4168800" y="2336760"/>
              <a:chExt cx="1686600" cy="371160"/>
            </a:xfrm>
          </p:grpSpPr>
          <p:sp>
            <p:nvSpPr>
              <p:cNvPr id="189" name=""/>
              <p:cNvSpPr/>
              <p:nvPr/>
            </p:nvSpPr>
            <p:spPr>
              <a:xfrm>
                <a:off x="4239000" y="234576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239000" y="270792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>
                <a:off x="4168800" y="2336760"/>
                <a:ext cx="13752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blipFill rotWithShape="0">
                <a:blip r:embed="rId14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239000" y="2374560"/>
                <a:ext cx="1558440" cy="312120"/>
              </a:xfrm>
              <a:prstGeom prst="rect">
                <a:avLst/>
              </a:prstGeom>
              <a:blipFill rotWithShape="0">
                <a:blip r:embed="rId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>
                <a:off x="5783400" y="2337840"/>
                <a:ext cx="7200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173840" y="2527200"/>
              <a:ext cx="1474560" cy="0"/>
            </a:xfrm>
            <a:prstGeom prst="line">
              <a:avLst/>
            </a:prstGeom>
            <a:ln w="633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62320" y="1536840"/>
            <a:ext cx="2989800" cy="1186920"/>
            <a:chOff x="3262320" y="1536840"/>
            <a:chExt cx="2989800" cy="1186920"/>
          </a:xfrm>
        </p:grpSpPr>
        <p:sp>
          <p:nvSpPr>
            <p:cNvPr id="196" name=""/>
            <p:cNvSpPr/>
            <p:nvPr/>
          </p:nvSpPr>
          <p:spPr>
            <a:xfrm>
              <a:off x="3262320" y="1612800"/>
              <a:ext cx="1371600" cy="11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7" name="" descr=""/>
            <p:cNvPicPr/>
            <p:nvPr/>
          </p:nvPicPr>
          <p:blipFill>
            <a:blip r:embed="rId16"/>
            <a:stretch/>
          </p:blipFill>
          <p:spPr>
            <a:xfrm>
              <a:off x="4176720" y="1536840"/>
              <a:ext cx="488880" cy="110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8" name=""/>
            <p:cNvGrpSpPr/>
            <p:nvPr/>
          </p:nvGrpSpPr>
          <p:grpSpPr>
            <a:xfrm>
              <a:off x="4565520" y="2336760"/>
              <a:ext cx="1686600" cy="371160"/>
              <a:chOff x="4565520" y="2336760"/>
              <a:chExt cx="1686600" cy="371160"/>
            </a:xfrm>
          </p:grpSpPr>
          <p:sp>
            <p:nvSpPr>
              <p:cNvPr id="199" name=""/>
              <p:cNvSpPr/>
              <p:nvPr/>
            </p:nvSpPr>
            <p:spPr>
              <a:xfrm>
                <a:off x="4635720" y="234576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635720" y="270792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4565520" y="2336760"/>
                <a:ext cx="13752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blipFill rotWithShape="0">
                <a:blip r:embed="rId17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635720" y="2374560"/>
                <a:ext cx="1558440" cy="312120"/>
              </a:xfrm>
              <a:prstGeom prst="rect">
                <a:avLst/>
              </a:prstGeom>
              <a:blipFill rotWithShape="0">
                <a:blip r:embed="rId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>
                <a:off x="6180120" y="2337840"/>
                <a:ext cx="7200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>
              <a:off x="4570560" y="2527200"/>
              <a:ext cx="1474560" cy="0"/>
            </a:xfrm>
            <a:prstGeom prst="line">
              <a:avLst/>
            </a:prstGeom>
            <a:ln w="633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659040" y="1536840"/>
            <a:ext cx="2989800" cy="1186920"/>
            <a:chOff x="3659040" y="1536840"/>
            <a:chExt cx="2989800" cy="1186920"/>
          </a:xfrm>
        </p:grpSpPr>
        <p:sp>
          <p:nvSpPr>
            <p:cNvPr id="206" name=""/>
            <p:cNvSpPr/>
            <p:nvPr/>
          </p:nvSpPr>
          <p:spPr>
            <a:xfrm>
              <a:off x="3659040" y="1612800"/>
              <a:ext cx="1371600" cy="11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7" name="" descr=""/>
            <p:cNvPicPr/>
            <p:nvPr/>
          </p:nvPicPr>
          <p:blipFill>
            <a:blip r:embed="rId19"/>
            <a:stretch/>
          </p:blipFill>
          <p:spPr>
            <a:xfrm>
              <a:off x="4573440" y="1536840"/>
              <a:ext cx="488880" cy="110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8" name=""/>
            <p:cNvGrpSpPr/>
            <p:nvPr/>
          </p:nvGrpSpPr>
          <p:grpSpPr>
            <a:xfrm>
              <a:off x="4962240" y="2336760"/>
              <a:ext cx="1686600" cy="371160"/>
              <a:chOff x="4962240" y="2336760"/>
              <a:chExt cx="1686600" cy="371160"/>
            </a:xfrm>
          </p:grpSpPr>
          <p:sp>
            <p:nvSpPr>
              <p:cNvPr id="209" name=""/>
              <p:cNvSpPr/>
              <p:nvPr/>
            </p:nvSpPr>
            <p:spPr>
              <a:xfrm>
                <a:off x="5032440" y="234576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032440" y="270792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4962240" y="2336760"/>
                <a:ext cx="13752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blipFill rotWithShape="0">
                <a:blip r:embed="rId20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032440" y="2374560"/>
                <a:ext cx="1558440" cy="312120"/>
              </a:xfrm>
              <a:prstGeom prst="rect">
                <a:avLst/>
              </a:prstGeom>
              <a:blipFill rotWithShape="0">
                <a:blip r:embed="rId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>
                <a:off x="6576840" y="2337840"/>
                <a:ext cx="7200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4967280" y="2527200"/>
              <a:ext cx="1474560" cy="0"/>
            </a:xfrm>
            <a:prstGeom prst="line">
              <a:avLst/>
            </a:prstGeom>
            <a:ln w="633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4056120" y="1536840"/>
            <a:ext cx="2989800" cy="1186920"/>
            <a:chOff x="4056120" y="1536840"/>
            <a:chExt cx="2989800" cy="1186920"/>
          </a:xfrm>
        </p:grpSpPr>
        <p:sp>
          <p:nvSpPr>
            <p:cNvPr id="216" name=""/>
            <p:cNvSpPr/>
            <p:nvPr/>
          </p:nvSpPr>
          <p:spPr>
            <a:xfrm>
              <a:off x="4056120" y="1612800"/>
              <a:ext cx="1371600" cy="11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7" name="" descr=""/>
            <p:cNvPicPr/>
            <p:nvPr/>
          </p:nvPicPr>
          <p:blipFill>
            <a:blip r:embed="rId22"/>
            <a:stretch/>
          </p:blipFill>
          <p:spPr>
            <a:xfrm>
              <a:off x="4970520" y="1536840"/>
              <a:ext cx="488880" cy="110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8" name=""/>
            <p:cNvGrpSpPr/>
            <p:nvPr/>
          </p:nvGrpSpPr>
          <p:grpSpPr>
            <a:xfrm>
              <a:off x="5359320" y="2336760"/>
              <a:ext cx="1686600" cy="371160"/>
              <a:chOff x="5359320" y="2336760"/>
              <a:chExt cx="1686600" cy="371160"/>
            </a:xfrm>
          </p:grpSpPr>
          <p:sp>
            <p:nvSpPr>
              <p:cNvPr id="219" name=""/>
              <p:cNvSpPr/>
              <p:nvPr/>
            </p:nvSpPr>
            <p:spPr>
              <a:xfrm>
                <a:off x="5429520" y="234576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429520" y="270792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5359320" y="2336760"/>
                <a:ext cx="13752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blipFill rotWithShape="0">
                <a:blip r:embed="rId23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429520" y="2374560"/>
                <a:ext cx="1558440" cy="312120"/>
              </a:xfrm>
              <a:prstGeom prst="rect">
                <a:avLst/>
              </a:prstGeom>
              <a:blipFill rotWithShape="0">
                <a:blip r:embed="rId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>
                <a:off x="6973920" y="2337840"/>
                <a:ext cx="7200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5364360" y="2527200"/>
              <a:ext cx="1474560" cy="0"/>
            </a:xfrm>
            <a:prstGeom prst="line">
              <a:avLst/>
            </a:prstGeom>
            <a:ln w="633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4452840" y="1536840"/>
            <a:ext cx="2989800" cy="1186920"/>
            <a:chOff x="4452840" y="1536840"/>
            <a:chExt cx="2989800" cy="1186920"/>
          </a:xfrm>
        </p:grpSpPr>
        <p:sp>
          <p:nvSpPr>
            <p:cNvPr id="226" name=""/>
            <p:cNvSpPr/>
            <p:nvPr/>
          </p:nvSpPr>
          <p:spPr>
            <a:xfrm>
              <a:off x="4452840" y="1612800"/>
              <a:ext cx="1371600" cy="11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7" name="" descr=""/>
            <p:cNvPicPr/>
            <p:nvPr/>
          </p:nvPicPr>
          <p:blipFill>
            <a:blip r:embed="rId25"/>
            <a:stretch/>
          </p:blipFill>
          <p:spPr>
            <a:xfrm>
              <a:off x="5367240" y="1536840"/>
              <a:ext cx="488880" cy="110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8" name=""/>
            <p:cNvGrpSpPr/>
            <p:nvPr/>
          </p:nvGrpSpPr>
          <p:grpSpPr>
            <a:xfrm>
              <a:off x="5756040" y="2336760"/>
              <a:ext cx="1686600" cy="371160"/>
              <a:chOff x="5756040" y="2336760"/>
              <a:chExt cx="1686600" cy="371160"/>
            </a:xfrm>
          </p:grpSpPr>
          <p:sp>
            <p:nvSpPr>
              <p:cNvPr id="229" name=""/>
              <p:cNvSpPr/>
              <p:nvPr/>
            </p:nvSpPr>
            <p:spPr>
              <a:xfrm>
                <a:off x="5826240" y="234576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826240" y="270792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5756040" y="2336760"/>
                <a:ext cx="13752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blipFill rotWithShape="0">
                <a:blip r:embed="rId26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826240" y="2374560"/>
                <a:ext cx="1558440" cy="312120"/>
              </a:xfrm>
              <a:prstGeom prst="rect">
                <a:avLst/>
              </a:prstGeom>
              <a:blipFill rotWithShape="0">
                <a:blip r:embed="rId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7370640" y="2337840"/>
                <a:ext cx="7200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5761080" y="2527200"/>
              <a:ext cx="1474560" cy="0"/>
            </a:xfrm>
            <a:prstGeom prst="line">
              <a:avLst/>
            </a:prstGeom>
            <a:ln w="633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4849920" y="1536840"/>
            <a:ext cx="2989800" cy="1186920"/>
            <a:chOff x="4849920" y="1536840"/>
            <a:chExt cx="2989800" cy="1186920"/>
          </a:xfrm>
        </p:grpSpPr>
        <p:sp>
          <p:nvSpPr>
            <p:cNvPr id="236" name=""/>
            <p:cNvSpPr/>
            <p:nvPr/>
          </p:nvSpPr>
          <p:spPr>
            <a:xfrm>
              <a:off x="4849920" y="1612800"/>
              <a:ext cx="1371600" cy="11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7" name="" descr=""/>
            <p:cNvPicPr/>
            <p:nvPr/>
          </p:nvPicPr>
          <p:blipFill>
            <a:blip r:embed="rId28"/>
            <a:stretch/>
          </p:blipFill>
          <p:spPr>
            <a:xfrm>
              <a:off x="5764320" y="1536840"/>
              <a:ext cx="488880" cy="110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8" name=""/>
            <p:cNvGrpSpPr/>
            <p:nvPr/>
          </p:nvGrpSpPr>
          <p:grpSpPr>
            <a:xfrm>
              <a:off x="6153120" y="2336760"/>
              <a:ext cx="1686600" cy="371160"/>
              <a:chOff x="6153120" y="2336760"/>
              <a:chExt cx="1686600" cy="371160"/>
            </a:xfrm>
          </p:grpSpPr>
          <p:sp>
            <p:nvSpPr>
              <p:cNvPr id="239" name=""/>
              <p:cNvSpPr/>
              <p:nvPr/>
            </p:nvSpPr>
            <p:spPr>
              <a:xfrm>
                <a:off x="6223320" y="234576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223320" y="270792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6153120" y="2336760"/>
                <a:ext cx="13752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blipFill rotWithShape="0">
                <a:blip r:embed="rId29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223320" y="2374560"/>
                <a:ext cx="1558440" cy="312120"/>
              </a:xfrm>
              <a:prstGeom prst="rect">
                <a:avLst/>
              </a:prstGeom>
              <a:blipFill rotWithShape="0">
                <a:blip r:embed="rId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7767720" y="2337840"/>
                <a:ext cx="7200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4" name=""/>
            <p:cNvSpPr/>
            <p:nvPr/>
          </p:nvSpPr>
          <p:spPr>
            <a:xfrm>
              <a:off x="6158160" y="2527200"/>
              <a:ext cx="1474560" cy="0"/>
            </a:xfrm>
            <a:prstGeom prst="line">
              <a:avLst/>
            </a:prstGeom>
            <a:ln w="633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5246640" y="1536840"/>
            <a:ext cx="2989800" cy="1186920"/>
            <a:chOff x="5246640" y="1536840"/>
            <a:chExt cx="2989800" cy="1186920"/>
          </a:xfrm>
        </p:grpSpPr>
        <p:sp>
          <p:nvSpPr>
            <p:cNvPr id="246" name=""/>
            <p:cNvSpPr/>
            <p:nvPr/>
          </p:nvSpPr>
          <p:spPr>
            <a:xfrm>
              <a:off x="5246640" y="1612800"/>
              <a:ext cx="1371600" cy="11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7" name="" descr=""/>
            <p:cNvPicPr/>
            <p:nvPr/>
          </p:nvPicPr>
          <p:blipFill>
            <a:blip r:embed="rId31"/>
            <a:stretch/>
          </p:blipFill>
          <p:spPr>
            <a:xfrm>
              <a:off x="6161040" y="1536840"/>
              <a:ext cx="488880" cy="110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8" name=""/>
            <p:cNvGrpSpPr/>
            <p:nvPr/>
          </p:nvGrpSpPr>
          <p:grpSpPr>
            <a:xfrm>
              <a:off x="6549840" y="2336760"/>
              <a:ext cx="1686600" cy="371160"/>
              <a:chOff x="6549840" y="2336760"/>
              <a:chExt cx="1686600" cy="371160"/>
            </a:xfrm>
          </p:grpSpPr>
          <p:sp>
            <p:nvSpPr>
              <p:cNvPr id="249" name=""/>
              <p:cNvSpPr/>
              <p:nvPr/>
            </p:nvSpPr>
            <p:spPr>
              <a:xfrm>
                <a:off x="6620040" y="234576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620040" y="270792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6549840" y="2336760"/>
                <a:ext cx="13752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blipFill rotWithShape="0">
                <a:blip r:embed="rId32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620040" y="2374560"/>
                <a:ext cx="1558440" cy="312120"/>
              </a:xfrm>
              <a:prstGeom prst="rect">
                <a:avLst/>
              </a:prstGeom>
              <a:blipFill rotWithShape="0">
                <a:blip r:embed="rId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8164440" y="2337840"/>
                <a:ext cx="7200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>
              <a:off x="6554880" y="2527200"/>
              <a:ext cx="1474560" cy="0"/>
            </a:xfrm>
            <a:prstGeom prst="line">
              <a:avLst/>
            </a:prstGeom>
            <a:ln w="633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5643720" y="1536840"/>
            <a:ext cx="2989800" cy="1186920"/>
            <a:chOff x="5643720" y="1536840"/>
            <a:chExt cx="2989800" cy="1186920"/>
          </a:xfrm>
        </p:grpSpPr>
        <p:sp>
          <p:nvSpPr>
            <p:cNvPr id="256" name=""/>
            <p:cNvSpPr/>
            <p:nvPr/>
          </p:nvSpPr>
          <p:spPr>
            <a:xfrm>
              <a:off x="5643720" y="1612800"/>
              <a:ext cx="1371600" cy="11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7" name="" descr=""/>
            <p:cNvPicPr/>
            <p:nvPr/>
          </p:nvPicPr>
          <p:blipFill>
            <a:blip r:embed="rId34"/>
            <a:stretch/>
          </p:blipFill>
          <p:spPr>
            <a:xfrm>
              <a:off x="6558120" y="1536840"/>
              <a:ext cx="488880" cy="110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8" name=""/>
            <p:cNvGrpSpPr/>
            <p:nvPr/>
          </p:nvGrpSpPr>
          <p:grpSpPr>
            <a:xfrm>
              <a:off x="6946920" y="2336760"/>
              <a:ext cx="1686600" cy="371160"/>
              <a:chOff x="6946920" y="2336760"/>
              <a:chExt cx="1686600" cy="371160"/>
            </a:xfrm>
          </p:grpSpPr>
          <p:sp>
            <p:nvSpPr>
              <p:cNvPr id="259" name=""/>
              <p:cNvSpPr/>
              <p:nvPr/>
            </p:nvSpPr>
            <p:spPr>
              <a:xfrm>
                <a:off x="7017120" y="234576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017120" y="270792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>
                <a:off x="6946920" y="2336760"/>
                <a:ext cx="13752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blipFill rotWithShape="0">
                <a:blip r:embed="rId35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017120" y="2374560"/>
                <a:ext cx="1558440" cy="312120"/>
              </a:xfrm>
              <a:prstGeom prst="rect">
                <a:avLst/>
              </a:prstGeom>
              <a:blipFill rotWithShape="0">
                <a:blip r:embed="rId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8561520" y="2337840"/>
                <a:ext cx="7200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4" name=""/>
            <p:cNvSpPr/>
            <p:nvPr/>
          </p:nvSpPr>
          <p:spPr>
            <a:xfrm>
              <a:off x="6951960" y="2527200"/>
              <a:ext cx="1474560" cy="0"/>
            </a:xfrm>
            <a:prstGeom prst="line">
              <a:avLst/>
            </a:prstGeom>
            <a:ln w="633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6040440" y="1536840"/>
            <a:ext cx="2989800" cy="1186920"/>
            <a:chOff x="6040440" y="1536840"/>
            <a:chExt cx="2989800" cy="1186920"/>
          </a:xfrm>
        </p:grpSpPr>
        <p:sp>
          <p:nvSpPr>
            <p:cNvPr id="266" name=""/>
            <p:cNvSpPr/>
            <p:nvPr/>
          </p:nvSpPr>
          <p:spPr>
            <a:xfrm>
              <a:off x="6040440" y="1612800"/>
              <a:ext cx="1371600" cy="11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7" name="" descr=""/>
            <p:cNvPicPr/>
            <p:nvPr/>
          </p:nvPicPr>
          <p:blipFill>
            <a:blip r:embed="rId37"/>
            <a:stretch/>
          </p:blipFill>
          <p:spPr>
            <a:xfrm>
              <a:off x="6954840" y="1536840"/>
              <a:ext cx="488880" cy="110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8" name=""/>
            <p:cNvGrpSpPr/>
            <p:nvPr/>
          </p:nvGrpSpPr>
          <p:grpSpPr>
            <a:xfrm>
              <a:off x="7343640" y="2336760"/>
              <a:ext cx="1686600" cy="371160"/>
              <a:chOff x="7343640" y="2336760"/>
              <a:chExt cx="1686600" cy="371160"/>
            </a:xfrm>
          </p:grpSpPr>
          <p:sp>
            <p:nvSpPr>
              <p:cNvPr id="269" name=""/>
              <p:cNvSpPr/>
              <p:nvPr/>
            </p:nvSpPr>
            <p:spPr>
              <a:xfrm>
                <a:off x="7413840" y="234576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413840" y="270792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>
                <a:off x="7343640" y="2336760"/>
                <a:ext cx="13752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blipFill rotWithShape="0">
                <a:blip r:embed="rId38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413840" y="2374560"/>
                <a:ext cx="1558440" cy="312120"/>
              </a:xfrm>
              <a:prstGeom prst="rect">
                <a:avLst/>
              </a:prstGeom>
              <a:blipFill rotWithShape="0">
                <a:blip r:embed="rId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>
                <a:off x="8958240" y="2337840"/>
                <a:ext cx="7200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7348680" y="2527200"/>
              <a:ext cx="1474560" cy="0"/>
            </a:xfrm>
            <a:prstGeom prst="line">
              <a:avLst/>
            </a:prstGeom>
            <a:ln w="633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6437160" y="1536840"/>
            <a:ext cx="2989800" cy="1186920"/>
            <a:chOff x="6437160" y="1536840"/>
            <a:chExt cx="2989800" cy="1186920"/>
          </a:xfrm>
        </p:grpSpPr>
        <p:sp>
          <p:nvSpPr>
            <p:cNvPr id="276" name=""/>
            <p:cNvSpPr/>
            <p:nvPr/>
          </p:nvSpPr>
          <p:spPr>
            <a:xfrm>
              <a:off x="6437160" y="1612800"/>
              <a:ext cx="1371600" cy="11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7" name="" descr=""/>
            <p:cNvPicPr/>
            <p:nvPr/>
          </p:nvPicPr>
          <p:blipFill>
            <a:blip r:embed="rId40"/>
            <a:stretch/>
          </p:blipFill>
          <p:spPr>
            <a:xfrm>
              <a:off x="7351560" y="1536840"/>
              <a:ext cx="488880" cy="110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8" name=""/>
            <p:cNvGrpSpPr/>
            <p:nvPr/>
          </p:nvGrpSpPr>
          <p:grpSpPr>
            <a:xfrm>
              <a:off x="7740360" y="2336760"/>
              <a:ext cx="1686600" cy="371160"/>
              <a:chOff x="7740360" y="2336760"/>
              <a:chExt cx="1686600" cy="371160"/>
            </a:xfrm>
          </p:grpSpPr>
          <p:sp>
            <p:nvSpPr>
              <p:cNvPr id="279" name=""/>
              <p:cNvSpPr/>
              <p:nvPr/>
            </p:nvSpPr>
            <p:spPr>
              <a:xfrm>
                <a:off x="7810560" y="234576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810560" y="270792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7740360" y="2336760"/>
                <a:ext cx="13752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blipFill rotWithShape="0">
                <a:blip r:embed="rId41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810560" y="2374560"/>
                <a:ext cx="1558440" cy="312120"/>
              </a:xfrm>
              <a:prstGeom prst="rect">
                <a:avLst/>
              </a:prstGeom>
              <a:blipFill rotWithShape="0">
                <a:blip r:embed="rId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9354960" y="2337840"/>
                <a:ext cx="7200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>
              <a:off x="7745400" y="2527200"/>
              <a:ext cx="1474560" cy="0"/>
            </a:xfrm>
            <a:prstGeom prst="line">
              <a:avLst/>
            </a:prstGeom>
            <a:ln w="633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6834240" y="1536840"/>
            <a:ext cx="2989800" cy="1186920"/>
            <a:chOff x="6834240" y="1536840"/>
            <a:chExt cx="2989800" cy="1186920"/>
          </a:xfrm>
        </p:grpSpPr>
        <p:sp>
          <p:nvSpPr>
            <p:cNvPr id="286" name=""/>
            <p:cNvSpPr/>
            <p:nvPr/>
          </p:nvSpPr>
          <p:spPr>
            <a:xfrm>
              <a:off x="6834240" y="1612800"/>
              <a:ext cx="1371600" cy="11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7" name="" descr=""/>
            <p:cNvPicPr/>
            <p:nvPr/>
          </p:nvPicPr>
          <p:blipFill>
            <a:blip r:embed="rId43"/>
            <a:stretch/>
          </p:blipFill>
          <p:spPr>
            <a:xfrm>
              <a:off x="7748640" y="1536840"/>
              <a:ext cx="488880" cy="110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8" name=""/>
            <p:cNvGrpSpPr/>
            <p:nvPr/>
          </p:nvGrpSpPr>
          <p:grpSpPr>
            <a:xfrm>
              <a:off x="8137440" y="2336760"/>
              <a:ext cx="1686600" cy="371160"/>
              <a:chOff x="8137440" y="2336760"/>
              <a:chExt cx="1686600" cy="371160"/>
            </a:xfrm>
          </p:grpSpPr>
          <p:sp>
            <p:nvSpPr>
              <p:cNvPr id="289" name=""/>
              <p:cNvSpPr/>
              <p:nvPr/>
            </p:nvSpPr>
            <p:spPr>
              <a:xfrm>
                <a:off x="8207640" y="234576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8207640" y="270792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>
                <a:off x="8137440" y="2336760"/>
                <a:ext cx="13752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blipFill rotWithShape="0">
                <a:blip r:embed="rId44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207640" y="2374560"/>
                <a:ext cx="1558440" cy="312120"/>
              </a:xfrm>
              <a:prstGeom prst="rect">
                <a:avLst/>
              </a:prstGeom>
              <a:blipFill rotWithShape="0">
                <a:blip r:embed="rId4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>
                <a:off x="9752040" y="2337840"/>
                <a:ext cx="7200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142480" y="2527200"/>
              <a:ext cx="1474560" cy="0"/>
            </a:xfrm>
            <a:prstGeom prst="line">
              <a:avLst/>
            </a:prstGeom>
            <a:ln w="633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7230960" y="1536840"/>
            <a:ext cx="2989800" cy="1186920"/>
            <a:chOff x="7230960" y="1536840"/>
            <a:chExt cx="2989800" cy="1186920"/>
          </a:xfrm>
        </p:grpSpPr>
        <p:sp>
          <p:nvSpPr>
            <p:cNvPr id="296" name=""/>
            <p:cNvSpPr/>
            <p:nvPr/>
          </p:nvSpPr>
          <p:spPr>
            <a:xfrm>
              <a:off x="7230960" y="1612800"/>
              <a:ext cx="1371600" cy="11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7" name="" descr=""/>
            <p:cNvPicPr/>
            <p:nvPr/>
          </p:nvPicPr>
          <p:blipFill>
            <a:blip r:embed="rId46"/>
            <a:stretch/>
          </p:blipFill>
          <p:spPr>
            <a:xfrm>
              <a:off x="8145360" y="1536840"/>
              <a:ext cx="488880" cy="110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8" name=""/>
            <p:cNvGrpSpPr/>
            <p:nvPr/>
          </p:nvGrpSpPr>
          <p:grpSpPr>
            <a:xfrm>
              <a:off x="8534160" y="2336760"/>
              <a:ext cx="1686600" cy="371160"/>
              <a:chOff x="8534160" y="2336760"/>
              <a:chExt cx="1686600" cy="371160"/>
            </a:xfrm>
          </p:grpSpPr>
          <p:sp>
            <p:nvSpPr>
              <p:cNvPr id="299" name=""/>
              <p:cNvSpPr/>
              <p:nvPr/>
            </p:nvSpPr>
            <p:spPr>
              <a:xfrm>
                <a:off x="8604360" y="234576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8604360" y="270792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>
                <a:off x="8534160" y="2336760"/>
                <a:ext cx="13752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blipFill rotWithShape="0">
                <a:blip r:embed="rId47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8604360" y="2374560"/>
                <a:ext cx="1558440" cy="312120"/>
              </a:xfrm>
              <a:prstGeom prst="rect">
                <a:avLst/>
              </a:prstGeom>
              <a:blipFill rotWithShape="0">
                <a:blip r:embed="rId4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10148760" y="2337840"/>
                <a:ext cx="7200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8539200" y="2527200"/>
              <a:ext cx="1474560" cy="0"/>
            </a:xfrm>
            <a:prstGeom prst="line">
              <a:avLst/>
            </a:prstGeom>
            <a:ln w="633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7628040" y="1536840"/>
            <a:ext cx="2989800" cy="1186920"/>
            <a:chOff x="7628040" y="1536840"/>
            <a:chExt cx="2989800" cy="1186920"/>
          </a:xfrm>
        </p:grpSpPr>
        <p:sp>
          <p:nvSpPr>
            <p:cNvPr id="306" name=""/>
            <p:cNvSpPr/>
            <p:nvPr/>
          </p:nvSpPr>
          <p:spPr>
            <a:xfrm>
              <a:off x="7628040" y="1612800"/>
              <a:ext cx="1371600" cy="11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7" name="" descr=""/>
            <p:cNvPicPr/>
            <p:nvPr/>
          </p:nvPicPr>
          <p:blipFill>
            <a:blip r:embed="rId49"/>
            <a:stretch/>
          </p:blipFill>
          <p:spPr>
            <a:xfrm>
              <a:off x="8542440" y="1536840"/>
              <a:ext cx="488880" cy="110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8" name=""/>
            <p:cNvGrpSpPr/>
            <p:nvPr/>
          </p:nvGrpSpPr>
          <p:grpSpPr>
            <a:xfrm>
              <a:off x="8931240" y="2336760"/>
              <a:ext cx="1686600" cy="371160"/>
              <a:chOff x="8931240" y="2336760"/>
              <a:chExt cx="1686600" cy="371160"/>
            </a:xfrm>
          </p:grpSpPr>
          <p:sp>
            <p:nvSpPr>
              <p:cNvPr id="309" name=""/>
              <p:cNvSpPr/>
              <p:nvPr/>
            </p:nvSpPr>
            <p:spPr>
              <a:xfrm>
                <a:off x="9001440" y="234576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9001440" y="270792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H="1">
                <a:off x="8931240" y="2336760"/>
                <a:ext cx="13752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blipFill rotWithShape="0">
                <a:blip r:embed="rId50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9001440" y="2374560"/>
                <a:ext cx="1558440" cy="312120"/>
              </a:xfrm>
              <a:prstGeom prst="rect">
                <a:avLst/>
              </a:prstGeom>
              <a:blipFill rotWithShape="0">
                <a:blip r:embed="rId5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>
                <a:off x="10545840" y="2337840"/>
                <a:ext cx="7200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>
              <a:off x="8936280" y="2527200"/>
              <a:ext cx="1474560" cy="0"/>
            </a:xfrm>
            <a:prstGeom prst="line">
              <a:avLst/>
            </a:prstGeom>
            <a:ln w="633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8024760" y="1536840"/>
            <a:ext cx="2989800" cy="1186920"/>
            <a:chOff x="8024760" y="1536840"/>
            <a:chExt cx="2989800" cy="1186920"/>
          </a:xfrm>
        </p:grpSpPr>
        <p:sp>
          <p:nvSpPr>
            <p:cNvPr id="316" name=""/>
            <p:cNvSpPr/>
            <p:nvPr/>
          </p:nvSpPr>
          <p:spPr>
            <a:xfrm>
              <a:off x="8024760" y="1612800"/>
              <a:ext cx="1371600" cy="11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7" name="" descr=""/>
            <p:cNvPicPr/>
            <p:nvPr/>
          </p:nvPicPr>
          <p:blipFill>
            <a:blip r:embed="rId52"/>
            <a:stretch/>
          </p:blipFill>
          <p:spPr>
            <a:xfrm>
              <a:off x="8939160" y="1536840"/>
              <a:ext cx="488880" cy="110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8" name=""/>
            <p:cNvGrpSpPr/>
            <p:nvPr/>
          </p:nvGrpSpPr>
          <p:grpSpPr>
            <a:xfrm>
              <a:off x="9327960" y="2336760"/>
              <a:ext cx="1686600" cy="371160"/>
              <a:chOff x="9327960" y="2336760"/>
              <a:chExt cx="1686600" cy="371160"/>
            </a:xfrm>
          </p:grpSpPr>
          <p:sp>
            <p:nvSpPr>
              <p:cNvPr id="319" name=""/>
              <p:cNvSpPr/>
              <p:nvPr/>
            </p:nvSpPr>
            <p:spPr>
              <a:xfrm>
                <a:off x="9398160" y="234576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9398160" y="270792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>
                <a:off x="9327960" y="2336760"/>
                <a:ext cx="13752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blipFill rotWithShape="0">
                <a:blip r:embed="rId53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9398160" y="2374560"/>
                <a:ext cx="1558440" cy="312120"/>
              </a:xfrm>
              <a:prstGeom prst="rect">
                <a:avLst/>
              </a:prstGeom>
              <a:blipFill rotWithShape="0">
                <a:blip r:embed="rId5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10942560" y="2337840"/>
                <a:ext cx="7200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9333000" y="2527200"/>
              <a:ext cx="1474560" cy="0"/>
            </a:xfrm>
            <a:prstGeom prst="line">
              <a:avLst/>
            </a:prstGeom>
            <a:ln w="633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8421840" y="1536840"/>
            <a:ext cx="2989800" cy="1186920"/>
            <a:chOff x="8421840" y="1536840"/>
            <a:chExt cx="2989800" cy="1186920"/>
          </a:xfrm>
        </p:grpSpPr>
        <p:sp>
          <p:nvSpPr>
            <p:cNvPr id="326" name=""/>
            <p:cNvSpPr/>
            <p:nvPr/>
          </p:nvSpPr>
          <p:spPr>
            <a:xfrm>
              <a:off x="8421840" y="1612800"/>
              <a:ext cx="1371600" cy="11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7" name="" descr=""/>
            <p:cNvPicPr/>
            <p:nvPr/>
          </p:nvPicPr>
          <p:blipFill>
            <a:blip r:embed="rId55"/>
            <a:stretch/>
          </p:blipFill>
          <p:spPr>
            <a:xfrm>
              <a:off x="9336240" y="1536840"/>
              <a:ext cx="488880" cy="110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8" name=""/>
            <p:cNvGrpSpPr/>
            <p:nvPr/>
          </p:nvGrpSpPr>
          <p:grpSpPr>
            <a:xfrm>
              <a:off x="9725040" y="2336760"/>
              <a:ext cx="1686600" cy="371160"/>
              <a:chOff x="9725040" y="2336760"/>
              <a:chExt cx="1686600" cy="371160"/>
            </a:xfrm>
          </p:grpSpPr>
          <p:sp>
            <p:nvSpPr>
              <p:cNvPr id="329" name=""/>
              <p:cNvSpPr/>
              <p:nvPr/>
            </p:nvSpPr>
            <p:spPr>
              <a:xfrm>
                <a:off x="9795240" y="234576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9795240" y="2707920"/>
                <a:ext cx="159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>
                <a:off x="9725040" y="2336760"/>
                <a:ext cx="13752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blipFill rotWithShape="0">
                <a:blip r:embed="rId56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9795240" y="2374560"/>
                <a:ext cx="1558440" cy="312120"/>
              </a:xfrm>
              <a:prstGeom prst="rect">
                <a:avLst/>
              </a:prstGeom>
              <a:blipFill rotWithShape="0">
                <a:blip r:embed="rId5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H="1">
                <a:off x="11339640" y="2337840"/>
                <a:ext cx="7200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10878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108783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4" name=""/>
            <p:cNvSpPr/>
            <p:nvPr/>
          </p:nvSpPr>
          <p:spPr>
            <a:xfrm>
              <a:off x="9730080" y="2527200"/>
              <a:ext cx="1474560" cy="0"/>
            </a:xfrm>
            <a:prstGeom prst="line">
              <a:avLst/>
            </a:prstGeom>
            <a:ln w="63360">
              <a:solidFill>
                <a:srgbClr val="99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7238880" y="609480"/>
            <a:ext cx="762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2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552920" y="1066680"/>
            <a:ext cx="38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o now the book move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4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4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5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1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7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3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9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50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10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4700"/>
                            </p:stCondLst>
                            <p:childTnLst>
                              <p:par>
                                <p:cTn id="249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30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9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5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1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7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83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890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950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6:47:25Z</dcterms:created>
  <dc:creator>Keith Johnson,   keith@timetabler.com   (c)</dc:creator>
  <dc:description/>
  <dc:language>en-US</dc:language>
  <cp:lastModifiedBy>IT CITY</cp:lastModifiedBy>
  <dcterms:modified xsi:type="dcterms:W3CDTF">2005-11-20T05:20:15Z</dcterms:modified>
  <cp:revision>291</cp:revision>
  <dc:subject>for Physics for You  CD-ROM</dc:subject>
  <dc:title>Forces - balanced &amp; unbalanced</dc:title>
</cp:coreProperties>
</file>