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03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6812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023240" y="662796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5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26"/>
          <p:cNvSpPr/>
          <p:nvPr/>
        </p:nvSpPr>
        <p:spPr>
          <a:xfrm>
            <a:off x="152280" y="433440"/>
            <a:ext cx="1506600" cy="19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table for Speed / Tim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981080" y="380880"/>
          <a:ext cx="5943600" cy="5943600"/>
        </p:xfrm>
        <a:graphic>
          <a:graphicData uri="http://schemas.openxmlformats.org/drawingml/2006/table">
            <a:tbl>
              <a:tblPr/>
              <a:tblGrid>
                <a:gridCol w="2814840"/>
                <a:gridCol w="3128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/Seco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/m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flash icon"/>
          <p:cNvPicPr/>
          <p:nvPr/>
        </p:nvPicPr>
        <p:blipFill>
          <a:blip r:embed="rId1"/>
          <a:stretch/>
        </p:blipFill>
        <p:spPr>
          <a:xfrm>
            <a:off x="7353360" y="12384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ShockwaveFlash1"/>
          <p:cNvGraphicFramePr/>
          <p:nvPr/>
        </p:nvGraphicFramePr>
        <p:xfrm>
          <a:off x="1066680" y="762120"/>
          <a:ext cx="6858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762120"/>
                    <a:ext cx="6858000" cy="5715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2280" y="433440"/>
            <a:ext cx="1506600" cy="19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table for Speed / Tim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981080" y="380880"/>
          <a:ext cx="5943600" cy="5943600"/>
        </p:xfrm>
        <a:graphic>
          <a:graphicData uri="http://schemas.openxmlformats.org/drawingml/2006/table">
            <a:tbl>
              <a:tblPr/>
              <a:tblGrid>
                <a:gridCol w="2814840"/>
                <a:gridCol w="3128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/Seco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/m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49" name="Group 47"/>
          <p:cNvGrpSpPr/>
          <p:nvPr/>
        </p:nvGrpSpPr>
        <p:grpSpPr>
          <a:xfrm>
            <a:off x="6091920" y="838080"/>
            <a:ext cx="528120" cy="5488920"/>
            <a:chOff x="6091920" y="838080"/>
            <a:chExt cx="528120" cy="5488920"/>
          </a:xfrm>
        </p:grpSpPr>
        <p:sp>
          <p:nvSpPr>
            <p:cNvPr id="50" name="Text Box 48"/>
            <p:cNvSpPr/>
            <p:nvPr/>
          </p:nvSpPr>
          <p:spPr>
            <a:xfrm>
              <a:off x="6174000" y="83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49"/>
            <p:cNvSpPr/>
            <p:nvPr/>
          </p:nvSpPr>
          <p:spPr>
            <a:xfrm>
              <a:off x="6095880" y="4495680"/>
              <a:ext cx="52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50"/>
            <p:cNvSpPr/>
            <p:nvPr/>
          </p:nvSpPr>
          <p:spPr>
            <a:xfrm>
              <a:off x="6098400" y="17524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51"/>
            <p:cNvSpPr/>
            <p:nvPr/>
          </p:nvSpPr>
          <p:spPr>
            <a:xfrm>
              <a:off x="6098400" y="22096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52"/>
            <p:cNvSpPr/>
            <p:nvPr/>
          </p:nvSpPr>
          <p:spPr>
            <a:xfrm>
              <a:off x="6098400" y="2666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53"/>
            <p:cNvSpPr/>
            <p:nvPr/>
          </p:nvSpPr>
          <p:spPr>
            <a:xfrm>
              <a:off x="6098400" y="31240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54"/>
            <p:cNvSpPr/>
            <p:nvPr/>
          </p:nvSpPr>
          <p:spPr>
            <a:xfrm>
              <a:off x="6098400" y="3581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55"/>
            <p:cNvSpPr/>
            <p:nvPr/>
          </p:nvSpPr>
          <p:spPr>
            <a:xfrm>
              <a:off x="6098400" y="40384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56"/>
            <p:cNvSpPr/>
            <p:nvPr/>
          </p:nvSpPr>
          <p:spPr>
            <a:xfrm>
              <a:off x="6098040" y="541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57"/>
            <p:cNvSpPr/>
            <p:nvPr/>
          </p:nvSpPr>
          <p:spPr>
            <a:xfrm>
              <a:off x="6091920" y="49528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58"/>
            <p:cNvSpPr/>
            <p:nvPr/>
          </p:nvSpPr>
          <p:spPr>
            <a:xfrm>
              <a:off x="6250320" y="129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59"/>
            <p:cNvSpPr/>
            <p:nvPr/>
          </p:nvSpPr>
          <p:spPr>
            <a:xfrm>
              <a:off x="6098040" y="586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318960" y="928800"/>
          <a:ext cx="8562960" cy="50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928800"/>
                    <a:ext cx="856296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711360" y="304920"/>
          <a:ext cx="6778440" cy="39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304920"/>
                    <a:ext cx="677844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" name="Group 3"/>
          <p:cNvGrpSpPr/>
          <p:nvPr/>
        </p:nvGrpSpPr>
        <p:grpSpPr>
          <a:xfrm>
            <a:off x="1041120" y="2771280"/>
            <a:ext cx="5107680" cy="3233880"/>
            <a:chOff x="1041120" y="2771280"/>
            <a:chExt cx="5107680" cy="3233880"/>
          </a:xfrm>
        </p:grpSpPr>
        <p:sp>
          <p:nvSpPr>
            <p:cNvPr id="67" name="Text Box 4"/>
            <p:cNvSpPr/>
            <p:nvPr/>
          </p:nvSpPr>
          <p:spPr>
            <a:xfrm>
              <a:off x="1041120" y="4448160"/>
              <a:ext cx="5107680" cy="1557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Velocity is increa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Gradient is positive and cons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Acceleration is positive and cons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 is accelera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5"/>
            <p:cNvSpPr/>
            <p:nvPr/>
          </p:nvSpPr>
          <p:spPr>
            <a:xfrm flipV="1">
              <a:off x="2351160" y="2771280"/>
              <a:ext cx="0" cy="1684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6"/>
          <p:cNvGrpSpPr/>
          <p:nvPr/>
        </p:nvGrpSpPr>
        <p:grpSpPr>
          <a:xfrm>
            <a:off x="637920" y="1262160"/>
            <a:ext cx="4789440" cy="4947840"/>
            <a:chOff x="637920" y="1262160"/>
            <a:chExt cx="4789440" cy="4947840"/>
          </a:xfrm>
        </p:grpSpPr>
        <p:sp>
          <p:nvSpPr>
            <p:cNvPr id="70" name="Text Box 7"/>
            <p:cNvSpPr/>
            <p:nvPr/>
          </p:nvSpPr>
          <p:spPr>
            <a:xfrm>
              <a:off x="637920" y="4653000"/>
              <a:ext cx="4789440" cy="1557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Velocity is consta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Gradient is z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Acceleration is z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 is moving at a constant spe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8"/>
            <p:cNvSpPr/>
            <p:nvPr/>
          </p:nvSpPr>
          <p:spPr>
            <a:xfrm flipV="1">
              <a:off x="4309920" y="1262160"/>
              <a:ext cx="0" cy="38606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12"/>
          <p:cNvGrpSpPr/>
          <p:nvPr/>
        </p:nvGrpSpPr>
        <p:grpSpPr>
          <a:xfrm>
            <a:off x="4356000" y="1173240"/>
            <a:ext cx="4788000" cy="2557440"/>
            <a:chOff x="4356000" y="1173240"/>
            <a:chExt cx="4788000" cy="2557440"/>
          </a:xfrm>
        </p:grpSpPr>
        <p:sp>
          <p:nvSpPr>
            <p:cNvPr id="73" name="Text Box 13"/>
            <p:cNvSpPr/>
            <p:nvPr/>
          </p:nvSpPr>
          <p:spPr>
            <a:xfrm>
              <a:off x="4356000" y="1173240"/>
              <a:ext cx="4788000" cy="1557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Velocity is z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Gradient is z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Acceleration is z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 is station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4"/>
            <p:cNvSpPr/>
            <p:nvPr/>
          </p:nvSpPr>
          <p:spPr>
            <a:xfrm>
              <a:off x="6880320" y="2365200"/>
              <a:ext cx="0" cy="1365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3866760" y="3120840"/>
            <a:ext cx="5226840" cy="3377880"/>
            <a:chOff x="3866760" y="3120840"/>
            <a:chExt cx="5226840" cy="3377880"/>
          </a:xfrm>
        </p:grpSpPr>
        <p:sp>
          <p:nvSpPr>
            <p:cNvPr id="76" name="Text Box 10"/>
            <p:cNvSpPr/>
            <p:nvPr/>
          </p:nvSpPr>
          <p:spPr>
            <a:xfrm>
              <a:off x="3866760" y="4941720"/>
              <a:ext cx="5226840" cy="15570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Velocity is decrea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Gradient is constant and neg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Acceleration is constant and neg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 is decelera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V="1">
              <a:off x="6227640" y="3120840"/>
              <a:ext cx="12960" cy="1820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20840" y="290520"/>
          <a:ext cx="5311800" cy="31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290520"/>
                    <a:ext cx="531180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3"/>
          <p:cNvGraphicFramePr/>
          <p:nvPr/>
        </p:nvGraphicFramePr>
        <p:xfrm>
          <a:off x="474840" y="3543480"/>
          <a:ext cx="5271840" cy="3081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840" y="3543480"/>
                    <a:ext cx="5271840" cy="30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4"/>
          <p:cNvSpPr/>
          <p:nvPr/>
        </p:nvSpPr>
        <p:spPr>
          <a:xfrm>
            <a:off x="5726160" y="2671920"/>
            <a:ext cx="3119400" cy="1922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w compare the Speed / Time graph with the earlier Distance / Tim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4484520" y="2103120"/>
            <a:ext cx="3684600" cy="2147760"/>
            <a:chOff x="4484520" y="2103120"/>
            <a:chExt cx="3684600" cy="2147760"/>
          </a:xfrm>
        </p:grpSpPr>
        <p:sp>
          <p:nvSpPr>
            <p:cNvPr id="84" name="Text Box 6"/>
            <p:cNvSpPr/>
            <p:nvPr/>
          </p:nvSpPr>
          <p:spPr>
            <a:xfrm>
              <a:off x="5916240" y="2145960"/>
              <a:ext cx="2252880" cy="1557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The speed is decreasing and the curve is downw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7"/>
            <p:cNvSpPr/>
            <p:nvPr/>
          </p:nvSpPr>
          <p:spPr>
            <a:xfrm flipH="1" flipV="1">
              <a:off x="4484520" y="2103120"/>
              <a:ext cx="1365120" cy="579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8"/>
            <p:cNvSpPr/>
            <p:nvPr/>
          </p:nvSpPr>
          <p:spPr>
            <a:xfrm flipH="1">
              <a:off x="4557600" y="2698560"/>
              <a:ext cx="1379520" cy="155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9"/>
          <p:cNvGrpSpPr/>
          <p:nvPr/>
        </p:nvGrpSpPr>
        <p:grpSpPr>
          <a:xfrm>
            <a:off x="5311440" y="2465280"/>
            <a:ext cx="3233880" cy="3020040"/>
            <a:chOff x="5311440" y="2465280"/>
            <a:chExt cx="3233880" cy="3020040"/>
          </a:xfrm>
        </p:grpSpPr>
        <p:sp>
          <p:nvSpPr>
            <p:cNvPr id="88" name="Text Box 10"/>
            <p:cNvSpPr/>
            <p:nvPr/>
          </p:nvSpPr>
          <p:spPr>
            <a:xfrm>
              <a:off x="5664240" y="2465280"/>
              <a:ext cx="2881080" cy="30200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The speed is zero – the car is not mov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and we can see that the distance that the car has travelled is not changing eith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 flipH="1" flipV="1">
              <a:off x="5311440" y="3018960"/>
              <a:ext cx="315000" cy="52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 flipH="1">
              <a:off x="5343480" y="3643200"/>
              <a:ext cx="397440" cy="565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13"/>
          <p:cNvGrpSpPr/>
          <p:nvPr/>
        </p:nvGrpSpPr>
        <p:grpSpPr>
          <a:xfrm>
            <a:off x="971280" y="1000080"/>
            <a:ext cx="5653440" cy="4675320"/>
            <a:chOff x="971280" y="1000080"/>
            <a:chExt cx="5653440" cy="4675320"/>
          </a:xfrm>
        </p:grpSpPr>
        <p:grpSp>
          <p:nvGrpSpPr>
            <p:cNvPr id="92" name="Group 14"/>
            <p:cNvGrpSpPr/>
            <p:nvPr/>
          </p:nvGrpSpPr>
          <p:grpSpPr>
            <a:xfrm>
              <a:off x="2496960" y="1015920"/>
              <a:ext cx="1335240" cy="4659480"/>
              <a:chOff x="2496960" y="1015920"/>
              <a:chExt cx="1335240" cy="4659480"/>
            </a:xfrm>
          </p:grpSpPr>
          <p:sp>
            <p:nvSpPr>
              <p:cNvPr id="93" name="Line 15"/>
              <p:cNvSpPr/>
              <p:nvPr/>
            </p:nvSpPr>
            <p:spPr>
              <a:xfrm>
                <a:off x="2496960" y="1030320"/>
                <a:ext cx="0" cy="464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16"/>
              <p:cNvSpPr/>
              <p:nvPr/>
            </p:nvSpPr>
            <p:spPr>
              <a:xfrm>
                <a:off x="3832200" y="1015920"/>
                <a:ext cx="0" cy="364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Group 17"/>
            <p:cNvGrpSpPr/>
            <p:nvPr/>
          </p:nvGrpSpPr>
          <p:grpSpPr>
            <a:xfrm>
              <a:off x="971280" y="1000080"/>
              <a:ext cx="5653440" cy="4152960"/>
              <a:chOff x="971280" y="1000080"/>
              <a:chExt cx="5653440" cy="4152960"/>
            </a:xfrm>
          </p:grpSpPr>
          <p:sp>
            <p:nvSpPr>
              <p:cNvPr id="96" name="Text Box 18"/>
              <p:cNvSpPr/>
              <p:nvPr/>
            </p:nvSpPr>
            <p:spPr>
              <a:xfrm>
                <a:off x="4551480" y="1000080"/>
                <a:ext cx="2073240" cy="37515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Arial"/>
                  </a:rPr>
                  <a:t>From both graphs we can see that the speed is 30 m/s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Arial"/>
                  </a:rPr>
                  <a:t>(Using the value calculated previously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19"/>
              <p:cNvSpPr/>
              <p:nvPr/>
            </p:nvSpPr>
            <p:spPr>
              <a:xfrm flipH="1" flipV="1">
                <a:off x="3047760" y="1030320"/>
                <a:ext cx="1493640" cy="1495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20"/>
              <p:cNvSpPr/>
              <p:nvPr/>
            </p:nvSpPr>
            <p:spPr>
              <a:xfrm flipH="1" flipV="1">
                <a:off x="971280" y="1044720"/>
                <a:ext cx="3555720" cy="1481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 flipH="1">
                <a:off x="3104640" y="2554200"/>
                <a:ext cx="1436760" cy="2598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" name="Group 22"/>
          <p:cNvGrpSpPr/>
          <p:nvPr/>
        </p:nvGrpSpPr>
        <p:grpSpPr>
          <a:xfrm>
            <a:off x="1436760" y="2554200"/>
            <a:ext cx="4453920" cy="3629160"/>
            <a:chOff x="1436760" y="2554200"/>
            <a:chExt cx="4453920" cy="3629160"/>
          </a:xfrm>
        </p:grpSpPr>
        <p:sp>
          <p:nvSpPr>
            <p:cNvPr id="101" name="Text Box 23"/>
            <p:cNvSpPr/>
            <p:nvPr/>
          </p:nvSpPr>
          <p:spPr>
            <a:xfrm>
              <a:off x="2696760" y="2554200"/>
              <a:ext cx="3193920" cy="1922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The speed is increasing, and we can see that the Distance / Time graph curves upward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4"/>
            <p:cNvSpPr/>
            <p:nvPr/>
          </p:nvSpPr>
          <p:spPr>
            <a:xfrm flipH="1" flipV="1">
              <a:off x="1436760" y="2742840"/>
              <a:ext cx="1204560" cy="74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5"/>
            <p:cNvSpPr/>
            <p:nvPr/>
          </p:nvSpPr>
          <p:spPr>
            <a:xfrm flipH="1">
              <a:off x="1610640" y="3818160"/>
              <a:ext cx="1074600" cy="2365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6" dur="1" fill="hold"/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ba</cp:lastModifiedBy>
  <cp:lastPrinted>2000-07-24T15:04:59Z</cp:lastPrinted>
  <dcterms:modified xsi:type="dcterms:W3CDTF">2010-08-30T02:14:28Z</dcterms:modified>
  <cp:revision>187</cp:revision>
  <dc:subject/>
  <dc:title>No Slide Title</dc:title>
</cp:coreProperties>
</file>