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100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0080" y="96048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2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100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0080" y="3324600"/>
            <a:ext cx="284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332460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960480"/>
            <a:ext cx="4313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3324600"/>
            <a:ext cx="883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Click to edit the title text format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604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 u="sng">
                <a:solidFill>
                  <a:srgbClr val="660033"/>
                </a:solidFill>
                <a:uFillTx/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69A0-25C3-4B26-8EB7-3CD5F6707C5E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6C5-3167-4FA4-96BA-68B60531C011}" type="datetime">
              <a:rPr b="0" lang="en-GB" sz="1400" spc="-1" strike="noStrike" u="sng">
                <a:solidFill>
                  <a:srgbClr val="660033"/>
                </a:solidFill>
                <a:uFillTx/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Footer Placeholder 4"/>
          <p:cNvSpPr/>
          <p:nvPr/>
        </p:nvSpPr>
        <p:spPr>
          <a:xfrm>
            <a:off x="6248520" y="65530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Tahoma"/>
              </a:rPr>
              <a:t>MBA 11/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0033"/>
                </a:solidFill>
                <a:uFillTx/>
                <a:latin typeface="Tahoma"/>
              </a:rPr>
              <a:t>Physics Calculations</a:t>
            </a:r>
            <a:endParaRPr b="1" lang="en-US" sz="4400" spc="-1" strike="noStrike" u="sng">
              <a:solidFill>
                <a:srgbClr val="660033"/>
              </a:solidFill>
              <a:uFillTx/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How can I score full marks for calculation questions in an exam? (about ½ the marks in the paper!)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00"/>
              </a:spcBef>
              <a:buClr>
                <a:srgbClr val="6600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6 steps for calculation bliss!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tell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Write down what the question asks you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Formula 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Substitution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Answer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-479880">
              <a:spcBef>
                <a:spcPts val="799"/>
              </a:spcBef>
              <a:buClr>
                <a:srgbClr val="660033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Units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(1 mark)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479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2:36:08Z</dcterms:created>
  <dc:creator>tempusers</dc:creator>
  <dc:description/>
  <dc:language>en-US</dc:language>
  <cp:lastModifiedBy>Matt Baker</cp:lastModifiedBy>
  <dcterms:modified xsi:type="dcterms:W3CDTF">2011-08-30T00:24:03Z</dcterms:modified>
  <cp:revision>39</cp:revision>
  <dc:subject/>
  <dc:title>Objectives – Work and Power</dc:title>
</cp:coreProperties>
</file>