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1027"/>
          <p:cNvSpPr/>
          <p:nvPr/>
        </p:nvSpPr>
        <p:spPr>
          <a:xfrm>
            <a:off x="457200" y="914400"/>
            <a:ext cx="8077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sprinter ran in a 100 m rac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raph shows what happe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as the runner’s time for the 100 m race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runner’s average speed for the 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how the runner’s speed was changing at each of the points A, B, C, D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ich point was the speed greatest? Explain your choice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istance was needed to stop at the end of the r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7"/>
          <p:cNvSpPr/>
          <p:nvPr/>
        </p:nvSpPr>
        <p:spPr>
          <a:xfrm>
            <a:off x="457200" y="914400"/>
            <a:ext cx="692316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 the acceleration of the car from P to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v - u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1.5 – 0 /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 = 1.5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∆y / ∆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1.5 – 0 / 1.0 -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radient = a = 1.5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5484960" y="1700280"/>
            <a:ext cx="348300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027"/>
          <p:cNvSpPr/>
          <p:nvPr/>
        </p:nvSpPr>
        <p:spPr>
          <a:xfrm>
            <a:off x="457200" y="914400"/>
            <a:ext cx="85075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distance travelled by the 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P to 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ance = Area under graph = ½ b x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= ½ x 1 x 1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0.7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Q to 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ance = Area under graph = ½ b x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= ½ x 2 x 1.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1.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796000" y="2521080"/>
            <a:ext cx="2836800" cy="16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027"/>
          <p:cNvSpPr/>
          <p:nvPr/>
        </p:nvSpPr>
        <p:spPr>
          <a:xfrm>
            <a:off x="457200" y="914400"/>
            <a:ext cx="85075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average speed of the car from P to 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Speed = total d / total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Speed = (0.75 + 1.5) /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verage Speed = 0.75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68360" y="3357720"/>
            <a:ext cx="4967640" cy="29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6" name="Text Box 1027"/>
          <p:cNvSpPr/>
          <p:nvPr/>
        </p:nvSpPr>
        <p:spPr>
          <a:xfrm>
            <a:off x="457200" y="914400"/>
            <a:ext cx="807732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ar starting from rest accelerates uniformly to reach a speed of 20 m/s after 10 s. It continues at this speed for 10 s. It then accelerates again to reach 35 m/s after a further 15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ot a speed–time graph for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total time for the journ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speed of the car after 5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acceleration of the car during the last 15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distance travelled by the car in the first 20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7"/>
          <p:cNvSpPr/>
          <p:nvPr/>
        </p:nvSpPr>
        <p:spPr>
          <a:xfrm>
            <a:off x="0" y="692280"/>
            <a:ext cx="9144000" cy="61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op Tips for Drawing Grap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pencil and a ruler (1 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independent variable goes on the x axis. This is the thing you changed in the experiment . (eg. the time)  The dependent variable goes on the y axis. This is the thing you measured in the experiment. (eg. the velocity)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 both axes with the variables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and the units (eg. s and m/s)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cale on both axes must be linear.  This means that it must go up in equal amounts.  (eg. 0s, 10s, 20s, 30s, etc)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tle.  This usually is written in the form "Graph to show how the (dependent variable) depends on the (independent variable)” (eg. Graph to show how the velocity of a toy car depends on the time)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ot the points.  This must be done accurately on graph paper to the nearest small square or better (3 ma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 of best fit.  If this is a straight line, draw it with a ruler.  If this is a curve, draw it freehand. (1ma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locity/time and distance/time graphs are special as they a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he only time in Physics that you are allowed to “join the do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27"/>
          <p:cNvSpPr/>
          <p:nvPr/>
        </p:nvSpPr>
        <p:spPr>
          <a:xfrm>
            <a:off x="179280" y="914400"/>
            <a:ext cx="8640720" cy="56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car starting from rest accelerates uniformly to reach a speed of 20 m/s after 10 s. It continues at this speed for 10 s. It then accelerates again to reach 35 m/s after a further 15 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 a speed–time graph for the 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total time for the journey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35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speed of the car after 5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0m/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27"/>
          <p:cNvSpPr/>
          <p:nvPr/>
        </p:nvSpPr>
        <p:spPr>
          <a:xfrm>
            <a:off x="250920" y="914400"/>
            <a:ext cx="8785080" cy="58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car starting from rest accelerates uniformly to reach a speed of 20 m/s after 10 s. It continues at this speed for 10 s. It then accelerates again to reach 35 m/s after a further 15 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acceleration of the car during the last 15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v - u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35 – 20 /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 = 1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∆y / ∆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ient = 35 – 20 / 35 – 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radient = a = 1m/s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027"/>
          <p:cNvSpPr/>
          <p:nvPr/>
        </p:nvSpPr>
        <p:spPr>
          <a:xfrm>
            <a:off x="0" y="914400"/>
            <a:ext cx="903600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car starting from rest accelerates uniformly to reach a speed of 20 m/s after 10 s. It continues at this speed for 10 s. It then accelerates again to reach 35 m/s after a further 15 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distance travelled by the car in the first 20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ance = Area under 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ance = (½ b x h) + (l x 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= (½ x 10 x 20) + (10 x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 = 3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7"/>
          <p:cNvSpPr/>
          <p:nvPr/>
        </p:nvSpPr>
        <p:spPr>
          <a:xfrm>
            <a:off x="457200" y="914400"/>
            <a:ext cx="2819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was the runner’s time for the 100 m r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2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3335400" y="836640"/>
            <a:ext cx="54626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027"/>
          <p:cNvSpPr/>
          <p:nvPr/>
        </p:nvSpPr>
        <p:spPr>
          <a:xfrm>
            <a:off x="457200" y="914400"/>
            <a:ext cx="764388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lculate the runner’s average speed for the r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erage Speed = d /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 = 100 /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wer and 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v = 8 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GB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3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27"/>
          <p:cNvSpPr/>
          <p:nvPr/>
        </p:nvSpPr>
        <p:spPr>
          <a:xfrm>
            <a:off x="457200" y="914400"/>
            <a:ext cx="7643880" cy="74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how the runner’s speed was changing at each of the points A, B, C,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 line curved upward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reasing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 straight line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stant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= line curved downwards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reasing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reasing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 = line horizontal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zero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ero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940360" y="2273400"/>
            <a:ext cx="2735280" cy="180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027"/>
          <p:cNvSpPr/>
          <p:nvPr/>
        </p:nvSpPr>
        <p:spPr>
          <a:xfrm>
            <a:off x="457200" y="914400"/>
            <a:ext cx="7643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ich point was the speed greatest? Explain your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ed was greatest at poi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? Gradient highest at point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locity gre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050920" y="3373560"/>
            <a:ext cx="489744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027"/>
          <p:cNvSpPr/>
          <p:nvPr/>
        </p:nvSpPr>
        <p:spPr>
          <a:xfrm>
            <a:off x="457200" y="914400"/>
            <a:ext cx="7643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hat distance was needed to stop at the end of the r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4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6480360" cy="42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Text Box 1027"/>
          <p:cNvSpPr/>
          <p:nvPr/>
        </p:nvSpPr>
        <p:spPr>
          <a:xfrm>
            <a:off x="457200" y="914400"/>
            <a:ext cx="80773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 is a graph for a toy car moving in a straight 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ximum speed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does it take to reach maximum speed from 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the acceleration of the car from P to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distance travelled by the c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P to 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Q to 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average speed of the car from P to 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027"/>
          <p:cNvSpPr/>
          <p:nvPr/>
        </p:nvSpPr>
        <p:spPr>
          <a:xfrm>
            <a:off x="457200" y="914400"/>
            <a:ext cx="6923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maximum speed of the 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.5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565812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027"/>
          <p:cNvSpPr/>
          <p:nvPr/>
        </p:nvSpPr>
        <p:spPr>
          <a:xfrm>
            <a:off x="457200" y="914400"/>
            <a:ext cx="6923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w long does it take to reach maximum speed from r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1.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26"/>
          <p:cNvSpPr/>
          <p:nvPr/>
        </p:nvSpPr>
        <p:spPr>
          <a:xfrm>
            <a:off x="0" y="0"/>
            <a:ext cx="77407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tance and Velocity Graphs – Model Ans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565812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3T07:49:19Z</dcterms:modified>
  <cp:revision>199</cp:revision>
  <dc:subject/>
  <dc:title>No Slide Title</dc:title>
</cp:coreProperties>
</file>