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celeration question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80880" y="1143000"/>
            <a:ext cx="8077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changes its velocity by 30 m/s in 5 seconds, what is the acceleration of the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ike starts from rest and accelerates to 20 m/s  over a period of 6 seconds. What is the acceleration of the c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n moving at 2 m/s accelerates at a rate of 3 m/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2.5 seconds. What is the new velocity of the 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decelerates from 60 m/s to 20 m/s at a rate of -5 m/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How long does this deceleration take the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Answ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5" name="Text Box 1027"/>
          <p:cNvSpPr/>
          <p:nvPr/>
        </p:nvSpPr>
        <p:spPr>
          <a:xfrm>
            <a:off x="457200" y="914400"/>
            <a:ext cx="8077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changes its velocity by 30 m/s in 5 seconds, what is the acceleration of the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∆v / ∆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30 /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 = 6 m/s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Answ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Text Box 1027"/>
          <p:cNvSpPr/>
          <p:nvPr/>
        </p:nvSpPr>
        <p:spPr>
          <a:xfrm>
            <a:off x="457200" y="914400"/>
            <a:ext cx="807732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bike starts from rest and accelerates to 20 m/s  over a period of 6 seconds. What is the acceleration of the c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v - u / ∆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20 – 0 /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 = 3 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GB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m/s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Answ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457200" y="914400"/>
            <a:ext cx="8077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man moving at 2 m/s accelerates at a rate of 3 m/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2.5 seconds. What is the new velocity of the m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v – u / ∆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= (v – 2) /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v = 9.5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292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del Answ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457200" y="914400"/>
            <a:ext cx="8077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decelerates from 60 m/s to 20 m/s at a rate of -5 m/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How long does this deceleration take the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v – u / ∆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5 = 20 – 60 /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 = 8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1-09-06T04:18:22Z</dcterms:modified>
  <cp:revision>189</cp:revision>
  <dc:subject/>
  <dc:title>No Slide Title</dc:title>
</cp:coreProperties>
</file>