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png" ContentType="image/png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5F51-722C-4464-8AF6-42C27F3C2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4155-C5F1-4B2F-B557-09032F62D3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4B98-021C-47E0-A11C-8AB75B0EAD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D9A1-B586-442C-A1F5-1D28B290A5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848B-9583-4A63-B1D8-B17F94F443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58C1-2B10-4273-9909-5E65B91859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AE7-B21B-4D5F-93EC-2518D3E014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D9EC-DE9E-47CD-9682-F8DAA7CF0F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3396-DE56-426D-8E67-A1FD21C8DAB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FA4-2B8A-4F41-A49F-9A58D1DEDA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DC2-6DA0-4616-9EB0-7A2AB606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720-F9CB-42D3-8110-BBCADE03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400-753D-4392-A443-AAF6C6B9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6BE-0A47-4572-8AB2-25418708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334-10A3-4D2A-89CA-9B0F027F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245-9FEA-4238-BAB0-40FDBCB3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E1C-1226-4DD8-AC4E-F8D1795C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8E5-213B-4B27-94F6-F3489CF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239-38EE-4CEC-BAF2-ECC9D1D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AFD-6885-4642-A129-AA6D791D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21E-294C-4FE6-8F33-F4908917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1F30-C344-4884-82EF-D97EF0F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e7ff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314C-AC40-4F34-9E8B-BE88F2A0D51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o the skydiver (m=70kg) jumps out of a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28" descr="para1"/>
          <p:cNvPicPr/>
          <p:nvPr/>
        </p:nvPicPr>
        <p:blipFill>
          <a:blip r:embed="rId1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Line 1029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1030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1031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only force on her is her weight, 700 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an unbalanced (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sul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for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lerat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downw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56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62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80880" y="914400"/>
            <a:ext cx="8534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’s no air resistance, because she is not moving through the a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e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she falls fas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9" descr="para1-B"/>
          <p:cNvPicPr/>
          <p:nvPr/>
        </p:nvPicPr>
        <p:blipFill>
          <a:blip r:embed="rId2"/>
          <a:stretch/>
        </p:blipFill>
        <p:spPr>
          <a:xfrm>
            <a:off x="455760" y="3505320"/>
            <a:ext cx="2624040" cy="1919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380880" y="990720"/>
            <a:ext cx="8610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air resistance (drag) increas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her acceleration is l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572000" y="25146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on the air resistance equals her weigh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8" descr="para2"/>
          <p:cNvPicPr/>
          <p:nvPr/>
        </p:nvPicPr>
        <p:blipFill>
          <a:blip r:embed="rId1"/>
          <a:stretch/>
        </p:blipFill>
        <p:spPr>
          <a:xfrm>
            <a:off x="519120" y="3276720"/>
            <a:ext cx="2604960" cy="291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para2graph"/>
          <p:cNvPicPr/>
          <p:nvPr/>
        </p:nvPicPr>
        <p:blipFill>
          <a:blip r:embed="rId2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80880" y="838080"/>
            <a:ext cx="84582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 so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her  terminal velo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me to open the parachut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8532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it opens, the drag increases.  A 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 flipH="1">
            <a:off x="8532360" y="2743200"/>
            <a:ext cx="180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para3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para3"/>
          <p:cNvPicPr/>
          <p:nvPr/>
        </p:nvPicPr>
        <p:blipFill>
          <a:blip r:embed="rId2"/>
          <a:stretch/>
        </p:blipFill>
        <p:spPr>
          <a:xfrm>
            <a:off x="455760" y="2362320"/>
            <a:ext cx="2604960" cy="3875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80880" y="928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upward force is greater than the downward force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886200" y="142884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slows dow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(‘decelerates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she goes sl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para4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para4"/>
          <p:cNvPicPr/>
          <p:nvPr/>
        </p:nvPicPr>
        <p:blipFill>
          <a:blip r:embed="rId2"/>
          <a:stretch/>
        </p:blipFill>
        <p:spPr>
          <a:xfrm>
            <a:off x="452520" y="2432160"/>
            <a:ext cx="2604960" cy="3994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380880" y="3049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drag is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til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80880" y="14479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n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 new, slower terminal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e lands on the grou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9" descr="para5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para5"/>
          <p:cNvPicPr/>
          <p:nvPr/>
        </p:nvPicPr>
        <p:blipFill>
          <a:blip r:embed="rId2"/>
          <a:stretch/>
        </p:blipFill>
        <p:spPr>
          <a:xfrm>
            <a:off x="228600" y="3429000"/>
            <a:ext cx="3087720" cy="24685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380880" y="762120"/>
            <a:ext cx="85345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her weight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qu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upward push from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r speed is now zero, …and because the forces are balanced it stays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6:50:13Z</dcterms:created>
  <dc:creator>Andy Darvill, Keith Johnson</dc:creator>
  <dc:description/>
  <dc:language>en-US</dc:language>
  <cp:lastModifiedBy>Matt Baker</cp:lastModifiedBy>
  <dcterms:modified xsi:type="dcterms:W3CDTF">2011-09-15T02:39:12Z</dcterms:modified>
  <cp:revision>73</cp:revision>
  <dc:subject/>
  <dc:title>Parachute &amp; Terminal Velo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