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91A-A457-4FDA-B97D-A71F2BD6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F64-7481-4FFE-9C4B-7A14A203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3FF-65A0-491A-8EB8-101AFF0C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4C06-E1BE-4EBD-83B0-2015DB4F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CA7-51FC-4BCC-A450-A76FFDDC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AABC-2152-47BE-8720-2A7934DC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ECE6-B2D3-410E-B88D-79A8B5F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F1D7-7DB2-4647-833A-A2F996B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5D27-37E5-424A-9AD6-3AC25F5D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CEA-1A57-4C7D-BFEB-049D3758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FB6-D601-40DA-A482-F6403CD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4E92-7FC3-422F-AD10-A1E1CD28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6EC2-7AA0-48D8-AE8D-BD3E840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3CFF-7947-4DFF-BDBF-868C5797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FD05-B86E-41F1-9203-725E8E1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72D1-A068-4F89-9740-ACE3FFA2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F7C5-8E1E-4D9B-AE16-E7D66F82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E18C7-DA95-4F8A-8C9D-4B236AAF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68C1-0604-4132-A0EB-7153FEA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06B3-48A7-4668-9905-D61247F6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30E52-F194-4215-A385-3B6C9B2B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3B346-0EE4-40C9-A8FE-9C767E3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B69-DB25-43BD-8312-7A04433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AD51-6B23-476D-8B52-5675C08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34D9A-F021-4BDE-9901-42A5B3F5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0027-9FAC-4E63-A9D1-ED4C3102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9859-4E57-4B17-8CAC-2B51300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E57E-3BCD-46E0-99DF-CDC6C9AC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16E5-21CD-4A0A-B4B3-187AB431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7AC5-7BE6-4D69-B779-F8BDDCBA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33D44-39DE-49F5-9E3E-3BDC841D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B435-8B51-42B8-983A-B8BC337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F7675-6A82-4399-AD9F-28D41602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A46-CD7A-4B0A-8C5F-2EF796A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9F46-DBBB-4A4E-8649-845836B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73C7-8999-479F-A237-615FB65C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DBC1-A388-4D17-B7B2-298A323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E62F-D1A1-4AAA-85E4-940021AE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2D537-9F0C-4F07-A1C6-E0287D6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D28C-BE72-44AC-8E1F-C8625A22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DD930-33C2-46FC-995F-2FC2BF46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CE80-7B9D-40E7-A5A3-823DD990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7A5B4-84F0-49D8-9BDC-CB693CA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40B47-FE9C-4E03-814E-8B2E6D7A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D9FA-145E-4FAE-8EE5-6D56778B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BD87-A9F4-4974-94BA-F8DD9802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D049-50CA-4291-8862-22682865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C6AD7-3D7F-4256-91B2-A8C5734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1AF1-ADFF-4258-A352-FA8FF1E5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ACC23-B19B-481C-B834-58EF82F2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E62DE-A682-41FB-A427-4BAB49E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EF903-A312-42C2-A4B5-80A14091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4FF1-5667-49B3-A33E-9F2ED28B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96323-77E5-4A43-8974-FF616160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F9C0-E3FA-4398-A077-DC03C29B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CA3-3322-4731-A1F7-D4CB306F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C6F80-B6AD-4B91-876F-912F4E68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2065-6645-48CB-9857-A63249B0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2EAD-1AFE-4CA1-B61F-C0F45323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4129F-2C22-478F-97EB-088511A4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DBF5-BA98-4559-BE2D-DA455990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A7CEB-3318-45AC-88D9-D88C5A9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D9B9-0ABD-4D43-83C9-11C34B17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7EF00-D1F2-4D57-A108-4DFB9E2A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8A9F-C687-4DFD-B184-6CBC106E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D0B1D-E53E-4208-B96B-60F7FEB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703-841A-4682-B39B-CF67D29F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6C7F-B3F9-4F58-A992-3483F86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89AE8-F55E-40FC-9A5B-5FB4155A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81B7F-8DF7-4DAE-8170-AE1776CB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44-2B72-49A5-AAAE-1C617B8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71E-E686-4B95-A163-7CF44145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2F9B-1A22-4DEA-86CF-0A924B80C8E8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256C-F18E-46EA-BF53-F9F51C688A26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215-0A35-4A4B-BA9D-EDCF706E0525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1AF-A781-4B8B-B1C4-5EED0F24DAB8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5D40-362B-4D73-9122-435B3C05014F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F84-58A2-43DF-84DB-FB546557608D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AB1-194E-4559-B12C-EB45C0D3B131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441C-6AA6-4BC3-A606-ADF57AE9946F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5FB9-9FA3-4F45-B07F-9D0B0C5C3731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7DA2-0B61-4359-940D-558C0A07185F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2AC-B936-4F53-8EBB-E76FE6ED5321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198-FC5A-4416-9222-5DBCA45677BB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When we use a long spanner we increase the perpendicular distance from the force to the pivo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undo the nut the moment will be the same whatever length spanner we 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with a long spanner, the mechanic can use less for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7A97-5A05-4113-9DFF-C418A8822D3E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6"/>
          <p:cNvSpPr/>
          <p:nvPr/>
        </p:nvSpPr>
        <p:spPr>
          <a:xfrm>
            <a:off x="79246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2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If the door handle is placed well away from the hinge, the perpendicular distance from the force to the pivot is lar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To open the door, the moment will be the same wherever the handle 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So if the handle is far away from the hinge, we can use less force to open the do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BD66-2C42-4E8C-BE9E-62F13185FB0E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Moment = 200N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Moment = 40N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6F26-B55E-4D40-A4B2-0D0C897E6145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4:56:06Z</dcterms:modified>
  <cp:revision>41</cp:revision>
  <dc:subject/>
  <dc:title>4C Work and Power</dc:title>
</cp:coreProperties>
</file>