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BDB-C544-4AF1-B2EF-225F1285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3E8-3000-4D1C-959A-34D329B3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ABF-9956-4F76-8434-A574F145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3AF-1CD7-483F-B32C-48013AD8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3345-BD8B-4A13-A541-12B0AD49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51F2-43D3-40D3-A537-85D929AE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A961-9D2A-4D4E-B649-D49682C3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632F-BCF0-4582-A3D3-60F0A94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E852-C894-48F4-A990-6F2243E4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D021-1663-42E5-921D-8F3BBDCB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ADE7-8BA2-42ED-9D41-A3412347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3D4-C30D-41E0-997E-B81CD6BC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DEF3-99F6-4264-B5F7-13766E6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1312-6616-4FD3-8EE6-948DF77D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9A2D-CF74-4E8D-AA5F-44340C99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CF6D-820D-4D46-9EFF-A209C1C5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19E3-438C-49BB-BDA5-7EBE970B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4F47-67A8-434F-A2D5-DC40095A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5B78F-D79A-483D-B756-0B54D8C5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6D484-CF06-477F-BC39-2943B3C7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39DD-8ABC-470E-8D27-C6AE6992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0171-056E-444F-AD55-0735CD21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678-2B11-4A1A-AFBD-67EF40BE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EA09-9714-4B59-8DEA-63173884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ADE91-1955-4CC7-88DC-10CFA896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E65C6-4911-412C-9C4F-BC02D424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D8B6-531E-4BC5-9599-F2D85436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9612-F359-4A02-B7FE-8803105A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9D59-ECCB-4621-A5D8-0002A54B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ADA6-1DBE-48E4-9139-7955D73B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25959-825D-4176-9B7B-E827BDAC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AA55D-CE49-4D9F-98C6-528B74CF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78DE1-CE7A-4C1F-9830-F8F5CD24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F892-C2CC-4E45-9409-D96747AC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3C51E-D66B-4BC7-8807-4AE1FC72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CCD38-DF56-425C-B646-71C6AB5A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E3441-A5C4-4C10-9DEE-8946F580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A98DA-F86E-4131-BB3C-2F20927A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392C-5760-4266-9FD2-24404B8A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462ED-6E81-4C28-8A01-76317F9E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F1C12-0E33-475D-B085-DBAD9516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D016-F005-42D9-A7F5-0CB10FC6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BF711-7B03-460C-BD74-56399424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79CFC-888A-48B3-99C1-3B8F2D81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03B-D192-46EA-8B42-5967BCCE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8187-6A9A-4127-A6D4-1DBE208D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DC3F1-D905-4C99-8320-0CF15CD1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982F9-A29C-47F7-A6C9-110CA65D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56AE-8341-4699-8104-69FECB0F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7D942-7740-4421-9D4A-969E6BAE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339F-CA1E-4F62-9E5C-B5970E5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2D5F9-591D-48DF-9000-DD4044F6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CD77A-9859-46E4-ABCC-3EF8FDD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62936-FE21-4237-AB5C-3F90E992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048E-A53E-4E6C-BDC8-60680FC8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CFA9-F967-4982-954F-740DAC2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8F996-4603-4DB8-9DDD-25B17E4C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8731C-B543-4329-B383-D0D6CFA3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EB27B-545C-4B54-BFD8-2CEB4B95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FCD6-58BC-473B-8ECD-A71ECBB4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064D4-A96C-4E39-AEC7-81A19934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B28A-28C7-4457-9A0F-19BA70F5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90ADE-D3AD-4721-92DB-38BF939C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70F3F-4FA2-4716-9E7F-3989668A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3E517-8014-413A-A946-9DFDEB6C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7AD72-B16D-481A-8E7C-5CA45665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4A1-255E-41B5-8C47-55614790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1CA65-8A92-439A-A905-0DC367BB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C5A85-6EEA-43EE-BDCF-6ACE448C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E0A29-7B07-4BC8-B739-B8F64E03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BF0-DA12-4B0F-A29F-C09D3A52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D62C-36CD-4215-A017-9109A9E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36B0-B865-4C67-B6A6-76AB3DE8BAE6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C984-1B02-4D91-99D5-1FFE4DCEE5BB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99EA-767E-43ED-9F6A-D181FD4C74F4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F4EA-2A3A-4EA2-81C9-E9F0EA34DC76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70F9-B066-4AC1-87AB-364AF88E07AE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EDE-55DA-4C6C-8528-B7874A2F70C6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A632-3EC8-40D9-AA88-469D1193278C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9E4E-B59B-4730-8EE7-B9C28A4503AB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1B27-14DA-4091-B667-048C3DCE7C1E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C7F6-4A18-4E90-A3B2-4B5DD2E7C782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5BC4-BB01-4008-810C-3BDF78A03DEA}" type="datetime"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79246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Times New Roman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598120" y="608904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EA6D-DEB1-4D39-8150-427F28ADD29A}" type="slidenum">
              <a:rPr b="0" lang="en-GB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75960" y="75960"/>
            <a:ext cx="8893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3DAA-BC26-4358-ADAF-7F97A017B92E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990720" y="685800"/>
          <a:ext cx="7619760" cy="487692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  <a:gridCol w="1905120"/>
                <a:gridCol w="1904760"/>
              </a:tblGrid>
              <a:tr h="202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ize of load (tonn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aximum length of jib (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Mo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275" name="TextBox 6"/>
          <p:cNvSpPr/>
          <p:nvPr/>
        </p:nvSpPr>
        <p:spPr>
          <a:xfrm>
            <a:off x="6781680" y="266400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"/>
          <p:cNvSpPr/>
          <p:nvPr/>
        </p:nvSpPr>
        <p:spPr>
          <a:xfrm>
            <a:off x="6781680" y="35020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8"/>
          <p:cNvSpPr/>
          <p:nvPr/>
        </p:nvSpPr>
        <p:spPr>
          <a:xfrm>
            <a:off x="6781680" y="422748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6781680" y="4876920"/>
            <a:ext cx="24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3048120" y="26640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3048120" y="346536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3048120" y="4227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3048120" y="48769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2895480" y="79848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of load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6"/>
          <p:cNvSpPr/>
          <p:nvPr/>
        </p:nvSpPr>
        <p:spPr>
          <a:xfrm>
            <a:off x="380880" y="5702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b.  All of the moments are the same.  1,200,000Nm is the maximum moment that the crane is saf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5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Moment = F  x d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1,200,000 = 240,000 x d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d = 5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6FC4-B01B-4B8C-935E-030E1C038FC4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4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= 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X x 0.2m = 4N x 0.25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X = 5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4b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= (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) + (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3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3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) 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Y x 0.25m = (1N x 0.2m) + (2N x 0.40m)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Y = 4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3E33-8080-4FBB-94F2-E184722A02B7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PFY p.96, Model Answer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9b2d1f"/>
                </a:solidFill>
                <a:uFillTx/>
                <a:latin typeface="Perpetua"/>
              </a:rPr>
              <a:t>Question 4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Perpetua"/>
              </a:rPr>
              <a:t>Formula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1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= F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x d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2</a:t>
            </a:r>
            <a:r>
              <a:rPr b="0" lang="en-GB" sz="2800" spc="-1" strike="noStrike" baseline="-25000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ubstitutio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2N x 0.1m = Z x 0.2m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1 mark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swer+Units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9b2d1f"/>
                </a:solidFill>
                <a:uFillTx/>
                <a:latin typeface="Perpetua"/>
              </a:rPr>
              <a:t>Z = 1N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9b2d1f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2 mark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8192-C118-4C5C-B65C-609105845B3C}" type="datetime">
              <a:rPr b="0" lang="en-GB" sz="1400" spc="-1" strike="noStrike">
                <a:solidFill>
                  <a:srgbClr val="696464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6"/>
          <p:cNvSpPr/>
          <p:nvPr/>
        </p:nvSpPr>
        <p:spPr>
          <a:xfrm>
            <a:off x="7924680" y="6400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96464"/>
                </a:solidFill>
                <a:latin typeface="Arial"/>
              </a:rPr>
              <a:t>MBA 10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0-31T05:07:30Z</dcterms:modified>
  <cp:revision>41</cp:revision>
  <dc:subject/>
  <dc:title>4C Work and Power</dc:title>
</cp:coreProperties>
</file>