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75DE-EA8C-4585-90E8-C09B91B436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F9E8-80C8-493A-AB26-42E03C8323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a FLASH animation.  Please drag and drop the masses onto the ‘see-saw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2">
            <a:hlinkClick r:id="" action="ppaction://hlinkshowjump?jump=nextslide"/>
          </p:cNvPr>
          <p:cNvSpPr/>
          <p:nvPr/>
        </p:nvSpPr>
        <p:spPr>
          <a:xfrm>
            <a:off x="855972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3">
            <a:hlinkClick r:id="" action="ppaction://hlinkshowjump?jump=previousslide"/>
          </p:cNvPr>
          <p:cNvSpPr/>
          <p:nvPr/>
        </p:nvSpPr>
        <p:spPr>
          <a:xfrm rot="10801200">
            <a:off x="17784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inciple of moment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676520" y="1066680"/>
            <a:ext cx="6095880" cy="39888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ticlockwise moments = Clockwise mo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66760" y="3873600"/>
            <a:ext cx="82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re should a force of 50N be positioned to balance the see-sa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96720" y="4273560"/>
            <a:ext cx="8137800" cy="33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lanced, so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ti-clockwise moments = Clockwise mo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x 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= 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x 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25 x 2 = 50 x d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</a:t>
            </a:r>
            <a:r>
              <a:rPr b="0" lang="en-GB" sz="2000" spc="-1" strike="noStrike" u="sng" baseline="-25000">
                <a:solidFill>
                  <a:srgbClr val="000000"/>
                </a:solidFill>
                <a:uFillTx/>
                <a:latin typeface="Arial"/>
                <a:ea typeface="Arial"/>
              </a:rPr>
              <a:t>c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= 1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4343400" y="2438280"/>
            <a:ext cx="685800" cy="6858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666880" y="2438280"/>
            <a:ext cx="41148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2209680" y="35053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5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274320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289548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4"/>
          <p:cNvSpPr/>
          <p:nvPr/>
        </p:nvSpPr>
        <p:spPr>
          <a:xfrm>
            <a:off x="4876920" y="20574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3276720" y="16635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876920" y="16635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5791320" y="2514600"/>
            <a:ext cx="0" cy="83808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525780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6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11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4800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inciple of mo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0880" y="7621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g and drop any of the masses onto the “see – saw” and try to get it to balance. The masses are in kilograms and the distance in met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flash icon"/>
          <p:cNvPicPr/>
          <p:nvPr/>
        </p:nvPicPr>
        <p:blipFill>
          <a:blip r:embed="rId1"/>
          <a:stretch/>
        </p:blipFill>
        <p:spPr>
          <a:xfrm>
            <a:off x="7410600" y="12384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ShockwaveFlash1"/>
          <p:cNvGraphicFramePr/>
          <p:nvPr/>
        </p:nvGraphicFramePr>
        <p:xfrm>
          <a:off x="685800" y="1523880"/>
          <a:ext cx="7772400" cy="485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523880"/>
                    <a:ext cx="7772400" cy="4853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716360" cy="54936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rane operator activity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14360" y="797040"/>
            <a:ext cx="819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should the loading platform be on the loading arm to carry each load safe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flash icon"/>
          <p:cNvPicPr/>
          <p:nvPr/>
        </p:nvPicPr>
        <p:blipFill>
          <a:blip r:embed="rId1"/>
          <a:stretch/>
        </p:blipFill>
        <p:spPr>
          <a:xfrm>
            <a:off x="7324560" y="228600"/>
            <a:ext cx="447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ShockwaveFlash1"/>
          <p:cNvGraphicFramePr/>
          <p:nvPr/>
        </p:nvGraphicFramePr>
        <p:xfrm>
          <a:off x="684360" y="1628640"/>
          <a:ext cx="7632720" cy="453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628640"/>
                    <a:ext cx="763272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18:52:53Z</dcterms:created>
  <dc:creator>Boardworks Ltd</dc:creator>
  <dc:description/>
  <dc:language>en-US</dc:language>
  <cp:lastModifiedBy>Matt Baker</cp:lastModifiedBy>
  <cp:lastPrinted>2000-07-24T15:04:59Z</cp:lastPrinted>
  <dcterms:modified xsi:type="dcterms:W3CDTF">2011-10-31T10:20:13Z</dcterms:modified>
  <cp:revision>193</cp:revision>
  <dc:subject/>
  <dc:title>No Slide Title</dc:title>
</cp:coreProperties>
</file>