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855972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 rot="10801200">
            <a:off x="17784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9718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sti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5105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put a force on an object making the object change shape and it stays the same shape after you remove the force we say the object is pla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lastic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ShockwaveFlash1"/>
          <p:cNvGraphicFramePr/>
          <p:nvPr/>
        </p:nvGraphicFramePr>
        <p:xfrm>
          <a:off x="3048120" y="152280"/>
          <a:ext cx="48765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280"/>
                    <a:ext cx="4876560" cy="4800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7410600" y="149400"/>
            <a:ext cx="51120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asti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5029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put a force on an object making the object change shape and it returns to its original shape after you remove the force we say the object is ela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 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ShockwaveFlash1"/>
          <p:cNvGraphicFramePr/>
          <p:nvPr/>
        </p:nvGraphicFramePr>
        <p:xfrm>
          <a:off x="3276720" y="0"/>
          <a:ext cx="46479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0"/>
                    <a:ext cx="4647960" cy="4952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410600" y="123840"/>
            <a:ext cx="51120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astic and plasti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3880" y="2057400"/>
          <a:ext cx="5715000" cy="4013280"/>
        </p:xfrm>
        <a:graphic>
          <a:graphicData uri="http://schemas.openxmlformats.org/drawingml/2006/table">
            <a:tbl>
              <a:tblPr/>
              <a:tblGrid>
                <a:gridCol w="2857680"/>
                <a:gridCol w="28573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533520" y="914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four examples of plastic and elastic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IT CITY</cp:lastModifiedBy>
  <cp:lastPrinted>2000-07-24T15:04:59Z</cp:lastPrinted>
  <dcterms:modified xsi:type="dcterms:W3CDTF">2005-11-20T04:44:05Z</dcterms:modified>
  <cp:revision>191</cp:revision>
  <dc:subject/>
  <dc:title>No Slide Title</dc:title>
</cp:coreProperties>
</file>