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1440" y="6688080"/>
            <a:ext cx="9144000" cy="169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-9360" y="6611760"/>
            <a:ext cx="9145440" cy="748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AutoShape 12">
            <a:hlinkClick r:id="" action="ppaction://hlinkshowjump?jump=nextslide"/>
          </p:cNvPr>
          <p:cNvSpPr/>
          <p:nvPr/>
        </p:nvSpPr>
        <p:spPr>
          <a:xfrm>
            <a:off x="8550360" y="6208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AutoShape 13">
            <a:hlinkClick r:id="" action="ppaction://hlinkshowjump?jump=previousslide"/>
          </p:cNvPr>
          <p:cNvSpPr/>
          <p:nvPr/>
        </p:nvSpPr>
        <p:spPr>
          <a:xfrm rot="10801200">
            <a:off x="168120" y="62078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4"/>
          <p:cNvSpPr/>
          <p:nvPr/>
        </p:nvSpPr>
        <p:spPr>
          <a:xfrm>
            <a:off x="7023240" y="662796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© Boardworks Ltd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5" descr="boardworks_logo"/>
          <p:cNvPicPr/>
          <p:nvPr/>
        </p:nvPicPr>
        <p:blipFill>
          <a:blip r:embed="rId2"/>
          <a:srcRect l="4903" t="7433" r="6936" b="10843"/>
          <a:stretch/>
        </p:blipFill>
        <p:spPr>
          <a:xfrm>
            <a:off x="7924680" y="0"/>
            <a:ext cx="1219320" cy="74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6094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33520" y="99072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fficiency is  a measure of how good a device is at changing energy from one form to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33520" y="23623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devices waste energy, so the efficiency of a device is never 10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33520" y="35053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ergy efficient light bulbs are more efficient than normal light bulbs because they w____ less energy,  and more of the e______ energy that they are supplied with is converted into l___ energy and not h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6172200" y="2438280"/>
            <a:ext cx="19051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" descr="halogen bulb 3"/>
          <p:cNvPicPr/>
          <p:nvPr/>
        </p:nvPicPr>
        <p:blipFill>
          <a:blip r:embed="rId1"/>
          <a:stretch/>
        </p:blipFill>
        <p:spPr>
          <a:xfrm>
            <a:off x="5791320" y="1143000"/>
            <a:ext cx="2209680" cy="9954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48" name="Text Box 11"/>
          <p:cNvSpPr/>
          <p:nvPr/>
        </p:nvSpPr>
        <p:spPr>
          <a:xfrm>
            <a:off x="3732120" y="384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1549440" y="42181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2613960" y="45752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5542200" y="46101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76920" cy="5335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for a bulb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066680"/>
            <a:ext cx="393696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If you have a filament bulb and it is supplied with 100J of electrical energy which it converts to 5J of light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How much energy is wa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In what form is the energy wa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What is the efficiency of the bul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284720" y="3651120"/>
            <a:ext cx="5796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Efficiency = 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</a:rPr>
              <a:t>Useful E</a:t>
            </a:r>
            <a:r>
              <a:rPr b="0" lang="en-GB" sz="2400" spc="-1" strike="noStrike" u="sng" baseline="-25000">
                <a:solidFill>
                  <a:srgbClr val="3333ff"/>
                </a:solidFill>
                <a:uFillTx/>
                <a:latin typeface="Arial"/>
              </a:rPr>
              <a:t>out</a:t>
            </a: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 x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Total E</a:t>
            </a:r>
            <a:r>
              <a:rPr b="0" lang="en-GB" sz="2400" spc="-1" strike="noStrike" baseline="-25000">
                <a:solidFill>
                  <a:srgbClr val="3333ff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= 5J / 100J x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</a:rPr>
              <a:t>=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halogen bulb 3"/>
          <p:cNvPicPr/>
          <p:nvPr/>
        </p:nvPicPr>
        <p:blipFill>
          <a:blip r:embed="rId1"/>
          <a:stretch/>
        </p:blipFill>
        <p:spPr>
          <a:xfrm>
            <a:off x="4724280" y="1295280"/>
            <a:ext cx="3765600" cy="169560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56" name="Line 7"/>
          <p:cNvSpPr/>
          <p:nvPr/>
        </p:nvSpPr>
        <p:spPr>
          <a:xfrm flipH="1">
            <a:off x="1981080" y="38098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2971800" y="47242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98108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95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3074040" y="4336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19920" cy="6094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for a radio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28600" y="1143000"/>
            <a:ext cx="393696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If you have a radio and it is supplied with 300J of electrical energy which it converts to 96J of sound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How much energy is wa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In what form is the energy wa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What is the efficiency of the rad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960720" y="3645000"/>
            <a:ext cx="5796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Efficiency = 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</a:rPr>
              <a:t>Useful E</a:t>
            </a:r>
            <a:r>
              <a:rPr b="0" lang="en-GB" sz="2400" spc="-1" strike="noStrike" u="sng" baseline="-25000">
                <a:solidFill>
                  <a:srgbClr val="3333ff"/>
                </a:solidFill>
                <a:uFillTx/>
                <a:latin typeface="Arial"/>
              </a:rPr>
              <a:t>out</a:t>
            </a: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 x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Total E</a:t>
            </a:r>
            <a:r>
              <a:rPr b="0" lang="en-GB" sz="2400" spc="-1" strike="noStrike" baseline="-25000">
                <a:solidFill>
                  <a:srgbClr val="3333ff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= 96J / 300J x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</a:rPr>
              <a:t>= 3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 flipH="1">
            <a:off x="2057400" y="3886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 flipH="1">
            <a:off x="3047760" y="480708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05740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204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150000" y="44197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1" descr="radio_tape"/>
          <p:cNvPicPr/>
          <p:nvPr/>
        </p:nvPicPr>
        <p:blipFill>
          <a:blip r:embed="rId1"/>
          <a:stretch/>
        </p:blipFill>
        <p:spPr>
          <a:xfrm>
            <a:off x="5791320" y="1295280"/>
            <a:ext cx="2286000" cy="15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105520" cy="6094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for a TV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1143000"/>
            <a:ext cx="39369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If you have a television and it converts 2 000J of electrical energy into useful energy at an efficiency of 65%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What useful energy do get from a T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How much useful energy do you g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809880" y="3645000"/>
            <a:ext cx="542772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Efficiency = 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</a:rPr>
              <a:t>Useful E</a:t>
            </a:r>
            <a:r>
              <a:rPr b="0" lang="en-GB" sz="2400" spc="-1" strike="noStrike" u="sng" baseline="-25000">
                <a:solidFill>
                  <a:srgbClr val="3333ff"/>
                </a:solidFill>
                <a:uFillTx/>
                <a:latin typeface="Arial"/>
              </a:rPr>
              <a:t>out</a:t>
            </a: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 x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Total E</a:t>
            </a:r>
            <a:r>
              <a:rPr b="0" lang="en-GB" sz="2400" spc="-1" strike="noStrike" baseline="-25000">
                <a:solidFill>
                  <a:srgbClr val="3333ff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65 = Useful E</a:t>
            </a:r>
            <a:r>
              <a:rPr b="0" lang="en-GB" sz="2400" spc="-1" strike="noStrike" baseline="-25000">
                <a:solidFill>
                  <a:srgbClr val="3333ff"/>
                </a:solidFill>
                <a:latin typeface="Arial"/>
              </a:rPr>
              <a:t>out </a:t>
            </a: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x 100 /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</a:rPr>
              <a:t>Useful E</a:t>
            </a:r>
            <a:r>
              <a:rPr b="0" lang="en-GB" sz="2400" spc="-1" strike="noStrike" u="sng" baseline="-25000">
                <a:solidFill>
                  <a:srgbClr val="3333ff"/>
                </a:solidFill>
                <a:uFillTx/>
                <a:latin typeface="Arial"/>
              </a:rPr>
              <a:t>out</a:t>
            </a:r>
            <a:r>
              <a:rPr b="0" lang="en-GB" sz="2400" spc="-1" strike="noStrike" u="sng">
                <a:solidFill>
                  <a:srgbClr val="3333ff"/>
                </a:solidFill>
                <a:uFillTx/>
                <a:latin typeface="Arial"/>
              </a:rPr>
              <a:t> = 1,300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5"/>
          <p:cNvSpPr/>
          <p:nvPr/>
        </p:nvSpPr>
        <p:spPr>
          <a:xfrm flipH="1">
            <a:off x="761760" y="437184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685800" y="3962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ff"/>
                </a:solidFill>
                <a:latin typeface="Arial"/>
              </a:rPr>
              <a:t>Light and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1" descr="TV"/>
          <p:cNvPicPr/>
          <p:nvPr/>
        </p:nvPicPr>
        <p:blipFill>
          <a:blip r:embed="rId1"/>
          <a:stretch/>
        </p:blipFill>
        <p:spPr>
          <a:xfrm>
            <a:off x="5486400" y="1143000"/>
            <a:ext cx="1905120" cy="187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95680" cy="5335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lling objects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71680" y="9144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n object falls in a gravitational fie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685800" y="1600200"/>
            <a:ext cx="6934320" cy="137376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avitational Potential Energy (GPE) at the top equals the Kinetic Energy (KE) of the object just before it hits the g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09480" y="3581280"/>
            <a:ext cx="4419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if a diver has 4 000J of GPE on top of a cliff, how much KE will she have just before she hits the s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5105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4 000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716360" y="3598920"/>
            <a:ext cx="221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Assuming no energy is lost heating up the air she falls through by fr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 flipV="1">
            <a:off x="7162920" y="3884040"/>
            <a:ext cx="1143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Webdings"/>
                <a:ea typeface="Webdings"/>
              </a:rPr>
              <a:t>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7162920" y="4114800"/>
            <a:ext cx="1218960" cy="16002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9T18:52:53Z</dcterms:created>
  <dc:creator>Boardworks Ltd</dc:creator>
  <dc:description/>
  <dc:language>en-US</dc:language>
  <cp:lastModifiedBy>Matt Baker</cp:lastModifiedBy>
  <cp:lastPrinted>2000-07-24T15:04:59Z</cp:lastPrinted>
  <dcterms:modified xsi:type="dcterms:W3CDTF">2012-05-10T02:05:58Z</dcterms:modified>
  <cp:revision>85</cp:revision>
  <dc:subject/>
  <dc:title>KS4 Energy transfers</dc:title>
</cp:coreProperties>
</file>