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-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-1260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5">
            <a:hlinkClick r:id="" action="ppaction://hlinkshowjump?jump=nextslide"/>
          </p:cNvPr>
          <p:cNvSpPr/>
          <p:nvPr/>
        </p:nvSpPr>
        <p:spPr>
          <a:xfrm>
            <a:off x="85899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6">
            <a:hlinkClick r:id="" action="ppaction://hlinkshowjump?jump=previousslide"/>
          </p:cNvPr>
          <p:cNvSpPr/>
          <p:nvPr/>
        </p:nvSpPr>
        <p:spPr>
          <a:xfrm rot="10801200">
            <a:off x="20808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008840" y="6659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e mirro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Rectangle 14"/>
          <p:cNvSpPr/>
          <p:nvPr/>
        </p:nvSpPr>
        <p:spPr>
          <a:xfrm>
            <a:off x="2514600" y="3962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5"/>
          <p:cNvSpPr/>
          <p:nvPr/>
        </p:nvSpPr>
        <p:spPr>
          <a:xfrm rot="16201200">
            <a:off x="1711800" y="3770640"/>
            <a:ext cx="4040280" cy="1828800"/>
          </a:xfrm>
          <a:prstGeom prst="parallelogram">
            <a:avLst>
              <a:gd name="adj" fmla="val 55231"/>
            </a:avLst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3124080" y="3200400"/>
            <a:ext cx="228600" cy="99072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2895480" y="3962520"/>
            <a:ext cx="228600" cy="2286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5029200" y="2895480"/>
            <a:ext cx="3657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you predict the letter ‘L’ would look like in a mirr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5029200" y="4191120"/>
            <a:ext cx="3581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do you predict the letter ‘P’ would look like in a mirr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2286000" y="3200400"/>
            <a:ext cx="228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3"/>
          <p:cNvSpPr/>
          <p:nvPr/>
        </p:nvSpPr>
        <p:spPr>
          <a:xfrm>
            <a:off x="2209680" y="4648320"/>
            <a:ext cx="22860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3200400" y="4648320"/>
            <a:ext cx="228600" cy="99036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6"/>
          <p:cNvSpPr/>
          <p:nvPr/>
        </p:nvSpPr>
        <p:spPr>
          <a:xfrm rot="5399400">
            <a:off x="2133360" y="4572000"/>
            <a:ext cx="533160" cy="685800"/>
          </a:xfrm>
          <a:custGeom>
            <a:avLst/>
            <a:gdLst>
              <a:gd name="textAreaLeft" fmla="*/ 0 w 533160"/>
              <a:gd name="textAreaRight" fmla="*/ 533520 w 53316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7"/>
          <p:cNvSpPr/>
          <p:nvPr/>
        </p:nvSpPr>
        <p:spPr>
          <a:xfrm rot="16186800">
            <a:off x="2971800" y="4571640"/>
            <a:ext cx="533160" cy="685800"/>
          </a:xfrm>
          <a:custGeom>
            <a:avLst/>
            <a:gdLst>
              <a:gd name="textAreaLeft" fmla="*/ 0 w 533160"/>
              <a:gd name="textAreaRight" fmla="*/ 533520 w 533160"/>
              <a:gd name="textAreaTop" fmla="*/ 0 h 685800"/>
              <a:gd name="textAreaBottom" fmla="*/ 24480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al Inversi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990720"/>
            <a:ext cx="5715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happens to writing in a mirr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57200" y="1752480"/>
            <a:ext cx="6781680" cy="825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The writing in a mirror is </a:t>
            </a:r>
            <a:r>
              <a:rPr b="1" lang="en-GB" sz="2400" spc="-1" strike="noStrike">
                <a:solidFill>
                  <a:srgbClr val="6600cc"/>
                </a:solidFill>
                <a:latin typeface="Arial"/>
              </a:rPr>
              <a:t>laterally inverted </a:t>
            </a: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or back to fr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r-view mirro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200400" y="1447920"/>
            <a:ext cx="3808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3880" y="2057400"/>
            <a:ext cx="38862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 flipH="1" flipV="1">
            <a:off x="1751760" y="2057400"/>
            <a:ext cx="3429000" cy="1295280"/>
          </a:xfrm>
          <a:custGeom>
            <a:avLst/>
            <a:gdLst>
              <a:gd name="textAreaLeft" fmla="*/ 714240 w 3429000"/>
              <a:gd name="textAreaRight" fmla="*/ 2714760 w 3429000"/>
              <a:gd name="textAreaTop" fmla="*/ 269640 h 1295280"/>
              <a:gd name="textAreaBottom" fmla="*/ 102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638680" y="1295280"/>
            <a:ext cx="2590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e you are driving along in your car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638680" y="2971800"/>
            <a:ext cx="2667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en you look up and see the following in your mirror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2362320" y="2590920"/>
            <a:ext cx="2114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mbulance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12"/>
          <p:cNvSpPr txBox="1"/>
          <p:nvPr/>
        </p:nvSpPr>
        <p:spPr>
          <a:xfrm>
            <a:off x="999360" y="5108400"/>
            <a:ext cx="27241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mbul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4038480" y="5029200"/>
            <a:ext cx="40388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your knowledge of mirrors how must the writing be written on the vehi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46483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in Mi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33520" y="106668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How fast can you read the words on the next sl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5237280" y="4056120"/>
          <a:ext cx="27241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7280" y="4056120"/>
                    <a:ext cx="27241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38098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1294560" y="5410080"/>
            <a:ext cx="6248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No Cheating</a:t>
            </a:r>
            <a:endParaRPr b="1" lang="en-US" sz="2400" spc="1" strike="noStrike">
              <a:ln w="0">
                <a:noFill/>
              </a:ln>
              <a:solidFill>
                <a:srgbClr val="00ff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838080" y="1143000"/>
            <a:ext cx="7315200" cy="382284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o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an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at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ike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ark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Fin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tter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ndy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44956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age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80880" y="1158840"/>
            <a:ext cx="25146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1.  Fix a plane mirror along the centre of a piece of A4 paper and draw arou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Place a pin as the object in front of the mi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0880" y="4419720"/>
            <a:ext cx="396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2.  Line up a ruler with the image of the pin and draw along the edge of the ruler on the paper.  Repeat for 3 more positions of the ru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105520" y="44197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3.  Remove the mirror and ruler.  Where the lines cross is the image position.  What are the distances between the mirror and object and its imag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4495680" y="4816440"/>
            <a:ext cx="381240" cy="0"/>
          </a:xfrm>
          <a:prstGeom prst="line">
            <a:avLst/>
          </a:prstGeom>
          <a:ln w="9360">
            <a:solidFill>
              <a:srgbClr val="66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3429000" y="1082520"/>
          <a:ext cx="4734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082520"/>
                    <a:ext cx="4734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8"/>
          <p:cNvSpPr/>
          <p:nvPr/>
        </p:nvSpPr>
        <p:spPr>
          <a:xfrm>
            <a:off x="2095560" y="3787920"/>
            <a:ext cx="0" cy="380880"/>
          </a:xfrm>
          <a:prstGeom prst="line">
            <a:avLst/>
          </a:prstGeom>
          <a:ln w="9360">
            <a:solidFill>
              <a:srgbClr val="66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9"/>
          <p:cNvGraphicFramePr/>
          <p:nvPr/>
        </p:nvGraphicFramePr>
        <p:xfrm>
          <a:off x="6553080" y="2606760"/>
          <a:ext cx="2032200" cy="16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606760"/>
                    <a:ext cx="203220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0"/>
          <p:cNvGraphicFramePr/>
          <p:nvPr/>
        </p:nvGraphicFramePr>
        <p:xfrm>
          <a:off x="6019920" y="2530440"/>
          <a:ext cx="138744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2530440"/>
                    <a:ext cx="1387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1"/>
          <p:cNvGraphicFramePr/>
          <p:nvPr/>
        </p:nvGraphicFramePr>
        <p:xfrm>
          <a:off x="5562720" y="2530440"/>
          <a:ext cx="97920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2530440"/>
                    <a:ext cx="9792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Line 12"/>
          <p:cNvSpPr/>
          <p:nvPr/>
        </p:nvSpPr>
        <p:spPr>
          <a:xfrm>
            <a:off x="5105520" y="1387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5105520" y="138744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5105520" y="1387440"/>
            <a:ext cx="144756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876920" y="1066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88" nodeType="after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9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age size and distan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" y="990720"/>
            <a:ext cx="8458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 plane mirror how does the size of the image and the image distance from the mirror  relate to the original ob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3429000" y="2133720"/>
            <a:ext cx="380880" cy="24382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8"/>
          <p:cNvSpPr/>
          <p:nvPr/>
        </p:nvSpPr>
        <p:spPr>
          <a:xfrm>
            <a:off x="1219320" y="2971800"/>
            <a:ext cx="76176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9"/>
          <p:cNvSpPr/>
          <p:nvPr/>
        </p:nvSpPr>
        <p:spPr>
          <a:xfrm>
            <a:off x="5257800" y="2971800"/>
            <a:ext cx="76212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9144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18148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3"/>
          <p:cNvSpPr/>
          <p:nvPr/>
        </p:nvSpPr>
        <p:spPr>
          <a:xfrm flipH="1">
            <a:off x="3657240" y="342900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1599840" y="342900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990720" y="2971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33520" y="4724280"/>
            <a:ext cx="2895480" cy="70380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Image size and object size are the sa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4038480" y="4724280"/>
            <a:ext cx="3733920" cy="1008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cc"/>
                </a:solidFill>
                <a:latin typeface="Arial"/>
              </a:rPr>
              <a:t>The image distance is the same as the object distance from the mi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plane mirror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90720" y="1371600"/>
            <a:ext cx="243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By positioning two plane mirrors at 45° to each other at either end of a tube we can make a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99072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eri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4800600" y="2057400"/>
            <a:ext cx="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800600" y="20574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791320" y="3048120"/>
            <a:ext cx="0" cy="2819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4800600" y="5867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5"/>
          <p:cNvSpPr/>
          <p:nvPr/>
        </p:nvSpPr>
        <p:spPr>
          <a:xfrm rot="2697600">
            <a:off x="5238360" y="4703760"/>
            <a:ext cx="101520" cy="1285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6"/>
          <p:cNvSpPr/>
          <p:nvPr/>
        </p:nvSpPr>
        <p:spPr>
          <a:xfrm rot="2697600">
            <a:off x="5257440" y="1905120"/>
            <a:ext cx="101520" cy="12859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3244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eriscopes are used in 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63244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ubmar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562360" y="2362320"/>
            <a:ext cx="19047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562720" y="2362320"/>
            <a:ext cx="0" cy="2666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 flipH="1">
            <a:off x="3885840" y="5029200"/>
            <a:ext cx="16765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5"/>
          <p:cNvSpPr/>
          <p:nvPr/>
        </p:nvSpPr>
        <p:spPr>
          <a:xfrm flipH="1">
            <a:off x="5105160" y="2819520"/>
            <a:ext cx="236196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5105520" y="2819520"/>
            <a:ext cx="0" cy="26668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7"/>
          <p:cNvSpPr/>
          <p:nvPr/>
        </p:nvSpPr>
        <p:spPr>
          <a:xfrm flipH="1">
            <a:off x="3885840" y="5486400"/>
            <a:ext cx="12193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32" descr="eye left"/>
          <p:cNvPicPr/>
          <p:nvPr/>
        </p:nvPicPr>
        <p:blipFill>
          <a:blip r:embed="rId1"/>
          <a:stretch/>
        </p:blipFill>
        <p:spPr>
          <a:xfrm>
            <a:off x="2514600" y="4800600"/>
            <a:ext cx="1231920" cy="870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3" descr="eye right"/>
          <p:cNvPicPr/>
          <p:nvPr/>
        </p:nvPicPr>
        <p:blipFill>
          <a:blip r:embed="rId2"/>
          <a:stretch/>
        </p:blipFill>
        <p:spPr>
          <a:xfrm>
            <a:off x="7543800" y="2133720"/>
            <a:ext cx="1244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5:50:39Z</dcterms:created>
  <dc:creator>Boardworks Ltd</dc:creator>
  <dc:description/>
  <dc:language>en-US</dc:language>
  <cp:lastModifiedBy>Matt Baker</cp:lastModifiedBy>
  <cp:lastPrinted>2000-07-24T15:04:59Z</cp:lastPrinted>
  <dcterms:modified xsi:type="dcterms:W3CDTF">2012-02-28T11:21:54Z</dcterms:modified>
  <cp:revision>85</cp:revision>
  <dc:subject/>
  <dc:title>Slide 1</dc:title>
</cp:coreProperties>
</file>