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6908-C19E-406F-B1CC-E1529265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E6F5-E85F-4ED0-B70F-808A030B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FDCE-11B4-4B13-B71D-EAAC4B279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EA84-8B8C-482C-ADF1-0DED25D7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D44-2A32-4B83-AF4B-E9E8079B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B62F-4D3B-445B-9A4E-8951FB4C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E2A4-6E9B-41A8-BE6F-96B37708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7B28-E3DA-4CEE-B8CD-667FDAAE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4C0E-84C0-457E-B493-028A4285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8789-FE45-440C-BAD4-EFB852A6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E8CE-449D-4AE9-B7CD-FC19EA39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3291-4101-420E-8594-33797B02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568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EE12-DFF8-4D7F-9FA1-662A7BF6A2B2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8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85640" y="60195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54FC-5C3D-4C3C-B54A-10877230D120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8" descr=""/>
          <p:cNvPicPr/>
          <p:nvPr/>
        </p:nvPicPr>
        <p:blipFill>
          <a:blip r:embed="rId1"/>
          <a:stretch/>
        </p:blipFill>
        <p:spPr>
          <a:xfrm>
            <a:off x="152280" y="2514600"/>
            <a:ext cx="8839440" cy="3008160"/>
          </a:xfrm>
          <a:prstGeom prst="rect">
            <a:avLst/>
          </a:prstGeom>
          <a:ln w="0">
            <a:noFill/>
          </a:ln>
        </p:spPr>
      </p:pic>
      <p:sp>
        <p:nvSpPr>
          <p:cNvPr id="42" name="Date Placeholder 5"/>
          <p:cNvSpPr/>
          <p:nvPr/>
        </p:nvSpPr>
        <p:spPr>
          <a:xfrm>
            <a:off x="7010280" y="57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2301-98C1-4227-A42F-4BC237BDFFC5}" type="datetime">
              <a:rPr b="1" lang="en-GB" sz="1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28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ooter Placeholder 6"/>
          <p:cNvSpPr/>
          <p:nvPr/>
        </p:nvSpPr>
        <p:spPr>
          <a:xfrm>
            <a:off x="6257880" y="65134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Tahoma"/>
              </a:rPr>
              <a:t>MBA 12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Bookman Old Style"/>
              </a:rPr>
              <a:t>Model Answ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99"/>
                </a:solidFill>
                <a:uFillTx/>
                <a:latin typeface="Tahoma"/>
              </a:rPr>
              <a:t>PFY p.276, Question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4800600" y="3451320"/>
            <a:ext cx="838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95288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095880" y="3505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A f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952880" y="3787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095880" y="3867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A f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2622600" y="4168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6095880" y="4229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A f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4952880" y="4518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095880" y="4572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A f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558880" y="4822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6076800" y="4915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A f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8T07:05:37Z</dcterms:created>
  <dc:creator>tempusers</dc:creator>
  <dc:description/>
  <dc:language>en-US</dc:language>
  <cp:lastModifiedBy>Matt Baker</cp:lastModifiedBy>
  <dcterms:modified xsi:type="dcterms:W3CDTF">2011-11-29T03:18:12Z</dcterms:modified>
  <cp:revision>34</cp:revision>
  <dc:subject/>
  <dc:title>4C Work and Power</dc:title>
</cp:coreProperties>
</file>