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899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20808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5"/>
          <p:cNvSpPr/>
          <p:nvPr/>
        </p:nvSpPr>
        <p:spPr>
          <a:xfrm>
            <a:off x="7012080" y="665964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0"/>
            <a:ext cx="70866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ves 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"/>
          <p:cNvSpPr/>
          <p:nvPr/>
        </p:nvSpPr>
        <p:spPr>
          <a:xfrm>
            <a:off x="2133720" y="685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RANSVERS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543800" cy="1987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685800" y="14842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ake a transverse wave using a rope between two people like thi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685800" y="4437000"/>
            <a:ext cx="632448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What type of energy is the wave transferr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In which direction is the energy mov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In which direction is each part of the rope moving? [put a marker on the rope to help you se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1066680" y="2819520"/>
            <a:ext cx="0" cy="1218960"/>
          </a:xfrm>
          <a:prstGeom prst="line">
            <a:avLst/>
          </a:prstGeom>
          <a:ln w="9360">
            <a:solidFill>
              <a:srgbClr val="00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6553080" y="4495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6629400" y="5334120"/>
            <a:ext cx="990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9"/>
          <p:cNvSpPr/>
          <p:nvPr/>
        </p:nvSpPr>
        <p:spPr>
          <a:xfrm flipV="1">
            <a:off x="7086600" y="5638680"/>
            <a:ext cx="0" cy="99072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16" presetSubtype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9"/>
          <p:cNvSpPr/>
          <p:nvPr/>
        </p:nvSpPr>
        <p:spPr>
          <a:xfrm>
            <a:off x="533520" y="14479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You should have noticed that each part of the wave moves at right angles [90º] to the direction the energy is moving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2286000" y="3778200"/>
            <a:ext cx="4267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666880" y="263520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 rot="16200000">
            <a:off x="771480" y="3479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article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486400" y="3854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nerg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85800" y="5378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ake a labelled diagram of your rope like thi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0" y="0"/>
            <a:ext cx="70866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ves 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133720" y="685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TRANSVERSE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36232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LONGITUDIN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58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Make a longitudinal wave using a spring between two people like thi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762120" y="2590920"/>
          <a:ext cx="761976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590920"/>
                    <a:ext cx="761976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7"/>
          <p:cNvSpPr/>
          <p:nvPr/>
        </p:nvSpPr>
        <p:spPr>
          <a:xfrm>
            <a:off x="685800" y="4635360"/>
            <a:ext cx="6400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What type of energy is the wave transferr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In which direction is the energy mov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In which direction is each part of the spring moving? [put a marker on the spring to help you se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85800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ki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>
            <a:off x="6629400" y="5334120"/>
            <a:ext cx="99072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7238880" y="5867280"/>
            <a:ext cx="114300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0" y="0"/>
            <a:ext cx="70866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ves 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04920" y="15238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You should have noticed that each part of the wave moves in the same direction as the direction the energy is moving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209680" y="3657600"/>
            <a:ext cx="42674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124080" y="3276720"/>
            <a:ext cx="2362320" cy="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276720" y="2590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Arial"/>
              </a:rPr>
              <a:t>particle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410080" y="37339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Arial"/>
              </a:rPr>
              <a:t>energy m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250920" y="4365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en you speak to someone, the air vibrates as a longitudinal wa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7"/>
          <p:cNvGrpSpPr/>
          <p:nvPr/>
        </p:nvGrpSpPr>
        <p:grpSpPr>
          <a:xfrm>
            <a:off x="838080" y="5029200"/>
            <a:ext cx="7056720" cy="1295280"/>
            <a:chOff x="838080" y="5029200"/>
            <a:chExt cx="7056720" cy="1295280"/>
          </a:xfrm>
        </p:grpSpPr>
        <p:graphicFrame>
          <p:nvGraphicFramePr>
            <p:cNvPr id="75" name="Object 12"/>
            <p:cNvGraphicFramePr/>
            <p:nvPr/>
          </p:nvGraphicFramePr>
          <p:xfrm>
            <a:off x="2057400" y="5257800"/>
            <a:ext cx="5257800" cy="1006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5257800"/>
                      <a:ext cx="5257800" cy="100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Object 13"/>
            <p:cNvGraphicFramePr/>
            <p:nvPr/>
          </p:nvGraphicFramePr>
          <p:xfrm>
            <a:off x="7315200" y="5029200"/>
            <a:ext cx="579600" cy="1295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8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5029200"/>
                      <a:ext cx="5796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Object 14"/>
            <p:cNvGraphicFramePr/>
            <p:nvPr/>
          </p:nvGraphicFramePr>
          <p:xfrm>
            <a:off x="838080" y="5410080"/>
            <a:ext cx="1192320" cy="617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5410080"/>
                      <a:ext cx="1192320" cy="61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Text Box 15"/>
          <p:cNvSpPr/>
          <p:nvPr/>
        </p:nvSpPr>
        <p:spPr>
          <a:xfrm>
            <a:off x="2362320" y="914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LONGITUDINAL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0" y="0"/>
            <a:ext cx="70866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ves 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10:21Z</dcterms:created>
  <dc:creator>Boardworks Ltd</dc:creator>
  <dc:description/>
  <dc:language>en-US</dc:language>
  <cp:lastModifiedBy>maba</cp:lastModifiedBy>
  <cp:lastPrinted>2000-07-24T15:04:59Z</cp:lastPrinted>
  <dcterms:modified xsi:type="dcterms:W3CDTF">2011-02-25T01:40:44Z</dcterms:modified>
  <cp:revision>106</cp:revision>
  <dc:subject/>
  <dc:title>KS4 Waves: Character</dc:title>
</cp:coreProperties>
</file>