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1440" y="6688080"/>
            <a:ext cx="9144000" cy="169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-9360" y="6611760"/>
            <a:ext cx="9145440" cy="7488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AutoShape 12">
            <a:hlinkClick r:id="" action="ppaction://hlinkshowjump?jump=nextslide"/>
          </p:cNvPr>
          <p:cNvSpPr/>
          <p:nvPr/>
        </p:nvSpPr>
        <p:spPr>
          <a:xfrm>
            <a:off x="8550360" y="620856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13">
            <a:hlinkClick r:id="" action="ppaction://hlinkshowjump?jump=previousslide"/>
          </p:cNvPr>
          <p:cNvSpPr/>
          <p:nvPr/>
        </p:nvSpPr>
        <p:spPr>
          <a:xfrm rot="10801200">
            <a:off x="168120" y="620784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41008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ss and weight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609480" y="8380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the difference between mass and weigh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95440" y="1600200"/>
            <a:ext cx="3733560" cy="161856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cc"/>
                </a:solidFill>
                <a:latin typeface="Arial"/>
              </a:rPr>
              <a:t>Your mass is a measure of how many particles there are in your body. It does not matter where you are in the Universe, your mass does not 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27840" y="3498840"/>
            <a:ext cx="332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mass measured i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618120" y="392760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Kil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4714920" y="1600200"/>
            <a:ext cx="3505320" cy="29970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cc"/>
                </a:solidFill>
                <a:latin typeface="Arial"/>
              </a:rPr>
              <a:t>Your weight is a measure of the pull of gravity on your body. Your weight depends upon what planet you are standing 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cc"/>
                </a:solidFill>
                <a:latin typeface="Arial"/>
              </a:rPr>
              <a:t>You would weigh less on Mercury than on Earth because Mercury is smaller than Earth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4645080" y="4641840"/>
            <a:ext cx="34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weight measured i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4686480" y="510552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Newt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824040" y="4495680"/>
            <a:ext cx="3257280" cy="1524240"/>
            <a:chOff x="824040" y="4495680"/>
            <a:chExt cx="3257280" cy="1524240"/>
          </a:xfrm>
        </p:grpSpPr>
        <p:sp>
          <p:nvSpPr>
            <p:cNvPr id="49" name="AutoShape 10"/>
            <p:cNvSpPr/>
            <p:nvPr/>
          </p:nvSpPr>
          <p:spPr>
            <a:xfrm flipV="1">
              <a:off x="824040" y="4647600"/>
              <a:ext cx="990360" cy="609480"/>
            </a:xfrm>
            <a:custGeom>
              <a:avLst/>
              <a:gdLst>
                <a:gd name="textAreaLeft" fmla="*/ 206280 w 990360"/>
                <a:gd name="textAreaRight" fmla="*/ 784080 w 990360"/>
                <a:gd name="textAreaTop" fmla="*/ 126720 h 609480"/>
                <a:gd name="textAreaBottom" fmla="*/ 48276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Text Box 11"/>
            <p:cNvSpPr/>
            <p:nvPr/>
          </p:nvSpPr>
          <p:spPr>
            <a:xfrm>
              <a:off x="976320" y="47242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10k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Text Box 12"/>
            <p:cNvSpPr/>
            <p:nvPr/>
          </p:nvSpPr>
          <p:spPr>
            <a:xfrm>
              <a:off x="2271600" y="449568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 = 10k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13"/>
            <p:cNvSpPr/>
            <p:nvPr/>
          </p:nvSpPr>
          <p:spPr>
            <a:xfrm>
              <a:off x="1433520" y="5410080"/>
              <a:ext cx="0" cy="609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2138760" y="5559480"/>
              <a:ext cx="194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ight = 100 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ahoma"/>
                <a:ea typeface="Tahoma"/>
              </a:rPr>
              <a:t>1.15 - Weight and Mas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recall and use the relationship between weight, mass and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g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: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W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=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m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×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g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W = ________ ( _ )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m = ___ ( _ _ )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g = _________ ____ _____( _ / _ _ )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ahoma"/>
                <a:ea typeface="Tahoma"/>
              </a:rPr>
              <a:t>1.15 - Weight and Mass</a:t>
            </a:r>
            <a:endParaRPr b="0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recall and use the relationship between weight, mass and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g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Tahoma"/>
              </a:rPr>
              <a:t>: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W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=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m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× 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g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W = weight (N)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m = mass (kg)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ahoma"/>
                <a:ea typeface="Tahoma"/>
              </a:rPr>
              <a:t>g = gravitational field strength (N/kg)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41008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ss and weight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609480" y="838080"/>
            <a:ext cx="7707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sure your mass using bathroom sc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ulate your weight on Ear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gravitational field strength, g = 10 N/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324000" y="286704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Formul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 = m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Substitu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 = 80 x 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nswer+Uni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 = 800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2 ma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41008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ss and weight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609480" y="838080"/>
            <a:ext cx="770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ulate your weight on the M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gravitational field strength, g = 1.7 N/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15"/>
          <p:cNvSpPr/>
          <p:nvPr/>
        </p:nvSpPr>
        <p:spPr>
          <a:xfrm>
            <a:off x="395280" y="286704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Formul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 = m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Substitu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 = 80 x 1.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nswer+Uni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 = 140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to 2 s.f.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2 ma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41008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ss and weight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609480" y="838080"/>
            <a:ext cx="770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ulate your weight on Jupi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gravitational field strength, g = 26 N/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15"/>
          <p:cNvSpPr/>
          <p:nvPr/>
        </p:nvSpPr>
        <p:spPr>
          <a:xfrm>
            <a:off x="395280" y="286704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Formul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 = m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Substitu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 = 80 x 26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1 m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nswer+Uni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W = 2100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to 2 s.f.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2 ma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61832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units is weight measured in?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01800" y="2327040"/>
            <a:ext cx="7340400" cy="37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"/>
              </a:rPr>
              <a:t>Joule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"/>
              </a:rPr>
              <a:t>Metre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"/>
              </a:rPr>
              <a:t>Newton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Kilogramme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348000" y="400536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33cc"/>
                </a:solidFill>
                <a:latin typeface="Wingdings"/>
                <a:ea typeface="Wingdings"/>
              </a:rPr>
              <a:t>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61832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units is mass measured in?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1800" y="2327040"/>
            <a:ext cx="7340400" cy="37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"/>
              </a:rPr>
              <a:t>Joule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"/>
              </a:rPr>
              <a:t>Metre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Arial"/>
              </a:rPr>
              <a:t>Newton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Kilogramme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4067280" y="479736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33cc"/>
                </a:solidFill>
                <a:latin typeface="Wingdings"/>
                <a:ea typeface="Wingdings"/>
              </a:rPr>
              <a:t>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9T18:52:53Z</dcterms:created>
  <dc:creator>Boardworks Ltd</dc:creator>
  <dc:description/>
  <dc:language>en-US</dc:language>
  <cp:lastModifiedBy>Matt Baker</cp:lastModifiedBy>
  <cp:lastPrinted>2000-07-24T15:04:59Z</cp:lastPrinted>
  <dcterms:modified xsi:type="dcterms:W3CDTF">2011-09-30T04:48:40Z</dcterms:modified>
  <cp:revision>187</cp:revision>
  <dc:subject/>
  <dc:title>No Slide Title</dc:title>
</cp:coreProperties>
</file>