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-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-1260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5">
            <a:hlinkClick r:id="" action="ppaction://hlinkshowjump?jump=nextslide"/>
          </p:cNvPr>
          <p:cNvSpPr/>
          <p:nvPr/>
        </p:nvSpPr>
        <p:spPr>
          <a:xfrm>
            <a:off x="85899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6">
            <a:hlinkClick r:id="" action="ppaction://hlinkshowjump?jump=previousslide"/>
          </p:cNvPr>
          <p:cNvSpPr/>
          <p:nvPr/>
        </p:nvSpPr>
        <p:spPr>
          <a:xfrm rot="10801200">
            <a:off x="20808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7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8"/>
          <p:cNvSpPr/>
          <p:nvPr/>
        </p:nvSpPr>
        <p:spPr>
          <a:xfrm>
            <a:off x="7008840" y="66596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4832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ght ray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 light ray is a narrow beam of light. When drawing light diagrams always….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4" name="Line 5"/>
          <p:cNvSpPr/>
          <p:nvPr/>
        </p:nvSpPr>
        <p:spPr>
          <a:xfrm>
            <a:off x="5105520" y="4114800"/>
            <a:ext cx="23619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6"/>
          <p:cNvSpPr/>
          <p:nvPr/>
        </p:nvSpPr>
        <p:spPr>
          <a:xfrm rot="13540800">
            <a:off x="6095880" y="3961800"/>
            <a:ext cx="304560" cy="30492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5800" y="3809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1. Use a ru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85800" y="4267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2. Add an arrow to show the direction the light ray is travelling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95288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 does light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33520" y="365904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Fill a clear glass trough or empty fish tank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ith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095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57200" y="464976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Shine rays of light through the tank and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escribe what you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438280" y="2209680"/>
            <a:ext cx="114300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3505320" y="2438280"/>
            <a:ext cx="114300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3412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ght travels in straight lin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762120" y="8380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Your experiment shows that light travels in straight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62120" y="167652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 every day consequences do you think this fact h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38080" y="2590920"/>
            <a:ext cx="480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not see around cor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38080" y="3200400"/>
            <a:ext cx="6019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dows are formed in the area behind an object where light can not re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1447920" y="4419720"/>
          <a:ext cx="495288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419720"/>
                    <a:ext cx="495288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10"/>
          <p:cNvSpPr/>
          <p:nvPr/>
        </p:nvSpPr>
        <p:spPr>
          <a:xfrm>
            <a:off x="2666880" y="4038480"/>
            <a:ext cx="2819520" cy="17528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eing objects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ow do we see an object?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5800" y="2743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Do we see all objects in the same 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85800" y="1828800"/>
            <a:ext cx="7467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ere are two ways we see objec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5800" y="3581280"/>
            <a:ext cx="7772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see some objects because they are light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5800" y="4495680"/>
            <a:ext cx="5943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We see some objects by reflected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eing objec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143000" y="121284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365120"/>
          <a:ext cx="6096240" cy="3056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ght 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bjects seen by reflected 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22"/>
          <p:cNvSpPr/>
          <p:nvPr/>
        </p:nvSpPr>
        <p:spPr>
          <a:xfrm>
            <a:off x="1905120" y="4724280"/>
            <a:ext cx="7617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3"/>
          <p:cNvSpPr/>
          <p:nvPr/>
        </p:nvSpPr>
        <p:spPr>
          <a:xfrm>
            <a:off x="2666880" y="2355840"/>
            <a:ext cx="762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4"/>
          <p:cNvSpPr/>
          <p:nvPr/>
        </p:nvSpPr>
        <p:spPr>
          <a:xfrm>
            <a:off x="3352680" y="4724280"/>
            <a:ext cx="1371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5"/>
          <p:cNvSpPr/>
          <p:nvPr/>
        </p:nvSpPr>
        <p:spPr>
          <a:xfrm>
            <a:off x="5410080" y="2355840"/>
            <a:ext cx="1371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6"/>
          <p:cNvSpPr/>
          <p:nvPr/>
        </p:nvSpPr>
        <p:spPr>
          <a:xfrm>
            <a:off x="1600200" y="5486400"/>
            <a:ext cx="1371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e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7"/>
          <p:cNvSpPr/>
          <p:nvPr/>
        </p:nvSpPr>
        <p:spPr>
          <a:xfrm>
            <a:off x="2514600" y="3041640"/>
            <a:ext cx="1371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8"/>
          <p:cNvSpPr/>
          <p:nvPr/>
        </p:nvSpPr>
        <p:spPr>
          <a:xfrm>
            <a:off x="6019920" y="5486400"/>
            <a:ext cx="106668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29"/>
          <p:cNvSpPr/>
          <p:nvPr/>
        </p:nvSpPr>
        <p:spPr>
          <a:xfrm>
            <a:off x="5486400" y="3041640"/>
            <a:ext cx="1066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0"/>
          <p:cNvSpPr/>
          <p:nvPr/>
        </p:nvSpPr>
        <p:spPr>
          <a:xfrm>
            <a:off x="3429000" y="5410080"/>
            <a:ext cx="11430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1"/>
          <p:cNvSpPr/>
          <p:nvPr/>
        </p:nvSpPr>
        <p:spPr>
          <a:xfrm>
            <a:off x="5410080" y="3803760"/>
            <a:ext cx="114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2"/>
          <p:cNvSpPr/>
          <p:nvPr/>
        </p:nvSpPr>
        <p:spPr>
          <a:xfrm>
            <a:off x="5257800" y="4648320"/>
            <a:ext cx="167652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3"/>
          <p:cNvSpPr/>
          <p:nvPr/>
        </p:nvSpPr>
        <p:spPr>
          <a:xfrm>
            <a:off x="2362320" y="3803760"/>
            <a:ext cx="167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ght source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" name="Line 9"/>
          <p:cNvSpPr/>
          <p:nvPr/>
        </p:nvSpPr>
        <p:spPr>
          <a:xfrm flipH="1">
            <a:off x="3124080" y="2666880"/>
            <a:ext cx="373392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09480" y="1905120"/>
            <a:ext cx="3810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light rays from the Sun and other light sources reach our e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4343400" y="4114800"/>
            <a:ext cx="3962520" cy="8254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They travel in a straight line directly into our e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eye"/>
          <p:cNvPicPr/>
          <p:nvPr/>
        </p:nvPicPr>
        <p:blipFill>
          <a:blip r:embed="rId1"/>
          <a:stretch/>
        </p:blipFill>
        <p:spPr>
          <a:xfrm>
            <a:off x="1143000" y="3886200"/>
            <a:ext cx="190512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ShockwaveFlash1"/>
          <p:cNvGraphicFramePr/>
          <p:nvPr/>
        </p:nvGraphicFramePr>
        <p:xfrm>
          <a:off x="6934320" y="914400"/>
          <a:ext cx="1600200" cy="213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914400"/>
                    <a:ext cx="1600200" cy="2133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flected ligh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Line 7"/>
          <p:cNvSpPr/>
          <p:nvPr/>
        </p:nvSpPr>
        <p:spPr>
          <a:xfrm flipH="1">
            <a:off x="6400440" y="2895480"/>
            <a:ext cx="1066680" cy="221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9480" y="1905120"/>
            <a:ext cx="32004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do light rays from a book and other such objects reach our ey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9480" y="3886200"/>
            <a:ext cx="3200400" cy="19227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cc"/>
                </a:solidFill>
                <a:latin typeface="Arial"/>
              </a:rPr>
              <a:t>Light from the Sun or another light source strikes the book and some of the light is reflected into our ey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 flipH="1" flipV="1">
            <a:off x="5714640" y="4266720"/>
            <a:ext cx="6858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5715000" y="5105520"/>
            <a:ext cx="121932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eye"/>
          <p:cNvPicPr/>
          <p:nvPr/>
        </p:nvPicPr>
        <p:blipFill>
          <a:blip r:embed="rId2"/>
          <a:stretch/>
        </p:blipFill>
        <p:spPr>
          <a:xfrm>
            <a:off x="4952880" y="3809880"/>
            <a:ext cx="91440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ShockwaveFlash1"/>
          <p:cNvGraphicFramePr/>
          <p:nvPr/>
        </p:nvGraphicFramePr>
        <p:xfrm>
          <a:off x="7010280" y="762120"/>
          <a:ext cx="1600200" cy="21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762120"/>
                    <a:ext cx="1600200" cy="213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5:50:39Z</dcterms:created>
  <dc:creator>Boardworks Ltd</dc:creator>
  <dc:description/>
  <dc:language>en-US</dc:language>
  <cp:lastModifiedBy>Matt Baker</cp:lastModifiedBy>
  <cp:lastPrinted>2000-07-24T15:04:59Z</cp:lastPrinted>
  <dcterms:modified xsi:type="dcterms:W3CDTF">2012-02-28T09:14:06Z</dcterms:modified>
  <cp:revision>87</cp:revision>
  <dc:subject/>
  <dc:title>Slide 1</dc:title>
</cp:coreProperties>
</file>