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97A-9FEA-40DA-BABA-B01BA817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DC7-5034-4AB5-ABCD-D3589C0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E12-E01F-4879-8717-425EDAA7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8FF-1469-4171-A948-5D9AD208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1813-FC8C-43AD-98FA-E9CEC551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F460-D7E6-4540-8116-2AA5A03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0921-7B5D-41BB-9F7B-F4267637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8566-048F-47D2-B108-418184D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512-11C2-43D3-8879-B844D373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040" y="14292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992-945B-4210-922E-9F3BF5F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1041-1B77-45DC-875A-1537A43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895-E41F-4E80-A90C-23D304C6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04D-1E3B-425E-8FA1-D2181ED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F7B6-F66E-44B6-B885-20ABB3D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DA6-F633-4EE4-834E-40C7BFE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7F5E-2821-4C32-BE4B-E0BA2051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7B7-C3CC-4262-AB3C-6FB190EE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DB3-4DE5-4B9A-A838-7524F92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6E2-A7A9-4A0E-9912-7E345ED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41A-5D06-4928-A07F-BEB15E5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14292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C6A-4233-4311-925A-2AF78DC0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CC2-B7AF-411A-AC39-F59AFE1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6EC-88ED-4936-BFF5-CFA0656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7D7-77AE-4ED5-958A-7CF8B51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user\Mis documentos\IMAGENES 1\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125-E1B1-4489-A472-7BA3DC440B2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user\Mis documentos\IMAGENES 1\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7 Recortar rectángulo de esquina diagonal" descr=""/>
          <p:cNvPicPr/>
          <p:nvPr/>
        </p:nvPicPr>
        <p:blipFill>
          <a:blip r:embed="rId3"/>
          <a:stretch/>
        </p:blipFill>
        <p:spPr>
          <a:xfrm>
            <a:off x="334800" y="49320"/>
            <a:ext cx="8401320" cy="111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F187-4D05-4E6A-8472-5E78318411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Título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86" name="2 Subtítulo" descr=""/>
          <p:cNvPicPr/>
          <p:nvPr/>
        </p:nvPicPr>
        <p:blipFill>
          <a:blip r:embed="rId2"/>
          <a:stretch/>
        </p:blipFill>
        <p:spPr>
          <a:xfrm>
            <a:off x="1335240" y="3803760"/>
            <a:ext cx="6540480" cy="271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7770960" y="5661000"/>
            <a:ext cx="6400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82160" cy="4857840"/>
          </a:xfrm>
          <a:prstGeom prst="rect">
            <a:avLst/>
          </a:prstGeom>
          <a:ln w="0">
            <a:noFill/>
          </a:ln>
        </p:spPr>
      </p:pic>
      <p:pic>
        <p:nvPicPr>
          <p:cNvPr id="89" name="2 Título" descr=""/>
          <p:cNvPicPr/>
          <p:nvPr/>
        </p:nvPicPr>
        <p:blipFill>
          <a:blip r:embed="rId2"/>
          <a:stretch/>
        </p:blipFill>
        <p:spPr>
          <a:xfrm>
            <a:off x="426960" y="-49320"/>
            <a:ext cx="8229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Marcador de contenido" descr=""/>
          <p:cNvPicPr/>
          <p:nvPr/>
        </p:nvPicPr>
        <p:blipFill>
          <a:blip r:embed="rId1"/>
          <a:stretch/>
        </p:blipFill>
        <p:spPr>
          <a:xfrm>
            <a:off x="803160" y="1428840"/>
            <a:ext cx="7537680" cy="4857840"/>
          </a:xfrm>
          <a:prstGeom prst="rect">
            <a:avLst/>
          </a:prstGeom>
          <a:ln w="0">
            <a:noFill/>
          </a:ln>
        </p:spPr>
      </p:pic>
      <p:pic>
        <p:nvPicPr>
          <p:cNvPr id="91" name="2 Título" descr=""/>
          <p:cNvPicPr/>
          <p:nvPr/>
        </p:nvPicPr>
        <p:blipFill>
          <a:blip r:embed="rId2"/>
          <a:stretch/>
        </p:blipFill>
        <p:spPr>
          <a:xfrm>
            <a:off x="426960" y="30240"/>
            <a:ext cx="8229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Marcador de contenido" descr=""/>
          <p:cNvPicPr/>
          <p:nvPr/>
        </p:nvPicPr>
        <p:blipFill>
          <a:blip r:embed="rId1"/>
          <a:stretch/>
        </p:blipFill>
        <p:spPr>
          <a:xfrm>
            <a:off x="1333440" y="142884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93" name="2 Título" descr=""/>
          <p:cNvPicPr/>
          <p:nvPr/>
        </p:nvPicPr>
        <p:blipFill>
          <a:blip r:embed="rId2"/>
          <a:stretch/>
        </p:blipFill>
        <p:spPr>
          <a:xfrm>
            <a:off x="426960" y="115920"/>
            <a:ext cx="82296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4410360"/>
          </a:xfrm>
          <a:prstGeom prst="rect">
            <a:avLst/>
          </a:prstGeom>
          <a:ln w="0">
            <a:noFill/>
          </a:ln>
        </p:spPr>
      </p:pic>
      <p:pic>
        <p:nvPicPr>
          <p:cNvPr id="95" name="2 Título" descr=""/>
          <p:cNvPicPr/>
          <p:nvPr/>
        </p:nvPicPr>
        <p:blipFill>
          <a:blip r:embed="rId2"/>
          <a:stretch/>
        </p:blipFill>
        <p:spPr>
          <a:xfrm>
            <a:off x="396720" y="128520"/>
            <a:ext cx="8229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Título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22960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6 Marcador de contenido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59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Marcador de contenido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6 Título" descr=""/>
          <p:cNvPicPr/>
          <p:nvPr/>
        </p:nvPicPr>
        <p:blipFill>
          <a:blip r:embed="rId2"/>
          <a:stretch/>
        </p:blipFill>
        <p:spPr>
          <a:xfrm>
            <a:off x="426960" y="139680"/>
            <a:ext cx="82296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Título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3236760" cy="1511280"/>
          </a:xfrm>
          <a:prstGeom prst="rect">
            <a:avLst/>
          </a:prstGeom>
          <a:ln w="0">
            <a:noFill/>
          </a:ln>
        </p:spPr>
      </p:pic>
      <p:pic>
        <p:nvPicPr>
          <p:cNvPr id="101" name="3 Marcador de texto" descr=""/>
          <p:cNvPicPr/>
          <p:nvPr/>
        </p:nvPicPr>
        <p:blipFill>
          <a:blip r:embed="rId2"/>
          <a:stretch/>
        </p:blipFill>
        <p:spPr>
          <a:xfrm>
            <a:off x="444600" y="1427040"/>
            <a:ext cx="3073320" cy="469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575160" y="1700280"/>
            <a:ext cx="5029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3564000" y="1700280"/>
            <a:ext cx="50799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2:45Z</dcterms:created>
  <dc:creator>super</dc:creator>
  <dc:description/>
  <dc:language>en-US</dc:language>
  <cp:lastModifiedBy>super</cp:lastModifiedBy>
  <dcterms:modified xsi:type="dcterms:W3CDTF">2011-03-31T13:45:13Z</dcterms:modified>
  <cp:revision>17</cp:revision>
  <dc:subject/>
  <dc:title></dc:title>
</cp:coreProperties>
</file>