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3804-9F1E-469A-8DF2-043756C5F0B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FE43-AFC0-4735-ACD0-9ADF79B46BD5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51B8-8558-4C88-9C15-45E091CFA0B3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491-9539-4000-990A-5E933F68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DAD8-CD51-4854-8046-65A60357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A3C395-EB7B-4745-886B-6A561553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A50028-6C73-43E0-A018-85F704A1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19035A-2F70-475D-9695-63DFC6F0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B37F79-71E4-4C07-8D6C-A6644430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FDD1D0-4F50-4D55-BE5F-486ECCF9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F877B3-6B77-4994-9755-220CBFCD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BA26C7-63DA-4351-A855-10C7C8DF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725DB3-C167-4CC0-8F18-B34F969A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48C180-D92F-41CC-A910-41CAD968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D361EA-96C5-4A88-B899-9190BE78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8EB-6A34-46E6-B7DB-7D5E020F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06AF8A-BB30-462A-9512-FAC3AAD1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433AEC-6145-4268-9CD0-C91BDF25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A7BCAE-37D0-4CF5-A2FE-E4083A81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61CD88-17E4-4A9C-8C13-9B54E3A2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9AB76E-9067-421D-97F7-CD9050C5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2431DE-584C-4ECB-BB31-10242246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AC2BBC-B0F8-4A20-8304-67F8B6CC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3F6184-0763-4777-B007-47BE66D2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9C371B-980D-4A01-AB9E-5AB0AAE6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B79F94-5BEF-4D80-BB11-CE2BBEF9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F233-9A5E-4E13-8C30-9BAA098D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4833CE-CDA8-4588-B96C-9781A749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53277-852F-44A5-8063-5E0677F7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F26E6-D9A9-4516-8A73-12F971B4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C28CC-6435-4429-9F37-609FCB18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62CD2-B65B-4FF4-8735-0EC51ED7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66CCD-EEE6-4782-BC28-9947CF89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BCB9A-C033-4474-9059-C594C716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75775-E004-42D6-81F7-E28EACE3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FEACC-140D-4753-9695-ADFF6055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75300-31E6-4DCB-8BA4-3898C92E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2CA82-DBF8-4743-B509-5550ABB4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97E57-0E41-4AE5-8021-36B175E3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A4659-DA9B-43AD-8054-AC9BB3FD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A6535-3860-48CF-839D-F906CBD0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99CFC-53BB-48DA-B898-19B00F0D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440EE-F0A4-4E37-AFC1-6ABB017F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B1F9C-0CA2-4A63-A726-846A07EF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F8662-6215-43FB-AFEB-B1F34C57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918AA-2D11-4E22-ACF1-B44265D8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A3BD3-95D6-4D8C-A8D6-480B94C8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8AF74-B322-4182-B0BC-ABCE9F4A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C05F2-FD0A-41BA-A9EC-6E1D438F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54BEA-4AE0-4E32-95D3-E021DBEE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AF7A6-4841-461E-BF5B-642919D9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38A5C-A9EF-47B4-BD6E-034674CD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7C982-E2ED-4C6A-A257-31D6A7D7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77BCF-7C18-4E89-8453-6B231574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7E230-3116-4EE5-A3EC-26684283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EB23A-4021-4A91-919B-292828BC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4AC0A-F82F-43F1-BFFA-D324A5F8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6090E-EA56-419F-AAE1-29DEFCC7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569A4-781A-4383-B9A9-2E4E3204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D09-564B-4F19-A4BF-6F1E4FC9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E48B2-D794-4922-85B8-F994BC13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16BCB-AA5A-4017-9CA2-0C98CE1F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A5EEC-8F37-4EB9-8E08-5AF777C5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2CC7A-24BB-4D98-93F2-0FF8DE53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0212C-1D98-426F-99A9-E17DBC6E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52505-2369-4609-9D07-7BD83F8E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692AD0-5D9B-4468-A361-2DE6132D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CECC1-C88F-4605-844D-2BAEE795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A7BC8-583F-4008-AA26-D8BAACF4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0E216F-2F31-43DD-82A9-3AB9545F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CF7-4E21-4A79-B9A5-EC922453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83FD1-B637-4DBD-83C5-CEDA8C01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72B30-7688-4812-A070-48189E20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6C607-4EBC-4139-AD2D-6B435E58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970D1-A945-43EA-B1F1-8755E082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1BE54-46D2-4BA7-8288-1196D6BA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2A952-9D56-4BAF-B64C-1EA81C4E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09358-6B32-4723-A197-433E88B0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47B8F2-56C6-4958-9818-EBF9B85E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258B57-E243-4EE5-AA71-827E1036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EE89E7-FA37-4D62-8BAA-F43D5CD6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E2E-7556-46D4-8F8A-90E9B17D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CFBA81-B59B-436F-B2CE-06700D70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A367D8-BD55-4C30-B35D-78753E1E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B67037-249B-4947-B8A9-392BA5E9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0CC3F9-DC88-4BD3-8191-3264272B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C8BCDD-66CF-4E3B-A44D-C15D10C1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C5378A-1B11-4D4F-8D27-65378DBF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AE80FA-1478-4D8C-AC7A-9C36DC1A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AB2EF6-AE0F-4B38-8BB3-A6A2FE75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A16F31-A9E9-4C9A-8E3B-28B56A6B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84521-4B68-4FFC-ACE4-D6CA8D0B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E85-3BD3-4248-98A5-2D5DDDCC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8C3068-8C98-42C6-B458-FCAD752A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62A335-EF0F-4E33-B7BC-EB861A35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1E5CCD-19A3-4F17-9D2F-660C4717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EBCE69-7426-4ECA-AB00-D1723091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3447DB-D8EB-44B3-B68E-6109ACD7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7DACDC-CD8D-4C61-B64B-02476E57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D9D87A-4C9A-4349-B823-CCD28302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7683C-5204-4460-BBFC-56055D8D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1060D4-37B6-4494-9212-06D1A1FB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C9D543-72CF-42C1-9E8A-AAD907B9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4CA-4E9E-4E47-885C-B9FC322A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2FB8AC-4883-495E-8671-603E0509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6A8D3F-2783-4539-97FC-0B2E08F3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B55F94-24DD-425C-8490-13B9EDB3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E6B8E3-D539-4C77-BA8A-8160AA6D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3A8A8-F1F7-4CB2-8318-CC74404E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24DE80-D6C1-4262-A252-4D0857CB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A6B982-0CBF-45F5-9978-C290DF5D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F0E2F9-498D-4470-B983-D7B2900C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1CF3D9-2528-4310-B111-F285F1D6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1B9E18-B294-4E07-8FDD-5966CE7A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503-FE56-4E64-8605-437389EA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C60F7A-4582-44EA-8594-36F0AB70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987B1A-AD81-4599-829C-67092EDF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982B0F-D078-4039-9A56-E4823E2B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6E27BB-E107-478F-BEDB-B0CCEBF6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6F465E-5E55-4123-8EB1-09B789F8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EE570D-6A54-461E-B6FC-F9858CAB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7AC652-D4DE-4992-A5B0-2569BE6D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4AE9E2-F606-44AB-AAF8-9F7821D1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285138-AABE-43BC-87BD-FDCCD8DE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2629E5-C2CC-474A-9696-FA1DA79C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65C-BA76-4D3E-8B3E-7575A89F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1A24A1-EA58-4E35-B06B-7EF65A0D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6CB1EF-2460-47F3-8BF7-B99E76BD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D83195-CFBB-46FD-AFFB-E43E20D2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D019B-6FB3-4417-A248-32F549C2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981A8E-351D-45AE-88C2-626CF08D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0A7EF2-FDEB-4126-BA12-DD37FB7A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03AEC9-9C99-4A91-B07F-2935A7EF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1D68D6-A2B9-456C-9942-0DCA3F28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234B52-746F-4901-A797-2541B141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0624E5-9E60-4F4F-821F-4B48ECAA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33C-6FE3-4EE9-9E2B-E51E6623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327728-733B-4676-B43E-3B261A8D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E06045-9C38-4E73-9DAF-6C168DEF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520672-F93E-47C2-A92D-B19D83EF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82AA35-4339-4667-ADF1-76246BE4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B84783-4A89-4FBF-9EF3-AE75125C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F6AA03-1D1A-490A-8E96-82423CE1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D1C3FC-8C49-4447-8F37-52A19B4B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B00BFF-65E5-44D6-A06A-80C11710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D50570-B76A-4ECB-8C91-3D82C830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C2C78A-4F6D-4BC5-99C1-EFD0EB18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C659-5223-4583-A32A-DCD80ABDC85D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Straight Connector 11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9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7AEB-16B2-4E8F-B5A5-B27EE06C5C0F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30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8EFE-B07F-4918-A1B8-347D9B126010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875B-196E-420C-B9EE-7454B0CD3624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0" y="4743360"/>
            <a:ext cx="9144000" cy="211464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Straight Connector 15"/>
          <p:cNvSpPr/>
          <p:nvPr/>
        </p:nvSpPr>
        <p:spPr>
          <a:xfrm>
            <a:off x="0" y="4714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DF59-AD13-4C26-AAE4-AEF3E0359C5D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F75E-1540-453D-9CC2-B6B30C1BE36F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Straight Connector 17"/>
          <p:cNvSpPr/>
          <p:nvPr/>
        </p:nvSpPr>
        <p:spPr>
          <a:xfrm>
            <a:off x="-4680" y="182880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FA4E-34C3-4F58-9E48-1BEB1FF3F12C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FC78-D737-4388-B969-EA792322E91A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7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6939-866E-4FB1-A78A-154B6DDD19B4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8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72F6-C071-4511-8D3E-DD2FD49A8769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1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C133-3513-4C11-8A38-B734EF320539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4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Straight Connector 21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3093-0572-4CF3-8263-95EDC78D56AC}" type="slidenum">
              <a:rPr b="1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7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a.wikipedia.org/wiki/Anys_70" TargetMode="External"/><Relationship Id="rId2" Type="http://schemas.openxmlformats.org/officeDocument/2006/relationships/hyperlink" Target="http://ca.wikipedia.org/wiki/Motocr&#242;s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a.wikipedia.org/wiki/Quadre_(bicicleta)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 rot="21106200">
            <a:off x="614160" y="2165040"/>
            <a:ext cx="4572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Comic Sans MS"/>
              </a:rPr>
              <a:t>El BMX es va originar a Califòrnia al començament dels </a:t>
            </a:r>
            <a:r>
              <a:rPr b="0" lang="es-ES" sz="1600" spc="-1" strike="noStrike" u="sng">
                <a:solidFill>
                  <a:srgbClr val="b5740b"/>
                </a:solidFill>
                <a:uFillTx/>
                <a:latin typeface="Comic Sans MS"/>
                <a:hlinkClick r:id="rId1"/>
              </a:rPr>
              <a:t>anys 70</a:t>
            </a:r>
            <a:r>
              <a:rPr b="0" i="1" lang="es-ES" sz="1600" spc="-1" strike="noStrike">
                <a:solidFill>
                  <a:srgbClr val="ffffff"/>
                </a:solidFill>
                <a:latin typeface="Comic Sans MS"/>
              </a:rPr>
              <a:t>, quan els joves intentaven imitar els campions de </a:t>
            </a:r>
            <a:r>
              <a:rPr b="0" lang="es-ES" sz="1600" spc="-1" strike="noStrike" u="sng">
                <a:solidFill>
                  <a:srgbClr val="b5740b"/>
                </a:solidFill>
                <a:uFillTx/>
                <a:latin typeface="Comic Sans MS"/>
                <a:hlinkClick r:id="rId2"/>
              </a:rPr>
              <a:t>motocròs</a:t>
            </a:r>
            <a:r>
              <a:rPr b="0" i="1" lang="es-ES" sz="1600" spc="-1" strike="noStrike">
                <a:solidFill>
                  <a:srgbClr val="ffffff"/>
                </a:solidFill>
                <a:latin typeface="Comic Sans MS"/>
              </a:rPr>
              <a:t> amb les seves bicicletes. En els anys 80 es va generalitzar la variant coneguda com a race, o carreres en circuits de terra</a:t>
            </a:r>
            <a:r>
              <a:rPr b="0" i="1" lang="es-ES" sz="1600" spc="-1" strike="noStrike">
                <a:solidFill>
                  <a:srgbClr val="4a5a7a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8" name="1 Título" descr=""/>
          <p:cNvPicPr/>
          <p:nvPr/>
        </p:nvPicPr>
        <p:blipFill>
          <a:blip r:embed="rId3"/>
          <a:stretch/>
        </p:blipFill>
        <p:spPr>
          <a:xfrm>
            <a:off x="-115920" y="6480"/>
            <a:ext cx="8394840" cy="2352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3 Marcador de contenido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337440" cy="42483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Corbel"/>
              </a:rPr>
              <a:t>Es poden fer moltes varietats de trucs com per exemple el 360 Manilla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7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7bd40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1331640" y="2349000"/>
            <a:ext cx="3125880" cy="4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ffffff"/>
                </a:solidFill>
                <a:latin typeface="Corbel"/>
              </a:rPr>
              <a:t>Una bmx es molt mes petita. I pesa molt menys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16000" y="2205000"/>
            <a:ext cx="312732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000" spc="-1" strike="noStrike">
                <a:solidFill>
                  <a:srgbClr val="ffffff"/>
                </a:solidFill>
                <a:latin typeface="Comic Sans MS"/>
              </a:rPr>
              <a:t>Una Montain bike pesa molt mes i no es per fer trucs si no per anar pel carrer o la montanya.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3" name="7 Marcador de contenido" descr=""/>
          <p:cNvPicPr/>
          <p:nvPr/>
        </p:nvPicPr>
        <p:blipFill>
          <a:blip r:embed="rId1"/>
          <a:stretch/>
        </p:blipFill>
        <p:spPr>
          <a:xfrm>
            <a:off x="4896000" y="3068640"/>
            <a:ext cx="2844720" cy="1994040"/>
          </a:xfrm>
          <a:prstGeom prst="rect">
            <a:avLst/>
          </a:prstGeom>
          <a:ln w="0">
            <a:noFill/>
          </a:ln>
        </p:spPr>
      </p:pic>
      <p:pic>
        <p:nvPicPr>
          <p:cNvPr id="524" name="6 Marcador de contenido" descr=""/>
          <p:cNvPicPr/>
          <p:nvPr/>
        </p:nvPicPr>
        <p:blipFill>
          <a:blip r:embed="rId2"/>
          <a:stretch/>
        </p:blipFill>
        <p:spPr>
          <a:xfrm>
            <a:off x="1062000" y="295596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3"/>
          <p:cNvSpPr>
            <a:spLocks noGrp="1"/>
          </p:cNvSpPr>
          <p:nvPr>
            <p:ph type="title"/>
          </p:nvPr>
        </p:nvSpPr>
        <p:spPr>
          <a:xfrm>
            <a:off x="899640" y="691920"/>
            <a:ext cx="768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Comic Sans MS"/>
              </a:rPr>
              <a:t>Una bmx no es pot comparar amb una Montain bik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52080" y="1463400"/>
            <a:ext cx="3886200" cy="50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Corbel"/>
              </a:rPr>
              <a:t>Stree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900320" y="1463400"/>
            <a:ext cx="3886200" cy="50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ffffff"/>
                </a:solidFill>
                <a:latin typeface="Corbel"/>
              </a:rPr>
              <a:t>Ra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8" name="6 Marcador de contenido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3886200" cy="3598560"/>
          </a:xfrm>
          <a:prstGeom prst="rect">
            <a:avLst/>
          </a:prstGeom>
          <a:ln w="0">
            <a:noFill/>
          </a:ln>
        </p:spPr>
      </p:pic>
      <p:pic>
        <p:nvPicPr>
          <p:cNvPr id="529" name="7 Marcador de contenido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3886200" cy="352764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3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ffffff"/>
                </a:solidFill>
                <a:latin typeface="Corbel"/>
              </a:rPr>
              <a:t>Hi ha dos tipus de estils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7681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Corbel"/>
              </a:rPr>
              <a:t>La bmx te alguns riscos, un dels mes perillosos es caura de una altura molt alta.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2" name="5 Marcador de contenido" descr=""/>
          <p:cNvPicPr/>
          <p:nvPr/>
        </p:nvPicPr>
        <p:blipFill>
          <a:blip r:embed="rId1"/>
          <a:stretch/>
        </p:blipFill>
        <p:spPr>
          <a:xfrm>
            <a:off x="611280" y="1920960"/>
            <a:ext cx="7200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rbel"/>
              </a:rPr>
              <a:t>Les bicicletes són de mida petita (les rodes tenen un diàmetre de 20 polzades), per guanyar manejabilitat sobre elles. Els </a:t>
            </a:r>
            <a:r>
              <a:rPr b="0" lang="es-ES" sz="3200" spc="-1" strike="noStrike" u="sng">
                <a:solidFill>
                  <a:srgbClr val="b5740b"/>
                </a:solidFill>
                <a:uFillTx/>
                <a:latin typeface="Corbel"/>
                <a:hlinkClick r:id="rId1"/>
              </a:rPr>
              <a:t>quadres</a:t>
            </a:r>
            <a:r>
              <a:rPr b="0" lang="es-ES" sz="3200" spc="-1" strike="noStrike">
                <a:solidFill>
                  <a:srgbClr val="ffffff"/>
                </a:solidFill>
                <a:latin typeface="Corbel"/>
              </a:rPr>
              <a:t> solen estar fabricats en cromomoly 4130 (aliatge de crom i molibdè) i solen ser una mica més llargs per a Rampa i Dirt Jump. La mida del plat canvia depenent la modalitat. En rampa, flatland i street es porten pel normal petit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ffffff"/>
                </a:solidFill>
                <a:latin typeface="Corbel"/>
              </a:rPr>
              <a:t>                                </a:t>
            </a:r>
            <a:r>
              <a:rPr b="0" lang="ca-ES" sz="4000" spc="-1" strike="noStrike">
                <a:solidFill>
                  <a:srgbClr val="ffffff"/>
                </a:solidFill>
                <a:latin typeface="Corbel"/>
              </a:rPr>
              <a:t>BMX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4:22:46Z</dcterms:created>
  <dc:creator>super</dc:creator>
  <dc:description/>
  <dc:language>en-US</dc:language>
  <cp:lastModifiedBy>super</cp:lastModifiedBy>
  <dcterms:modified xsi:type="dcterms:W3CDTF">2011-03-17T14:45:31Z</dcterms:modified>
  <cp:revision>11</cp:revision>
  <dc:subject/>
  <dc:title>Nose q poner</dc:title>
</cp:coreProperties>
</file>