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08E-2644-4E98-8CF2-7F75C525C5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CFE3-2792-4BE2-B65D-752AB5CDFBF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F3E-EBD2-4043-A2E0-648DE6B22B8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9C1-9AAA-4E85-811B-464FDC84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DC0-16E6-412D-A8F3-840303E1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6DC06-B1E7-411C-ACA3-E4AEDBA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39772-CAE3-4B87-86E0-0F9107D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539B8-44C1-4D8D-B191-BA590DC8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13F30-490C-46E0-9697-837D762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E45D5-4FDD-4045-8FE6-03D9B75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A041F-69CD-4784-80CD-38D3122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5DA1C-316C-4D77-88C0-290585E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0C3B0-CFA1-42C3-90F2-2D9A5E8F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E1E7B-08B7-4752-B297-9B137E04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C9125-EA88-4627-BBC2-6009F379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E9A-D8F0-4927-97B6-B600FEDC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79FA6E-6B82-4E08-8932-970206FC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F1B14-08A7-4D01-AA51-5004BB5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D8B31-B354-4E85-B74D-596F87EB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7FD253-3410-452A-B3F4-A348749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D7D6A-AA5C-462A-AC2C-EB3AF164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99E08-5960-4157-B157-73633BC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877498-5801-40AB-88B3-01BB8DB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FD5840-0B3B-40B5-81E1-34F327E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6DFAEF-1F1E-4D53-AED7-A3D25F6C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3CE88-91EC-42C1-AE6B-2EFED51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168-A086-4D7C-8F30-2C0BBE03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B7CFC-A132-48B3-B760-DDC98225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569F7-8322-4619-A1B0-578E3558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1183-175D-44BD-AE37-E249365E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443A-ADDA-484D-B8A3-70DFC8D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F008-B1B3-4433-B771-19CB806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4CA9F-E1F5-438E-92AD-1B103C1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3EEF7-2708-4629-906A-618C8EA8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19D28-2B2F-442A-89C5-60BF978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2E5FF-454D-417F-842E-BF355DD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220F-10F9-4AC2-9311-19C929E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F5366-39A2-45F6-BA92-71C57910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D7B14-2A03-410D-892D-F41C161E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7A3C0-9681-421C-9E91-D79FCB29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BCF7C-0A6B-4A1D-BF7D-F7178AB8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51678-2FCF-4233-A5A5-0B2BBBCB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AB58B-E8A6-437D-B7B8-AB7267CA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0F13-4990-4BCD-B487-96787BD0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CA747-A860-45C4-9629-285C2928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5932-F765-4794-B52D-10A19A2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C8A23-8B3F-4659-8D6F-0671DCC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5E879-8B94-466E-8624-FDEB485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2F862-1622-4736-A7E3-2E9246A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2E975-7767-4C5F-AC63-1D46704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8129F-180A-4B5F-AE44-01694B9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F3194-C0F4-4115-89D3-7E8DF673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EED03-898F-42A0-832A-1485C434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AAAD-64CD-455A-A5FA-45D1649C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3C12-B041-483C-B97E-491DA82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B3F3-93CE-4BA1-9B44-BBFB4776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EC95-0017-4CFE-A7C3-E0A64C7B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9361-10BD-4387-9D97-A156076C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B488B-3A15-4207-9DF9-6635B7C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879-ECE2-4BD5-A49E-1D0CC265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1CBD9-D838-4D68-9C27-C979EA03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ED50-CBC7-4D59-BA75-AA92C46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E573-13E8-497A-B9DF-7056A2C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316D2-21B2-40DD-8A97-3CAC1507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2046-C00C-40BA-902A-5982931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157D6-9AEF-4FD2-82F9-B33EB9E3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0B755-AFD6-473E-85FE-AF605CE2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6E648-2D35-4ED2-8209-29937D19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54554-B292-4B09-A461-2CB1E97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5762A-833A-4C41-A4C3-1FC0FE89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33F-DB88-415A-995D-2A0E463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2532B-38F3-4550-8DA5-CAD0B5B4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1E266-E367-48CC-BB8D-6CB21B6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3D339-E00A-4302-BB89-1B4E8C2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8BCE3-C2A5-4A18-A640-DBF21B9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4B5A6-7B97-414F-B3AD-EBEAFA8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B63D9-25DF-4B2E-BA66-D7FF2D3F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14D60-2A84-47FB-8571-FD2E108C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F702D-6479-4C34-9893-9074E202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22BCD-C661-450C-9F9E-1E62D30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770AA-17BC-431B-BE3B-4A7D5AC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149-F9CF-426C-B323-7945711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50D00-8507-4225-A8D1-FAEFE14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04E23-756E-4007-BA56-4AFCA6E3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3D2B1-07AF-4E7D-9A4B-E7ACC4C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ADDEA-42A7-4CAF-9B86-32E7589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C9485-6A6A-43FB-98A0-1C58BCC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5085C-AC7F-47B6-BA4A-958CB3C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B9D24-2079-421D-BCFF-2DCA856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7C76B-C822-433B-8753-F30B36B1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2A0BF-E5E2-4074-88AB-2C302D81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3E79D-9DF2-46CA-A16E-ED8AEFCE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E02-641F-4778-9997-62CCFCAE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76EC2-8F1A-4BC2-B329-C2B7DFB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EA116-4443-4FFA-8726-9BDABFE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AE216-5684-4B07-A905-7B4C135C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661B7-4679-40ED-9CD2-EAA5A617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EE005-6658-477E-B3A5-9E83056F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7D9F2-6FF1-4032-9529-61A1EB5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34AE9-C8BB-4769-8DF4-912AEFA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FF644-BBB5-4ABE-9CFD-0DA9A2C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BCBF0-83A0-4398-A355-B202E30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8E5F3-65D4-45E6-9A77-4A3C3544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46A-332A-4A2C-A8C0-202C136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5038A-E8C4-4F20-859B-A446D31A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E04CD-5056-43D7-A94A-58BAA063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C8385-B999-48F7-8162-0FDC9E9E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57051-6AF8-40EE-9C17-45962953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671E5-B1F2-479F-A3B2-3490E5B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A612C-3061-436F-9F57-AA3967E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545AA-04C9-48EC-BE4C-6CF1EF22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44B81-6766-423F-8BB7-2DD1BDA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3A3B5-B550-4431-89AD-D2A31F9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0B48D-CC25-4223-ABEA-E19D03E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56B-166A-49C5-83AD-F03F4E4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78BF7-5B32-4B8E-AFEA-D1FCD62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13D31-1E24-429C-8CA9-6D6D800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EF2A6-5F87-4D20-9CF5-A2C37773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E61CA-972F-4C07-86BF-F9006808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DA48D-3F02-4673-9C87-0EDD783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A0A02-CE37-451B-8DAA-2E78820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F11AE-4409-43BA-8F45-86CDF941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630BC-41E5-4C34-88E6-408DCD16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A998D-6F60-44D8-920D-3D732D2D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140F3-99C9-436E-89CA-16A6C93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355-A873-41A1-B730-BBCE4620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9C322-5213-4F6A-8701-B7E7C8E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9C307-9A65-47A9-B339-B7E12A57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275C3-0AA4-465F-87DC-B797C47E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9EA64-621C-44B9-B6BF-814E4AE6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4A247-DD85-4D9F-90E3-276E9B32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4D917C-8258-4A94-97DE-B9982868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3005C-C6DB-4048-88CA-7A4FBFEB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15E9D-A175-449C-ACF8-710FC1C9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333E2-4A43-41F6-8EFC-F0E9DFB6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194DB7-1542-48AF-B78E-530FA9A6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606-3436-4464-929D-2826815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26985-AE36-44D9-8060-0908384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F5FCA-3926-42B0-AF88-00FF595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C1A65-6761-480E-9269-E8764F58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F24CF-E58A-496B-A927-80E135CD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50199-BF5D-4776-9970-1C089B5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2572F-41E6-4AA1-B730-D4611E47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5C7D7C-3999-4928-BB55-93E93B44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027E9-0878-4E8E-8EF2-205769D2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172AE-0246-4A7F-B96C-055AB7D3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A52BF-C586-49B6-BFA4-7B64A499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B3B1-58B2-4CDF-B31C-00C40D565E25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75AE-6A38-4B7F-8CBD-960DB6B748FD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98A5-EF8C-458D-9A8B-18C6C370D2DA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F30-91B4-49B6-A9E4-70120D08ABB2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D110-E464-4BDC-A84C-EE386EBB1616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CF0-61FD-4692-9208-E41973B91D66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B6C-57C1-4095-B9D8-4DC80EE9D341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F883-42DC-4C89-BE3B-23296FE95526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065-15DE-452F-9A90-06F438F5BD68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2FE-EF0C-43F5-8C35-4739B91A0D0D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5DD-E508-4943-94DE-9F0526CCBCE3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14FC-47A7-4734-9DDC-B280D73AA724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.wikipedia.org/wiki/Anys_70" TargetMode="External"/><Relationship Id="rId2" Type="http://schemas.openxmlformats.org/officeDocument/2006/relationships/hyperlink" Target="http://ca.wikipedia.org/wiki/Motocr&#242;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wikipedia.org/wiki/Quadre_(bicicleta)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 rot="21106200">
            <a:off x="614160" y="2165040"/>
            <a:ext cx="457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El BMX es va originar a Califòrnia al començament dels </a:t>
            </a:r>
            <a:r>
              <a:rPr b="0" lang="es-ES" sz="1600" spc="-1" strike="noStrike" u="sng">
                <a:solidFill>
                  <a:srgbClr val="b5740b"/>
                </a:solidFill>
                <a:uFillTx/>
                <a:latin typeface="Comic Sans MS"/>
                <a:hlinkClick r:id="rId1"/>
              </a:rPr>
              <a:t>anys 70</a:t>
            </a: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, quan els joves intentaven imitar els campions de </a:t>
            </a:r>
            <a:r>
              <a:rPr b="0" lang="es-ES" sz="1600" spc="-1" strike="noStrike" u="sng">
                <a:solidFill>
                  <a:srgbClr val="b5740b"/>
                </a:solidFill>
                <a:uFillTx/>
                <a:latin typeface="Comic Sans MS"/>
                <a:hlinkClick r:id="rId2"/>
              </a:rPr>
              <a:t>motocròs</a:t>
            </a: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 amb les seves bicicletes. En els anys 80 es va generalitzar la variant coneguda com a race, o carreres en circuits de terra</a:t>
            </a:r>
            <a:r>
              <a:rPr b="0" i="1" lang="es-ES" sz="1600" spc="-1" strike="noStrike">
                <a:solidFill>
                  <a:srgbClr val="4a5a7a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8" name="1 Título" descr=""/>
          <p:cNvPicPr/>
          <p:nvPr/>
        </p:nvPicPr>
        <p:blipFill>
          <a:blip r:embed="rId3"/>
          <a:stretch/>
        </p:blipFill>
        <p:spPr>
          <a:xfrm>
            <a:off x="-115920" y="6480"/>
            <a:ext cx="839484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337440" cy="4248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rbel"/>
              </a:rPr>
              <a:t>Es poden fer moltes varietats de trucs com per exemple el 360 Manill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7bd4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331640" y="234900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ffffff"/>
                </a:solidFill>
                <a:latin typeface="Corbel"/>
              </a:rPr>
              <a:t>Una bmx es molt mes petita. I pesa molt meny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312732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000" spc="-1" strike="noStrike">
                <a:solidFill>
                  <a:srgbClr val="ffffff"/>
                </a:solidFill>
                <a:latin typeface="Comic Sans MS"/>
              </a:rPr>
              <a:t>Una Montain bike pesa molt mes i no es per fer trucs si no per anar pel carrer o la montanya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7 Marcador de contenido" descr=""/>
          <p:cNvPicPr/>
          <p:nvPr/>
        </p:nvPicPr>
        <p:blipFill>
          <a:blip r:embed="rId1"/>
          <a:stretch/>
        </p:blipFill>
        <p:spPr>
          <a:xfrm>
            <a:off x="4896000" y="3068640"/>
            <a:ext cx="2844720" cy="1994040"/>
          </a:xfrm>
          <a:prstGeom prst="rect">
            <a:avLst/>
          </a:prstGeom>
          <a:ln w="0">
            <a:noFill/>
          </a:ln>
        </p:spPr>
      </p:pic>
      <p:pic>
        <p:nvPicPr>
          <p:cNvPr id="524" name="6 Marcador de contenido" descr=""/>
          <p:cNvPicPr/>
          <p:nvPr/>
        </p:nvPicPr>
        <p:blipFill>
          <a:blip r:embed="rId2"/>
          <a:stretch/>
        </p:blipFill>
        <p:spPr>
          <a:xfrm>
            <a:off x="1062000" y="29559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3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8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Una bmx no es pot comparar amb una Montain bik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52080" y="1463400"/>
            <a:ext cx="38862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rbel"/>
              </a:rPr>
              <a:t>Stre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00320" y="1463400"/>
            <a:ext cx="38862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rbel"/>
              </a:rPr>
              <a:t>R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8" name="6 Marcador de contenido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86200" cy="3598560"/>
          </a:xfrm>
          <a:prstGeom prst="rect">
            <a:avLst/>
          </a:prstGeom>
          <a:ln w="0">
            <a:noFill/>
          </a:ln>
        </p:spPr>
      </p:pic>
      <p:pic>
        <p:nvPicPr>
          <p:cNvPr id="529" name="7 Marcador de contenido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886200" cy="3527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3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Hi ha dos tipus de estils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681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rbel"/>
              </a:rPr>
              <a:t>La bmx te alguns riscos, un dels mes perillosos es caura de una altura molt alta.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2" name="5 Marcador de contenido" descr=""/>
          <p:cNvPicPr/>
          <p:nvPr/>
        </p:nvPicPr>
        <p:blipFill>
          <a:blip r:embed="rId1"/>
          <a:stretch/>
        </p:blipFill>
        <p:spPr>
          <a:xfrm>
            <a:off x="611280" y="1920960"/>
            <a:ext cx="720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Les bicicletes són de mida petita (les rodes tenen un diàmetre de 20 polzades), per guanyar manejabilitat sobre elles. Els </a:t>
            </a:r>
            <a:r>
              <a:rPr b="0" lang="es-ES" sz="32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quadres</a:t>
            </a: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 solen estar fabricats en cromomoly 4130 (aliatge de crom i molibdè) i solen ser una mica més llargs per a Rampa i Dirt Jump. La mida del plat canvia depenent la modalitat. En rampa, flatland i street es porten pel normal petit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                                </a:t>
            </a: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BM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2:46Z</dcterms:created>
  <dc:creator>super</dc:creator>
  <dc:description/>
  <dc:language>en-US</dc:language>
  <cp:lastModifiedBy>super</cp:lastModifiedBy>
  <dcterms:modified xsi:type="dcterms:W3CDTF">2011-03-17T14:45:31Z</dcterms:modified>
  <cp:revision>11</cp:revision>
  <dc:subject/>
  <dc:title>Nose q poner</dc:title>
</cp:coreProperties>
</file>