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B474-DCF9-4383-A67B-AD5E3ADE917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C11E-942D-40BE-9670-D7A3A2CDE026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Como éstas antonella esta bien si o</a:t>
            </a:r>
            <a:r>
              <a:rPr b="0" lang="ca-ES" sz="1200" spc="-1" strike="noStrike">
                <a:solidFill>
                  <a:srgbClr val="990099"/>
                </a:solidFill>
                <a:latin typeface="Calibri"/>
              </a:rPr>
              <a:t> no si   D&amp;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31F8-4E8D-47A4-9D79-3B452225ADAE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5E4-96F9-4A11-89E5-2F608722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768-2230-4E82-B3C0-B9AF2391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300-A1E1-45EC-AC98-1A93051B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DDC-C99D-4575-B7D9-648A1DBE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BE5-09BD-4D14-90E2-0BBE8A5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1BD-4C74-47DD-940C-F8588EBA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4EA-064D-4065-869C-9645808D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552-5715-49FB-BCA9-6AA4C15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3A00-2B44-403F-9E9E-9E896D36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050-6987-469C-AB69-093E25D3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849-CDFC-4A2C-B163-E40CD658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728-0FDE-4382-BD5B-E973010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FDC4-0048-4ECD-8004-8DDA43FF2384}" type="slidenum">
              <a:rPr b="0" lang="es-E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5040" y="215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" name="7 Subtítulo" descr=""/>
          <p:cNvPicPr/>
          <p:nvPr/>
        </p:nvPicPr>
        <p:blipFill>
          <a:blip r:embed="rId1"/>
          <a:stretch/>
        </p:blipFill>
        <p:spPr>
          <a:xfrm>
            <a:off x="1268280" y="847800"/>
            <a:ext cx="4919760" cy="4821120"/>
          </a:xfrm>
          <a:prstGeom prst="rect">
            <a:avLst/>
          </a:prstGeom>
          <a:ln w="0">
            <a:noFill/>
          </a:ln>
        </p:spPr>
      </p:pic>
      <p:sp>
        <p:nvSpPr>
          <p:cNvPr id="50" name="1 Estrella de 5 puntas"/>
          <p:cNvSpPr/>
          <p:nvPr/>
        </p:nvSpPr>
        <p:spPr>
          <a:xfrm>
            <a:off x="4643280" y="3357720"/>
            <a:ext cx="1224000" cy="863280"/>
          </a:xfrm>
          <a:custGeom>
            <a:avLst/>
            <a:gdLst/>
            <a:ahLst/>
            <a:rect l="l" t="t" r="r" b="b"/>
            <a:pathLst>
              <a:path w="1224136" h="864096">
                <a:moveTo>
                  <a:pt x="1" y="330054"/>
                </a:moveTo>
                <a:lnTo>
                  <a:pt x="467581" y="330057"/>
                </a:lnTo>
                <a:lnTo>
                  <a:pt x="612068" y="0"/>
                </a:lnTo>
                <a:lnTo>
                  <a:pt x="756555" y="330057"/>
                </a:lnTo>
                <a:lnTo>
                  <a:pt x="1224135" y="330054"/>
                </a:lnTo>
                <a:lnTo>
                  <a:pt x="845853" y="534038"/>
                </a:lnTo>
                <a:lnTo>
                  <a:pt x="990346" y="864094"/>
                </a:lnTo>
                <a:lnTo>
                  <a:pt x="612068" y="660106"/>
                </a:lnTo>
                <a:lnTo>
                  <a:pt x="233790" y="864094"/>
                </a:lnTo>
                <a:lnTo>
                  <a:pt x="378283" y="534038"/>
                </a:lnTo>
                <a:lnTo>
                  <a:pt x="1" y="330054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2 Llamada ovalada"/>
          <p:cNvSpPr/>
          <p:nvPr/>
        </p:nvSpPr>
        <p:spPr>
          <a:xfrm>
            <a:off x="6516720" y="2422440"/>
            <a:ext cx="1295280" cy="936720"/>
          </a:xfrm>
          <a:prstGeom prst="wedgeEllipseCallout">
            <a:avLst>
              <a:gd name="adj1" fmla="val -41828"/>
              <a:gd name="adj2" fmla="val 128782"/>
            </a:avLst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3 Llamada de nube"/>
          <p:cNvSpPr/>
          <p:nvPr/>
        </p:nvSpPr>
        <p:spPr>
          <a:xfrm>
            <a:off x="6372360" y="692280"/>
            <a:ext cx="1439640" cy="72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4 Pergamino vertical"/>
          <p:cNvSpPr/>
          <p:nvPr/>
        </p:nvSpPr>
        <p:spPr>
          <a:xfrm rot="21432000">
            <a:off x="6405480" y="4890960"/>
            <a:ext cx="1949400" cy="1395720"/>
          </a:xfrm>
          <a:prstGeom prst="verticalScroll">
            <a:avLst>
              <a:gd name="adj" fmla="val 12500"/>
            </a:avLst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775640" cy="1081080"/>
          </a:xfrm>
          <a:prstGeom prst="rect">
            <a:avLst/>
          </a:prstGeom>
          <a:solidFill>
            <a:srgbClr val="009dd9"/>
          </a:solidFill>
          <a:ln w="12600">
            <a:solidFill>
              <a:srgbClr val="0075a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ffffff"/>
                </a:solidFill>
                <a:latin typeface="Century Gothic"/>
              </a:rPr>
              <a:t>ANTONELLA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" name="3 Marcador de contenido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26888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2 Corazón"/>
          <p:cNvSpPr/>
          <p:nvPr/>
        </p:nvSpPr>
        <p:spPr>
          <a:xfrm>
            <a:off x="1150920" y="1628640"/>
            <a:ext cx="450720" cy="360360"/>
          </a:xfrm>
          <a:custGeom>
            <a:avLst/>
            <a:gdLst/>
            <a:ahLst/>
            <a:rect l="l" t="t" r="r" b="b"/>
            <a:pathLst>
              <a:path w="450850" h="360363">
                <a:moveTo>
                  <a:pt x="225425" y="90091"/>
                </a:moveTo>
                <a:cubicBezTo>
                  <a:pt x="319352" y="-120121"/>
                  <a:pt x="685668" y="90091"/>
                  <a:pt x="225425" y="360363"/>
                </a:cubicBezTo>
                <a:cubicBezTo>
                  <a:pt x="-234818" y="90091"/>
                  <a:pt x="131498" y="-120121"/>
                  <a:pt x="225425" y="90091"/>
                </a:cubicBez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3 Corazón"/>
          <p:cNvSpPr/>
          <p:nvPr/>
        </p:nvSpPr>
        <p:spPr>
          <a:xfrm>
            <a:off x="7667640" y="1413000"/>
            <a:ext cx="289080" cy="287280"/>
          </a:xfrm>
          <a:custGeom>
            <a:avLst/>
            <a:gdLst/>
            <a:ahLst/>
            <a:rect l="l" t="t" r="r" b="b"/>
            <a:pathLst>
              <a:path w="288925" h="287338">
                <a:moveTo>
                  <a:pt x="144463" y="71835"/>
                </a:moveTo>
                <a:cubicBezTo>
                  <a:pt x="204655" y="-95779"/>
                  <a:pt x="439407" y="71835"/>
                  <a:pt x="144463" y="287338"/>
                </a:cubicBezTo>
                <a:cubicBezTo>
                  <a:pt x="-150482" y="71835"/>
                  <a:pt x="84270" y="-95779"/>
                  <a:pt x="144463" y="71835"/>
                </a:cubicBez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4 Corazón"/>
          <p:cNvSpPr/>
          <p:nvPr/>
        </p:nvSpPr>
        <p:spPr>
          <a:xfrm>
            <a:off x="1332000" y="4724280"/>
            <a:ext cx="269640" cy="360360"/>
          </a:xfrm>
          <a:custGeom>
            <a:avLst/>
            <a:gdLst/>
            <a:ahLst/>
            <a:rect l="l" t="t" r="r" b="b"/>
            <a:pathLst>
              <a:path w="269875" h="360363">
                <a:moveTo>
                  <a:pt x="134938" y="90091"/>
                </a:moveTo>
                <a:cubicBezTo>
                  <a:pt x="191161" y="-120121"/>
                  <a:pt x="410435" y="90091"/>
                  <a:pt x="134938" y="360363"/>
                </a:cubicBezTo>
                <a:cubicBezTo>
                  <a:pt x="-140560" y="90091"/>
                  <a:pt x="78714" y="-120121"/>
                  <a:pt x="134938" y="90091"/>
                </a:cubicBez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000000"/>
                </a:solidFill>
                <a:latin typeface="Century Gothic"/>
              </a:rPr>
              <a:t>TÉ 15 ANY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entury Gothic"/>
              </a:rPr>
              <a:t>D&amp;G ANTONELLA Y MARI CARM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Ç1 Estrella de 5 puntas"/>
          <p:cNvSpPr/>
          <p:nvPr/>
        </p:nvSpPr>
        <p:spPr>
          <a:xfrm>
            <a:off x="6875640" y="5013360"/>
            <a:ext cx="1296720" cy="863640"/>
          </a:xfrm>
          <a:custGeom>
            <a:avLst/>
            <a:gdLst/>
            <a:ahLst/>
            <a:rect l="l" t="t" r="r" b="b"/>
            <a:pathLst>
              <a:path w="1296987" h="863600">
                <a:moveTo>
                  <a:pt x="1" y="329865"/>
                </a:moveTo>
                <a:lnTo>
                  <a:pt x="495408" y="329867"/>
                </a:lnTo>
                <a:lnTo>
                  <a:pt x="648494" y="0"/>
                </a:lnTo>
                <a:lnTo>
                  <a:pt x="801579" y="329867"/>
                </a:lnTo>
                <a:lnTo>
                  <a:pt x="1296986" y="329865"/>
                </a:lnTo>
                <a:lnTo>
                  <a:pt x="896192" y="533732"/>
                </a:lnTo>
                <a:lnTo>
                  <a:pt x="1049284" y="863598"/>
                </a:lnTo>
                <a:lnTo>
                  <a:pt x="648494" y="659727"/>
                </a:lnTo>
                <a:lnTo>
                  <a:pt x="247703" y="863598"/>
                </a:lnTo>
                <a:lnTo>
                  <a:pt x="400795" y="533732"/>
                </a:lnTo>
                <a:lnTo>
                  <a:pt x="1" y="329865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2 Estrella de 5 puntas"/>
          <p:cNvSpPr/>
          <p:nvPr/>
        </p:nvSpPr>
        <p:spPr>
          <a:xfrm>
            <a:off x="1116000" y="4508640"/>
            <a:ext cx="1224000" cy="757080"/>
          </a:xfrm>
          <a:custGeom>
            <a:avLst/>
            <a:gdLst/>
            <a:ahLst/>
            <a:rect l="l" t="t" r="r" b="b"/>
            <a:pathLst>
              <a:path w="1223962" h="757238">
                <a:moveTo>
                  <a:pt x="1" y="289238"/>
                </a:moveTo>
                <a:lnTo>
                  <a:pt x="467514" y="289240"/>
                </a:lnTo>
                <a:lnTo>
                  <a:pt x="611981" y="0"/>
                </a:lnTo>
                <a:lnTo>
                  <a:pt x="756448" y="289240"/>
                </a:lnTo>
                <a:lnTo>
                  <a:pt x="1223961" y="289238"/>
                </a:lnTo>
                <a:lnTo>
                  <a:pt x="845733" y="467997"/>
                </a:lnTo>
                <a:lnTo>
                  <a:pt x="990205" y="757236"/>
                </a:lnTo>
                <a:lnTo>
                  <a:pt x="611981" y="578474"/>
                </a:lnTo>
                <a:lnTo>
                  <a:pt x="233757" y="757236"/>
                </a:lnTo>
                <a:lnTo>
                  <a:pt x="378229" y="467997"/>
                </a:lnTo>
                <a:lnTo>
                  <a:pt x="1" y="289238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" name="3 Forma libre" descr=""/>
          <p:cNvPicPr/>
          <p:nvPr/>
        </p:nvPicPr>
        <p:blipFill>
          <a:blip r:embed="rId1"/>
          <a:stretch/>
        </p:blipFill>
        <p:spPr>
          <a:xfrm>
            <a:off x="6954840" y="1951200"/>
            <a:ext cx="62856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4 Forma libre" descr=""/>
          <p:cNvPicPr/>
          <p:nvPr/>
        </p:nvPicPr>
        <p:blipFill>
          <a:blip r:embed="rId2"/>
          <a:stretch/>
        </p:blipFill>
        <p:spPr>
          <a:xfrm>
            <a:off x="1042920" y="2305080"/>
            <a:ext cx="663480" cy="816120"/>
          </a:xfrm>
          <a:prstGeom prst="rect">
            <a:avLst/>
          </a:prstGeom>
          <a:ln w="0">
            <a:noFill/>
          </a:ln>
        </p:spPr>
      </p:pic>
      <p:sp>
        <p:nvSpPr>
          <p:cNvPr id="68" name="5 Explosión 1"/>
          <p:cNvSpPr/>
          <p:nvPr/>
        </p:nvSpPr>
        <p:spPr>
          <a:xfrm>
            <a:off x="5364000" y="4888080"/>
            <a:ext cx="648000" cy="772920"/>
          </a:xfrm>
          <a:prstGeom prst="irregularSeal1">
            <a:avLst/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6 Estrella de 4 puntas"/>
          <p:cNvSpPr/>
          <p:nvPr/>
        </p:nvSpPr>
        <p:spPr>
          <a:xfrm>
            <a:off x="6227640" y="3500280"/>
            <a:ext cx="73080" cy="576360"/>
          </a:xfrm>
          <a:custGeom>
            <a:avLst/>
            <a:gdLst>
              <a:gd name="textAreaLeft" fmla="*/ 30240 w 73080"/>
              <a:gd name="textAreaRight" fmla="*/ 42840 w 7308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7 Estrella de 4 puntas"/>
          <p:cNvSpPr/>
          <p:nvPr/>
        </p:nvSpPr>
        <p:spPr>
          <a:xfrm>
            <a:off x="5688000" y="2997360"/>
            <a:ext cx="900000" cy="792000"/>
          </a:xfrm>
          <a:custGeom>
            <a:avLst/>
            <a:gdLst>
              <a:gd name="textAreaLeft" fmla="*/ 370800 w 900000"/>
              <a:gd name="textAreaRight" fmla="*/ 529200 w 90000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8 Corazón"/>
          <p:cNvSpPr/>
          <p:nvPr/>
        </p:nvSpPr>
        <p:spPr>
          <a:xfrm>
            <a:off x="7164360" y="2997360"/>
            <a:ext cx="1152720" cy="703080"/>
          </a:xfrm>
          <a:prstGeom prst="pie">
            <a:avLst/>
          </a:prstGeom>
          <a:solidFill>
            <a:srgbClr val="0f6fc6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ffffff"/>
                </a:solidFill>
                <a:latin typeface="Century Gothic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9 Cinta perforada"/>
          <p:cNvSpPr/>
          <p:nvPr/>
        </p:nvSpPr>
        <p:spPr>
          <a:xfrm>
            <a:off x="1371600" y="4076640"/>
            <a:ext cx="824040" cy="289080"/>
          </a:xfrm>
          <a:prstGeom prst="flowChartPunchedTape">
            <a:avLst/>
          </a:pr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10 Botón de acción: Película"/>
          <p:cNvSpPr/>
          <p:nvPr/>
        </p:nvSpPr>
        <p:spPr>
          <a:xfrm rot="21327000">
            <a:off x="6295680" y="4989600"/>
            <a:ext cx="573120" cy="819000"/>
          </a:xfrm>
          <a:custGeom>
            <a:avLst/>
            <a:gdLst>
              <a:gd name="textAreaLeft" fmla="*/ 37080 w 573120"/>
              <a:gd name="textAreaRight" fmla="*/ 536040 w 573120"/>
              <a:gd name="textAreaTop" fmla="*/ 37080 h 819000"/>
              <a:gd name="textAreaBottom" fmla="*/ 781920 h 819000"/>
            </a:gdLst>
            <a:ahLst/>
            <a:rect l="textAreaLeft" t="textAreaTop" r="textAreaRight" b="textAreaBottom"/>
            <a:pathLst>
              <a:path w="21600" h="30861">
                <a:moveTo>
                  <a:pt x="0" y="0"/>
                </a:moveTo>
                <a:lnTo>
                  <a:pt x="21600" y="0"/>
                </a:lnTo>
                <a:lnTo>
                  <a:pt x="21600" y="30861"/>
                </a:lnTo>
                <a:lnTo>
                  <a:pt x="0" y="30861"/>
                </a:lnTo>
                <a:close/>
              </a:path>
              <a:path fill="lightenLess" w="21600" h="308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61">
                <a:moveTo>
                  <a:pt x="21600" y="0"/>
                </a:moveTo>
                <a:lnTo>
                  <a:pt x="21600" y="30861"/>
                </a:lnTo>
                <a:lnTo>
                  <a:pt x="20200" y="29461"/>
                </a:lnTo>
                <a:lnTo>
                  <a:pt x="20200" y="1400"/>
                </a:lnTo>
                <a:close/>
              </a:path>
              <a:path fill="darkenLess" w="21600" h="30861">
                <a:moveTo>
                  <a:pt x="21600" y="30861"/>
                </a:moveTo>
                <a:lnTo>
                  <a:pt x="0" y="30861"/>
                </a:lnTo>
                <a:lnTo>
                  <a:pt x="1400" y="29461"/>
                </a:lnTo>
                <a:lnTo>
                  <a:pt x="20200" y="29461"/>
                </a:lnTo>
                <a:close/>
              </a:path>
              <a:path fill="lighten" w="21600" h="30861">
                <a:moveTo>
                  <a:pt x="0" y="308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61"/>
                </a:lnTo>
                <a:close/>
              </a:path>
              <a:path fill="darken" w="21600" h="30861">
                <a:moveTo>
                  <a:pt x="3794" y="11932"/>
                </a:moveTo>
                <a:lnTo>
                  <a:pt x="4707" y="11932"/>
                </a:lnTo>
                <a:lnTo>
                  <a:pt x="5090" y="12297"/>
                </a:lnTo>
                <a:lnTo>
                  <a:pt x="14299" y="12297"/>
                </a:lnTo>
                <a:lnTo>
                  <a:pt x="14856" y="12854"/>
                </a:lnTo>
                <a:lnTo>
                  <a:pt x="14856" y="13403"/>
                </a:lnTo>
                <a:lnTo>
                  <a:pt x="16701" y="13403"/>
                </a:lnTo>
                <a:lnTo>
                  <a:pt x="17067" y="12854"/>
                </a:lnTo>
                <a:lnTo>
                  <a:pt x="17806" y="12854"/>
                </a:lnTo>
                <a:lnTo>
                  <a:pt x="17806" y="18007"/>
                </a:lnTo>
                <a:lnTo>
                  <a:pt x="17067" y="18007"/>
                </a:lnTo>
                <a:lnTo>
                  <a:pt x="16701" y="17458"/>
                </a:lnTo>
                <a:lnTo>
                  <a:pt x="14856" y="17458"/>
                </a:lnTo>
                <a:lnTo>
                  <a:pt x="14856" y="18738"/>
                </a:lnTo>
                <a:lnTo>
                  <a:pt x="5273" y="18738"/>
                </a:lnTo>
                <a:lnTo>
                  <a:pt x="5273" y="14508"/>
                </a:lnTo>
                <a:lnTo>
                  <a:pt x="5090" y="14508"/>
                </a:lnTo>
                <a:lnTo>
                  <a:pt x="4707" y="14873"/>
                </a:lnTo>
                <a:lnTo>
                  <a:pt x="3794" y="14873"/>
                </a:lnTo>
                <a:close/>
              </a:path>
            </a:pathLst>
          </a:custGeom>
          <a:solidFill>
            <a:srgbClr val="0f6fc6"/>
          </a:solidFill>
          <a:ln w="12600">
            <a:solidFill>
              <a:srgbClr val="004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27:20Z</dcterms:created>
  <dc:creator>super</dc:creator>
  <dc:description/>
  <dc:language>en-US</dc:language>
  <cp:lastModifiedBy>super</cp:lastModifiedBy>
  <dcterms:modified xsi:type="dcterms:W3CDTF">2011-03-31T13:16:03Z</dcterms:modified>
  <cp:revision>7</cp:revision>
  <dc:subject/>
  <dc:title>                                                   </dc:title>
</cp:coreProperties>
</file>