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.png" ContentType="image/png"/>
  <Override PartName="/ppt/media/image4.png" ContentType="image/png"/>
  <Override PartName="/ppt/media/image27.png" ContentType="image/png"/>
  <Override PartName="/ppt/media/image8.jpeg" ContentType="image/jpeg"/>
  <Override PartName="/ppt/media/image26.jpeg" ContentType="image/jpeg"/>
  <Override PartName="/ppt/media/image5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30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1F7-80B0-42A5-A1EB-B08BCE3E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5CD-B64F-4313-9070-16F2567F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778-5CDB-4BB6-A543-763544E8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E92-6D25-4335-AF2D-83F511A7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46A8-FD72-4BCF-9AC5-7FEF78B6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A8C7-4814-4729-8ED7-BBCD52AA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73E8-EAAB-44A4-8888-032756FF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EBF0-7813-44E1-8FC6-C25C4E15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F292-71D5-4524-84B9-07E4A3BF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1617-9F88-49F7-AFCD-49AAEC01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7EC9-C3C2-4686-95B9-6CB1ED60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57C-C9FB-4D45-AB8C-045FDDE0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EE45-EEE4-41CD-B8E2-CB401E69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42E0-EDE1-40B5-8E0A-75FAB85D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1F27-D9E7-4828-A6C3-850ADC95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6508-4637-4DD4-866C-2EEFCC3C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5018-9EA0-41CF-8C08-CE19A2AB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A1EB2-B481-468A-8BB9-140E191E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F22A-D2D2-4535-8D8C-A385C6A7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013AD-2B0C-4A21-98C3-4A4DE499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13023-DFD8-46D9-9D6A-58DC2C28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E2338-DC34-42C7-9BD6-825A7F63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B84-FC90-4695-BA4F-F7813D80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A90E9-A911-4634-8707-1A1FB3C9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2A5AD-9040-43A0-87E8-80784E93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BE18C-A412-4826-A443-4E8CB407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EBCBF-7AB1-47AA-8D1D-916D40A2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4EDC-04E7-456C-A6E6-EDB77457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B004-C3AC-45A2-BE17-6597E00F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BE8B-C47D-4244-952F-D295619C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4318-21B9-4964-ACAC-B0C5E6E7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250C-EBED-472D-9EF7-ECF621C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F14FD-767F-426B-9C4B-D48F6186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640-98EF-47EE-8A1B-D04F91FC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73F79-BD49-47C8-AF38-298306D1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E8083-854F-43EF-968B-CB8721A5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20235-2FC4-4B7E-A712-698E2802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40EB1-D7FF-462F-8222-B563C908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1B8B7-BD09-4D3D-A5C3-FBEAD75B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91E13-3E6E-40F3-B4C2-021E1783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F2CA9-0CF3-4F7E-BCB4-AC9E92D9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BFD81-00C9-4AE4-A6BA-A590E48D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0353-E55C-48EA-BB3D-C3BDFCF6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1B596-0887-4FA8-B627-BD33A061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07F-93CF-49AB-BAA5-ABCDAE1A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9BBD5-06D9-4313-90A9-C27AF560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5035E-24FF-4405-B8C2-6E5E2E96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CFE9A-53A9-446C-ADF8-8258B904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6776F-F406-4A4E-947F-33DB527B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C575B-8FCE-415F-8C87-3E05EA25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25F93-0384-4145-9BD5-E14C05A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9A735-FDA4-418B-83CB-0C280743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06430-B7F4-4DFA-BACE-B327AC7C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7F4CC-463A-4FEB-9A3C-6DDA28A5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3B032-7D8A-42BC-A0D6-22104B50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393-519D-4480-8AD2-B612C89F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6DD95-0110-4754-ADAE-0EA475F9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FCC8-900C-47ED-88FD-09B62798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3A628-39E0-4ECB-A6A8-AA2748CC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6D4D5-EB20-46A8-BCCC-875A5D6B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CEBB4-4A77-4EB5-BBFE-668B489D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6D98D-19F2-4AC9-8478-D8EC4D88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476E4-AD53-4DC0-B7DC-3E528FD6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A8835-BBF7-474B-947E-EDB67066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D1796-7380-4E73-9B3D-C431A7D2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979ED-03CF-4D85-AA3E-462D8AFB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3DC-2EBB-46F7-BDB6-B714F75A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E654A-8327-4BAD-A527-631E0BC6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F4364-62FB-4EB2-9632-BB8EBF16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64409-0790-4192-B4F3-0C7F4F62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05A4F-B393-45A4-83FA-DE7F078C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2276F-809B-4F9A-96BF-E766FFDC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64E0C-ACA0-4EA8-9CC2-37320BF3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85A1A-77BA-4A46-9D87-00FD8740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E821F-5F78-4889-9AFC-88116D95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9AD39-02C2-444D-965C-DD7A3B14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329E9-2F54-4733-8589-A5DE5774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BE3-8367-4822-A567-C2FB0057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29012-A6B7-43FF-9352-E3523BDA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F5E7B-9034-4FE3-809C-FD74AF14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544D0-E98F-4547-97F4-A8421EB4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FA025-6919-4F40-806D-C17F7028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BB090-CB31-4D7A-8A9A-F879167C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704E4-A4D3-4B7B-A066-3AABB06C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39E1D-4BD9-417C-B6D2-3B38DDFC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BC17D-7A48-4041-ABEF-08FEB5E9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7D612-B8E6-4755-8980-8CE75DA1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1B0B2-6795-49BF-8750-22E47686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F71-A7A2-4739-B69B-D062E32A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01AA7-1B90-4903-B51A-0A49734F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C76AE-B122-492C-8E47-15D63136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701AC-182D-4FB7-BA6C-0204C152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9A011-41F0-4652-BF41-48AAA72F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1FBC0-6004-4011-A38A-78D037F1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0E10D-989B-41E4-BC27-14A6E57C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AA4A4-6B5A-4999-8C54-704793C1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73E4-C8A3-4909-A18F-9E9F335C6D43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5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8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8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19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A828-8C75-41AF-A62C-3E150745CD5E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1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65AF-1C6A-4772-BCE2-5A0F2DAD58DC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AB9B-1F5A-448E-BC26-BDF33902B7CC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6586-F80B-4290-8CE7-8875BEF0F189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042F-E984-4C60-8249-690495A3C163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43BE-A592-4F54-A331-BE5B3DF4ADB7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5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5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6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8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19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5AE5-DA91-44EE-A0E8-DA668E3A8906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3 Título" descr=""/>
          <p:cNvPicPr/>
          <p:nvPr/>
        </p:nvPicPr>
        <p:blipFill>
          <a:blip r:embed="rId1"/>
          <a:stretch/>
        </p:blipFill>
        <p:spPr>
          <a:xfrm>
            <a:off x="1700280" y="384120"/>
            <a:ext cx="4554360" cy="1457280"/>
          </a:xfrm>
          <a:prstGeom prst="rect">
            <a:avLst/>
          </a:prstGeom>
          <a:ln w="0">
            <a:noFill/>
          </a:ln>
        </p:spPr>
      </p:pic>
      <p:pic>
        <p:nvPicPr>
          <p:cNvPr id="371" name="10 Marcador de contenido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3141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3 Marcador de contenido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4681440" cy="4321080"/>
          </a:xfrm>
          <a:prstGeom prst="rect">
            <a:avLst/>
          </a:prstGeom>
          <a:ln w="0">
            <a:noFill/>
          </a:ln>
        </p:spPr>
      </p:pic>
      <p:pic>
        <p:nvPicPr>
          <p:cNvPr id="390" name="2 Título" descr=""/>
          <p:cNvPicPr/>
          <p:nvPr/>
        </p:nvPicPr>
        <p:blipFill>
          <a:blip r:embed="rId2"/>
          <a:stretch/>
        </p:blipFill>
        <p:spPr>
          <a:xfrm>
            <a:off x="-109440" y="-85680"/>
            <a:ext cx="9362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3 Marcador de contenido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4319640" cy="4464000"/>
          </a:xfrm>
          <a:prstGeom prst="rect">
            <a:avLst/>
          </a:prstGeom>
          <a:ln w="0">
            <a:noFill/>
          </a:ln>
        </p:spPr>
      </p:pic>
      <p:pic>
        <p:nvPicPr>
          <p:cNvPr id="392" name="2 Título" descr=""/>
          <p:cNvPicPr/>
          <p:nvPr/>
        </p:nvPicPr>
        <p:blipFill>
          <a:blip r:embed="rId2"/>
          <a:stretch/>
        </p:blipFill>
        <p:spPr>
          <a:xfrm>
            <a:off x="92160" y="201600"/>
            <a:ext cx="85946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3 Marcador de contenido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680000" cy="4105440"/>
          </a:xfrm>
          <a:prstGeom prst="rect">
            <a:avLst/>
          </a:prstGeom>
          <a:ln w="0">
            <a:noFill/>
          </a:ln>
        </p:spPr>
      </p:pic>
      <p:pic>
        <p:nvPicPr>
          <p:cNvPr id="394" name="2 Título" descr=""/>
          <p:cNvPicPr/>
          <p:nvPr/>
        </p:nvPicPr>
        <p:blipFill>
          <a:blip r:embed="rId2"/>
          <a:stretch/>
        </p:blipFill>
        <p:spPr>
          <a:xfrm>
            <a:off x="146160" y="274680"/>
            <a:ext cx="85406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3 Marcador de contenido" descr=""/>
          <p:cNvPicPr/>
          <p:nvPr/>
        </p:nvPicPr>
        <p:blipFill>
          <a:blip r:embed="rId1"/>
          <a:stretch/>
        </p:blipFill>
        <p:spPr>
          <a:xfrm>
            <a:off x="2286000" y="20304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73" name="2 Título" descr=""/>
          <p:cNvPicPr/>
          <p:nvPr/>
        </p:nvPicPr>
        <p:blipFill>
          <a:blip r:embed="rId2"/>
          <a:stretch/>
        </p:blipFill>
        <p:spPr>
          <a:xfrm>
            <a:off x="19080" y="152280"/>
            <a:ext cx="872316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1 Marcador de contenido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881080" cy="3671640"/>
          </a:xfrm>
          <a:prstGeom prst="rect">
            <a:avLst/>
          </a:prstGeom>
          <a:ln w="0">
            <a:noFill/>
          </a:ln>
        </p:spPr>
      </p:pic>
      <p:pic>
        <p:nvPicPr>
          <p:cNvPr id="375" name="2 Título" descr=""/>
          <p:cNvPicPr/>
          <p:nvPr/>
        </p:nvPicPr>
        <p:blipFill>
          <a:blip r:embed="rId2"/>
          <a:stretch/>
        </p:blipFill>
        <p:spPr>
          <a:xfrm>
            <a:off x="469800" y="334800"/>
            <a:ext cx="8229600" cy="1140120"/>
          </a:xfrm>
          <a:prstGeom prst="rect">
            <a:avLst/>
          </a:prstGeom>
          <a:ln w="0">
            <a:noFill/>
          </a:ln>
        </p:spPr>
      </p:pic>
      <p:pic>
        <p:nvPicPr>
          <p:cNvPr id="376" name="7 Rectángulo" descr=""/>
          <p:cNvPicPr/>
          <p:nvPr/>
        </p:nvPicPr>
        <p:blipFill>
          <a:blip r:embed="rId3"/>
          <a:stretch/>
        </p:blipFill>
        <p:spPr>
          <a:xfrm>
            <a:off x="-506520" y="-6480"/>
            <a:ext cx="1015056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3 Marcador de contenido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736720" cy="3887640"/>
          </a:xfrm>
          <a:prstGeom prst="rect">
            <a:avLst/>
          </a:prstGeom>
          <a:ln w="0">
            <a:noFill/>
          </a:ln>
        </p:spPr>
      </p:pic>
      <p:pic>
        <p:nvPicPr>
          <p:cNvPr id="378" name="2 Título" descr=""/>
          <p:cNvPicPr/>
          <p:nvPr/>
        </p:nvPicPr>
        <p:blipFill>
          <a:blip r:embed="rId2"/>
          <a:stretch/>
        </p:blipFill>
        <p:spPr>
          <a:xfrm>
            <a:off x="55440" y="66600"/>
            <a:ext cx="86313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3 Marcador de contenido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248000" cy="3816360"/>
          </a:xfrm>
          <a:prstGeom prst="rect">
            <a:avLst/>
          </a:prstGeom>
          <a:ln w="0">
            <a:noFill/>
          </a:ln>
        </p:spPr>
      </p:pic>
      <p:pic>
        <p:nvPicPr>
          <p:cNvPr id="380" name="2 Título" descr=""/>
          <p:cNvPicPr/>
          <p:nvPr/>
        </p:nvPicPr>
        <p:blipFill>
          <a:blip r:embed="rId2"/>
          <a:stretch/>
        </p:blipFill>
        <p:spPr>
          <a:xfrm>
            <a:off x="378000" y="-274680"/>
            <a:ext cx="83088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3 Marcador de contenido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672000" cy="4321080"/>
          </a:xfrm>
          <a:prstGeom prst="rect">
            <a:avLst/>
          </a:prstGeom>
          <a:ln w="0">
            <a:noFill/>
          </a:ln>
        </p:spPr>
      </p:pic>
      <p:pic>
        <p:nvPicPr>
          <p:cNvPr id="382" name="2 Título" descr=""/>
          <p:cNvPicPr/>
          <p:nvPr/>
        </p:nvPicPr>
        <p:blipFill>
          <a:blip r:embed="rId2"/>
          <a:stretch/>
        </p:blipFill>
        <p:spPr>
          <a:xfrm>
            <a:off x="-231840" y="-274680"/>
            <a:ext cx="9588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-42840" y="-6480"/>
            <a:ext cx="8729640" cy="2011320"/>
          </a:xfrm>
          <a:prstGeom prst="rect">
            <a:avLst/>
          </a:prstGeom>
          <a:ln w="0">
            <a:noFill/>
          </a:ln>
        </p:spPr>
      </p:pic>
      <p:pic>
        <p:nvPicPr>
          <p:cNvPr id="384" name="5 Marcador de contenido" descr=""/>
          <p:cNvPicPr/>
          <p:nvPr/>
        </p:nvPicPr>
        <p:blipFill>
          <a:blip r:embed="rId2"/>
          <a:stretch/>
        </p:blipFill>
        <p:spPr>
          <a:xfrm>
            <a:off x="2556000" y="1700280"/>
            <a:ext cx="4032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2 Título" descr=""/>
          <p:cNvPicPr/>
          <p:nvPr/>
        </p:nvPicPr>
        <p:blipFill>
          <a:blip r:embed="rId1"/>
          <a:stretch/>
        </p:blipFill>
        <p:spPr>
          <a:xfrm>
            <a:off x="49320" y="139680"/>
            <a:ext cx="8637480" cy="1682640"/>
          </a:xfrm>
          <a:prstGeom prst="rect">
            <a:avLst/>
          </a:prstGeom>
          <a:ln w="0">
            <a:noFill/>
          </a:ln>
        </p:spPr>
      </p:pic>
      <p:pic>
        <p:nvPicPr>
          <p:cNvPr id="386" name="5 Marcador de contenido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3 Marcador de contenido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4248360" cy="4537080"/>
          </a:xfrm>
          <a:prstGeom prst="rect">
            <a:avLst/>
          </a:prstGeom>
          <a:ln w="0">
            <a:noFill/>
          </a:ln>
        </p:spPr>
      </p:pic>
      <p:pic>
        <p:nvPicPr>
          <p:cNvPr id="388" name="2 Título" descr=""/>
          <p:cNvPicPr/>
          <p:nvPr/>
        </p:nvPicPr>
        <p:blipFill>
          <a:blip r:embed="rId2"/>
          <a:stretch/>
        </p:blipFill>
        <p:spPr>
          <a:xfrm>
            <a:off x="0" y="66600"/>
            <a:ext cx="9144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24:31Z</dcterms:created>
  <dc:creator>super</dc:creator>
  <dc:description/>
  <dc:language>en-US</dc:language>
  <cp:lastModifiedBy>super</cp:lastModifiedBy>
  <dcterms:modified xsi:type="dcterms:W3CDTF">2011-02-10T14:53:17Z</dcterms:modified>
  <cp:revision>8</cp:revision>
  <dc:subject/>
  <dc:title>Presentación de PowerPoint</dc:title>
</cp:coreProperties>
</file>