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30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75B-2DD5-46E5-9AC4-9DC8963F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69E-5A17-423B-B69B-5C9E9B41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45F-DA84-4621-BF7F-6792A8A8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EF6-2D4B-4D69-B26B-5ACC69EA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03DA-F3E2-45A8-BD82-8956D358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D05-A250-484E-8881-A47B2FE2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0CA-BBDC-43ED-A6C6-C069471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D101-5483-4E28-B9E4-29BE55D3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E3B-5398-4229-8115-FF62F3F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A319-85AF-4CCD-9625-51DDC3C7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8146-4CBB-4F89-9796-CFDF440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287-AFA0-4187-99ED-2D86C14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012D-A9F7-4456-8C65-BEF308E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1875-7BBC-4EAB-9814-D465B66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840F-8F31-400C-BD1E-73DFE08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E3E5-B617-4544-9D52-C84C6F8F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C6FC-E685-488B-96D5-D4E21E65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BC33-55B2-495E-85B3-61881262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ACA1-C314-487C-9EC2-E8728FC7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DCD80-9954-4585-8DBA-6B30468C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A041-ED78-401A-AFF8-B62F8C27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4367-7F08-4C58-B6DF-7A74660B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630-C8B5-4869-9FA1-289CF5D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F566-C62C-44E6-9E8D-B99F9C4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504BB-F807-4DD6-8B74-DF19D37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D7A7-8269-4310-8822-8CC84F7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BC03-3D0E-42E3-B8F3-4CA3EAB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0E61-F277-4241-8833-C987422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3D90-656C-4B21-8D73-F08C9955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C681-A1EE-4799-B95D-59F96A23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FBFA-9119-4AD3-A288-FA3E7195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69F9D-F39A-4A7C-AD82-446CFFC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1D24-2E70-4500-8CF8-21DA691A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659-2BFA-49CC-8F5E-86D9EF08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6D01C-1AF2-4FA5-9ED4-7BFA208D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526B-5F42-4ABD-80A6-94D59254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A78B-7061-4240-BEB9-E79C8123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A3C4-D659-476E-8307-88A0945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61E9-8806-49F7-A859-F050D8DF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9544-ECEC-4B6D-9E52-ADA96D60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B9D6-0A77-4D44-8A12-08A4DEF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AE1E-D4E6-4828-A29B-CECE3724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C667-A418-426F-8C9D-68D99501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9CF6-7F08-4805-9CFA-A97B836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368-4959-4E82-B222-10EA4C8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1175-C34E-4E92-A976-A801AB44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FA53B-D446-4C4D-AC99-1E74B8DD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5FE8-B188-4289-8700-26AF6A0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F1FD-FD5F-4BA5-A356-CAD5C98C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E499B-C140-43E6-ACDA-45575A4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6628-175E-4BBC-9AC9-AB1D0EA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AC2A-4DF6-48FE-96A1-4C4DA91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368AC-993C-4EE6-91E5-A4E6200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BB6B-D925-4EB1-8D90-E542236D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495BE-69B7-44AA-89BB-08608FC5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5EB-EC66-4DA1-A492-FA4A9EF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AACA-B6EC-4BF4-8D4D-A9ABA1D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5421-AB6F-4AA7-91C8-9B47933A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7CE7B-D8A2-407B-A9BE-F25D046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FC4FE-75E5-49FD-A557-0CF22E94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EB50B-08D6-4E38-9559-B1973C90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F28B-7D52-4811-ACDB-96C7BDA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EEE2-AAF3-4BC5-85DD-9FFC076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F5C23-37A2-43A3-87AF-DD16F2F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E2C60-C91C-4AC7-8ACE-8E803B59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06319-39CC-48D0-A07F-E8639C97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99F-89D8-4BE3-A3B2-6577F12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9DCE-A8CA-489E-BA03-86CFF3E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5F3A1-C449-49CB-9278-27889A2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5816-21E4-48D2-A852-2A47BDF9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0F56C-9178-46D6-B952-D6C8D11D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3D5A9-2985-454A-B61C-714E755B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BB3F-E014-4C2D-9449-8DDC4A3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CCABC-210C-48BC-BC55-AA37DAEF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9355-7BDB-434A-8D3A-D1012762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D9CC5-7928-478F-AD1E-1CA9643A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6A6D-6027-4878-AB76-B47701C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D42-E98A-4DF4-A910-38F334B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4AC3-2EAD-4D0E-A156-C6FC9E9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68E0-DB5B-478C-8A3D-998FF911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7907-BF79-427C-BEE1-0B7CE34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59D3-79D5-49C0-A39F-D9FBC343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F3D0A-DF95-4F8F-8DAC-413336BD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8D68C-79C1-4E15-903D-056810F6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BD85-7C44-47C5-9AB5-AB672E82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F1F7-CC5A-44B3-AE20-77C1EFD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4BD0-FB40-4E90-8F60-F1AE997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5F661-A608-4B6C-BB34-5165A6DF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226-DD72-4088-8047-493DB02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19A12-FC5C-4C99-8F27-B0456DCD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75822-3030-45FF-97EA-61F3C7B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7476-FF4B-44D9-9DA2-AB8997A0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31B71-AB47-45E8-BFF3-04A701E6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9D91-8312-4BBE-BB13-2D32926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65E2C-ABC0-499F-A3A4-4E87A23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AEE9-8E14-4240-B552-52FA93C2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693D-568D-4A6A-A710-6444EA0A2E74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5 Forma libre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8 Forma libre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18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19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7B6F-F693-49E5-873A-7824B1A413EA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1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816-11E1-4F0B-8382-C5AB53E1563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514-FF87-41E1-ABBA-3F8B865D9CA2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A4B-79EB-4327-9AEF-F30E52197536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E40-5169-44E1-B84C-BA6A49BEC465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A309-2DE6-4E96-9B39-D2AF0BCE9EF3}" type="slidenum">
              <a:rPr b="0" lang="es-E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5 Triángulo rectángulo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15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6 Conector recto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18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19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F3F-1410-439D-A3A4-8AAB0AF0924C}" type="slidenum">
              <a:rPr b="0" lang="es-E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3 Título" descr=""/>
          <p:cNvPicPr/>
          <p:nvPr/>
        </p:nvPicPr>
        <p:blipFill>
          <a:blip r:embed="rId1"/>
          <a:stretch/>
        </p:blipFill>
        <p:spPr>
          <a:xfrm>
            <a:off x="1700280" y="384120"/>
            <a:ext cx="4554360" cy="1457280"/>
          </a:xfrm>
          <a:prstGeom prst="rect">
            <a:avLst/>
          </a:prstGeom>
          <a:ln w="0">
            <a:noFill/>
          </a:ln>
        </p:spPr>
      </p:pic>
      <p:pic>
        <p:nvPicPr>
          <p:cNvPr id="371" name="10 Marcador de contenido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14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681440" cy="4321080"/>
          </a:xfrm>
          <a:prstGeom prst="rect">
            <a:avLst/>
          </a:prstGeom>
          <a:ln w="0">
            <a:noFill/>
          </a:ln>
        </p:spPr>
      </p:pic>
      <p:pic>
        <p:nvPicPr>
          <p:cNvPr id="390" name="2 Título" descr=""/>
          <p:cNvPicPr/>
          <p:nvPr/>
        </p:nvPicPr>
        <p:blipFill>
          <a:blip r:embed="rId2"/>
          <a:stretch/>
        </p:blipFill>
        <p:spPr>
          <a:xfrm>
            <a:off x="-109440" y="-85680"/>
            <a:ext cx="9362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3 Marcador de contenido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319640" cy="4464000"/>
          </a:xfrm>
          <a:prstGeom prst="rect">
            <a:avLst/>
          </a:prstGeom>
          <a:ln w="0">
            <a:noFill/>
          </a:ln>
        </p:spPr>
      </p:pic>
      <p:pic>
        <p:nvPicPr>
          <p:cNvPr id="392" name="2 Título" descr=""/>
          <p:cNvPicPr/>
          <p:nvPr/>
        </p:nvPicPr>
        <p:blipFill>
          <a:blip r:embed="rId2"/>
          <a:stretch/>
        </p:blipFill>
        <p:spPr>
          <a:xfrm>
            <a:off x="92160" y="201600"/>
            <a:ext cx="85946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3 Marcador de contenido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680000" cy="4105440"/>
          </a:xfrm>
          <a:prstGeom prst="rect">
            <a:avLst/>
          </a:prstGeom>
          <a:ln w="0">
            <a:noFill/>
          </a:ln>
        </p:spPr>
      </p:pic>
      <p:pic>
        <p:nvPicPr>
          <p:cNvPr id="394" name="2 Título" descr=""/>
          <p:cNvPicPr/>
          <p:nvPr/>
        </p:nvPicPr>
        <p:blipFill>
          <a:blip r:embed="rId2"/>
          <a:stretch/>
        </p:blipFill>
        <p:spPr>
          <a:xfrm>
            <a:off x="146160" y="274680"/>
            <a:ext cx="85406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3 Marcador de contenido" descr=""/>
          <p:cNvPicPr/>
          <p:nvPr/>
        </p:nvPicPr>
        <p:blipFill>
          <a:blip r:embed="rId1"/>
          <a:stretch/>
        </p:blipFill>
        <p:spPr>
          <a:xfrm>
            <a:off x="2286000" y="203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2 Título" descr=""/>
          <p:cNvPicPr/>
          <p:nvPr/>
        </p:nvPicPr>
        <p:blipFill>
          <a:blip r:embed="rId2"/>
          <a:stretch/>
        </p:blipFill>
        <p:spPr>
          <a:xfrm>
            <a:off x="19080" y="152280"/>
            <a:ext cx="872316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1 Marcador de contenido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81080" cy="3671640"/>
          </a:xfrm>
          <a:prstGeom prst="rect">
            <a:avLst/>
          </a:prstGeom>
          <a:ln w="0">
            <a:noFill/>
          </a:ln>
        </p:spPr>
      </p:pic>
      <p:pic>
        <p:nvPicPr>
          <p:cNvPr id="375" name="2 Título" descr=""/>
          <p:cNvPicPr/>
          <p:nvPr/>
        </p:nvPicPr>
        <p:blipFill>
          <a:blip r:embed="rId2"/>
          <a:stretch/>
        </p:blipFill>
        <p:spPr>
          <a:xfrm>
            <a:off x="469800" y="334800"/>
            <a:ext cx="8229600" cy="1140120"/>
          </a:xfrm>
          <a:prstGeom prst="rect">
            <a:avLst/>
          </a:prstGeom>
          <a:ln w="0">
            <a:noFill/>
          </a:ln>
        </p:spPr>
      </p:pic>
      <p:pic>
        <p:nvPicPr>
          <p:cNvPr id="376" name="7 Rectángulo" descr=""/>
          <p:cNvPicPr/>
          <p:nvPr/>
        </p:nvPicPr>
        <p:blipFill>
          <a:blip r:embed="rId3"/>
          <a:stretch/>
        </p:blipFill>
        <p:spPr>
          <a:xfrm>
            <a:off x="-506520" y="-6480"/>
            <a:ext cx="1015056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3 Marcador de contenido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7367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2 Título" descr=""/>
          <p:cNvPicPr/>
          <p:nvPr/>
        </p:nvPicPr>
        <p:blipFill>
          <a:blip r:embed="rId2"/>
          <a:stretch/>
        </p:blipFill>
        <p:spPr>
          <a:xfrm>
            <a:off x="55440" y="66600"/>
            <a:ext cx="8631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3 Marcador de contenido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248000" cy="3816360"/>
          </a:xfrm>
          <a:prstGeom prst="rect">
            <a:avLst/>
          </a:prstGeom>
          <a:ln w="0">
            <a:noFill/>
          </a:ln>
        </p:spPr>
      </p:pic>
      <p:pic>
        <p:nvPicPr>
          <p:cNvPr id="380" name="2 Título" descr=""/>
          <p:cNvPicPr/>
          <p:nvPr/>
        </p:nvPicPr>
        <p:blipFill>
          <a:blip r:embed="rId2"/>
          <a:stretch/>
        </p:blipFill>
        <p:spPr>
          <a:xfrm>
            <a:off x="378000" y="-274680"/>
            <a:ext cx="8308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3 Marcador de contenido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672000" cy="4321080"/>
          </a:xfrm>
          <a:prstGeom prst="rect">
            <a:avLst/>
          </a:prstGeom>
          <a:ln w="0">
            <a:noFill/>
          </a:ln>
        </p:spPr>
      </p:pic>
      <p:pic>
        <p:nvPicPr>
          <p:cNvPr id="382" name="2 Título" descr=""/>
          <p:cNvPicPr/>
          <p:nvPr/>
        </p:nvPicPr>
        <p:blipFill>
          <a:blip r:embed="rId2"/>
          <a:stretch/>
        </p:blipFill>
        <p:spPr>
          <a:xfrm>
            <a:off x="-231840" y="-274680"/>
            <a:ext cx="9588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-42840" y="-6480"/>
            <a:ext cx="8729640" cy="2011320"/>
          </a:xfrm>
          <a:prstGeom prst="rect">
            <a:avLst/>
          </a:prstGeom>
          <a:ln w="0">
            <a:noFill/>
          </a:ln>
        </p:spPr>
      </p:pic>
      <p:pic>
        <p:nvPicPr>
          <p:cNvPr id="384" name="5 Marcador de contenido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03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2 Título" descr=""/>
          <p:cNvPicPr/>
          <p:nvPr/>
        </p:nvPicPr>
        <p:blipFill>
          <a:blip r:embed="rId1"/>
          <a:stretch/>
        </p:blipFill>
        <p:spPr>
          <a:xfrm>
            <a:off x="49320" y="139680"/>
            <a:ext cx="8637480" cy="1682640"/>
          </a:xfrm>
          <a:prstGeom prst="rect">
            <a:avLst/>
          </a:prstGeom>
          <a:ln w="0">
            <a:noFill/>
          </a:ln>
        </p:spPr>
      </p:pic>
      <p:pic>
        <p:nvPicPr>
          <p:cNvPr id="386" name="5 Marcador de contenido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3 Marcador de contenido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4248360" cy="4537080"/>
          </a:xfrm>
          <a:prstGeom prst="rect">
            <a:avLst/>
          </a:prstGeom>
          <a:ln w="0">
            <a:noFill/>
          </a:ln>
        </p:spPr>
      </p:pic>
      <p:pic>
        <p:nvPicPr>
          <p:cNvPr id="388" name="2 Título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4:31Z</dcterms:created>
  <dc:creator>super</dc:creator>
  <dc:description/>
  <dc:language>en-US</dc:language>
  <cp:lastModifiedBy>super</cp:lastModifiedBy>
  <dcterms:modified xsi:type="dcterms:W3CDTF">2011-02-10T14:53:17Z</dcterms:modified>
  <cp:revision>8</cp:revision>
  <dc:subject/>
  <dc:title>Presentación de PowerPoint</dc:title>
</cp:coreProperties>
</file>