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856788" cy="6718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E87-91E8-49AA-830D-AF30F521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4CF-0956-4C5B-88F7-7932B4B8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565-1C71-4726-A8CA-DEC79598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2BE-3978-4362-BA4B-ACD79795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E82-9B0D-4E78-8901-43433B24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1F9-A98D-4B50-805F-6F0778A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53A-0CA7-4B4E-8AD2-1AE554D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D4C-318A-4120-9BF6-D15F0FB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F92-BAB7-40CD-8C56-593925ED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462-D6F5-441D-B20F-73F6705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F69-8EFB-40E2-9F11-AE7D562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A61-0285-4C4F-BCB6-A8916D7C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BC2B-6D13-424B-9F8F-BD4FC57F0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choolscience.co.uk/content/4/chemistry/petroleum/knowl/4/flash/cracking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Chain Hydrocarbons have limi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44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48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52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56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60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64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68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72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76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80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84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88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92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96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100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104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2565360"/>
            <a:ext cx="482436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in paraffin, fuel oil and die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0" y="1268280"/>
          <a:ext cx="914544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544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1619280" y="476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ing in th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00000" y="5084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cking is achieved by passing the vapour of the alkane over a heated catalyst: aluminium oxide or porous pot fragments are often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0" y="1268280"/>
          <a:ext cx="914544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544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1619280" y="476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ing in th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00000" y="508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though the paraffin that is being cracked is liquid, one of the products is a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11280" y="692280"/>
            <a:ext cx="79930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reaking of the bonds is random, so a mixture of alkanes and alkenes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equations that would represent cracking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43280" y="907920"/>
            <a:ext cx="3808440" cy="52578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3423240" y="623736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o to Cracking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87280" y="26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Crack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is useful becau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duces light, valuable fractions such as petrol from heavy less valuable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useful source of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enes are used to make polymers and other useful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conditions in laborato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 liquid alk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 vapour over heated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is aluminium oxide or porous 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 gases form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quid product condense in water and can be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conditions in indust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pourise heav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x vapour with hot zeolite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seous product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becomes covered 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is heated to clea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then recyc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ydrocarbon products separated by fractional dist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112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116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120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124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128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132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136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140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144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148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152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156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160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164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168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172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1280" y="55180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84360" y="4005360"/>
            <a:ext cx="505080" cy="934920"/>
            <a:chOff x="2484360" y="4005360"/>
            <a:chExt cx="505080" cy="934920"/>
          </a:xfrm>
        </p:grpSpPr>
        <p:sp>
          <p:nvSpPr>
            <p:cNvPr id="178" name=""/>
            <p:cNvSpPr/>
            <p:nvPr/>
          </p:nvSpPr>
          <p:spPr>
            <a:xfrm>
              <a:off x="2484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29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9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987640" y="4005360"/>
            <a:ext cx="504720" cy="934920"/>
            <a:chOff x="2987640" y="4005360"/>
            <a:chExt cx="504720" cy="934920"/>
          </a:xfrm>
        </p:grpSpPr>
        <p:sp>
          <p:nvSpPr>
            <p:cNvPr id="182" name=""/>
            <p:cNvSpPr/>
            <p:nvPr/>
          </p:nvSpPr>
          <p:spPr>
            <a:xfrm>
              <a:off x="2987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2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2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492360" y="4005360"/>
            <a:ext cx="505080" cy="934920"/>
            <a:chOff x="3492360" y="4005360"/>
            <a:chExt cx="505080" cy="934920"/>
          </a:xfrm>
        </p:grpSpPr>
        <p:sp>
          <p:nvSpPr>
            <p:cNvPr id="186" name=""/>
            <p:cNvSpPr/>
            <p:nvPr/>
          </p:nvSpPr>
          <p:spPr>
            <a:xfrm>
              <a:off x="3492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7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37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95640" y="4005360"/>
            <a:ext cx="505080" cy="934920"/>
            <a:chOff x="3995640" y="4005360"/>
            <a:chExt cx="505080" cy="934920"/>
          </a:xfrm>
        </p:grpSpPr>
        <p:sp>
          <p:nvSpPr>
            <p:cNvPr id="190" name=""/>
            <p:cNvSpPr/>
            <p:nvPr/>
          </p:nvSpPr>
          <p:spPr>
            <a:xfrm>
              <a:off x="3995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40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40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4005360"/>
            <a:ext cx="504720" cy="934920"/>
            <a:chOff x="468360" y="4005360"/>
            <a:chExt cx="504720" cy="934920"/>
          </a:xfrm>
        </p:grpSpPr>
        <p:sp>
          <p:nvSpPr>
            <p:cNvPr id="194" name=""/>
            <p:cNvSpPr/>
            <p:nvPr/>
          </p:nvSpPr>
          <p:spPr>
            <a:xfrm>
              <a:off x="468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971640" y="4005360"/>
            <a:ext cx="504720" cy="934920"/>
            <a:chOff x="971640" y="4005360"/>
            <a:chExt cx="504720" cy="934920"/>
          </a:xfrm>
        </p:grpSpPr>
        <p:sp>
          <p:nvSpPr>
            <p:cNvPr id="198" name=""/>
            <p:cNvSpPr/>
            <p:nvPr/>
          </p:nvSpPr>
          <p:spPr>
            <a:xfrm>
              <a:off x="971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16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16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476360" y="4005360"/>
            <a:ext cx="504720" cy="934920"/>
            <a:chOff x="1476360" y="4005360"/>
            <a:chExt cx="504720" cy="934920"/>
          </a:xfrm>
        </p:grpSpPr>
        <p:sp>
          <p:nvSpPr>
            <p:cNvPr id="202" name=""/>
            <p:cNvSpPr/>
            <p:nvPr/>
          </p:nvSpPr>
          <p:spPr>
            <a:xfrm>
              <a:off x="1476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20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20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979640" y="4005360"/>
            <a:ext cx="504720" cy="934920"/>
            <a:chOff x="1979640" y="4005360"/>
            <a:chExt cx="504720" cy="934920"/>
          </a:xfrm>
        </p:grpSpPr>
        <p:sp>
          <p:nvSpPr>
            <p:cNvPr id="206" name=""/>
            <p:cNvSpPr/>
            <p:nvPr/>
          </p:nvSpPr>
          <p:spPr>
            <a:xfrm>
              <a:off x="1979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24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24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157720"/>
            <a:ext cx="504720" cy="934920"/>
            <a:chOff x="6516720" y="5157720"/>
            <a:chExt cx="504720" cy="934920"/>
          </a:xfrm>
        </p:grpSpPr>
        <p:sp>
          <p:nvSpPr>
            <p:cNvPr id="210" name=""/>
            <p:cNvSpPr/>
            <p:nvPr/>
          </p:nvSpPr>
          <p:spPr>
            <a:xfrm>
              <a:off x="6516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61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61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020000" y="5157720"/>
            <a:ext cx="504720" cy="934920"/>
            <a:chOff x="7020000" y="5157720"/>
            <a:chExt cx="504720" cy="934920"/>
          </a:xfrm>
        </p:grpSpPr>
        <p:sp>
          <p:nvSpPr>
            <p:cNvPr id="214" name=""/>
            <p:cNvSpPr/>
            <p:nvPr/>
          </p:nvSpPr>
          <p:spPr>
            <a:xfrm>
              <a:off x="7020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4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4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524720" y="5157720"/>
            <a:ext cx="504720" cy="934920"/>
            <a:chOff x="7524720" y="5157720"/>
            <a:chExt cx="504720" cy="934920"/>
          </a:xfrm>
        </p:grpSpPr>
        <p:sp>
          <p:nvSpPr>
            <p:cNvPr id="218" name=""/>
            <p:cNvSpPr/>
            <p:nvPr/>
          </p:nvSpPr>
          <p:spPr>
            <a:xfrm>
              <a:off x="7524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69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028000" y="5157720"/>
            <a:ext cx="504720" cy="934920"/>
            <a:chOff x="8028000" y="5157720"/>
            <a:chExt cx="504720" cy="934920"/>
          </a:xfrm>
        </p:grpSpPr>
        <p:sp>
          <p:nvSpPr>
            <p:cNvPr id="222" name=""/>
            <p:cNvSpPr/>
            <p:nvPr/>
          </p:nvSpPr>
          <p:spPr>
            <a:xfrm>
              <a:off x="8028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72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2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00720" y="4005360"/>
            <a:ext cx="504720" cy="934920"/>
            <a:chOff x="4500720" y="4005360"/>
            <a:chExt cx="504720" cy="934920"/>
          </a:xfrm>
        </p:grpSpPr>
        <p:sp>
          <p:nvSpPr>
            <p:cNvPr id="226" name=""/>
            <p:cNvSpPr/>
            <p:nvPr/>
          </p:nvSpPr>
          <p:spPr>
            <a:xfrm>
              <a:off x="4500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5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5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003640" y="4005360"/>
            <a:ext cx="505080" cy="934920"/>
            <a:chOff x="5003640" y="4005360"/>
            <a:chExt cx="505080" cy="934920"/>
          </a:xfrm>
        </p:grpSpPr>
        <p:sp>
          <p:nvSpPr>
            <p:cNvPr id="230" name=""/>
            <p:cNvSpPr/>
            <p:nvPr/>
          </p:nvSpPr>
          <p:spPr>
            <a:xfrm>
              <a:off x="5003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8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08720" y="4005360"/>
            <a:ext cx="504720" cy="934920"/>
            <a:chOff x="5508720" y="4005360"/>
            <a:chExt cx="504720" cy="934920"/>
          </a:xfrm>
        </p:grpSpPr>
        <p:sp>
          <p:nvSpPr>
            <p:cNvPr id="234" name=""/>
            <p:cNvSpPr/>
            <p:nvPr/>
          </p:nvSpPr>
          <p:spPr>
            <a:xfrm>
              <a:off x="5508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53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53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12000" y="5157720"/>
            <a:ext cx="504720" cy="934920"/>
            <a:chOff x="6012000" y="5157720"/>
            <a:chExt cx="504720" cy="934920"/>
          </a:xfrm>
        </p:grpSpPr>
        <p:sp>
          <p:nvSpPr>
            <p:cNvPr id="238" name=""/>
            <p:cNvSpPr/>
            <p:nvPr/>
          </p:nvSpPr>
          <p:spPr>
            <a:xfrm>
              <a:off x="6012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6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50920" y="4292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256536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333360"/>
            <a:ext cx="67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 be made more useful by breaking the chains into shorter 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7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248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252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256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260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264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268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272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276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280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284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288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292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296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300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304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308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531280" y="55180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484360" y="4005360"/>
            <a:ext cx="505080" cy="934920"/>
            <a:chOff x="2484360" y="4005360"/>
            <a:chExt cx="505080" cy="934920"/>
          </a:xfrm>
        </p:grpSpPr>
        <p:sp>
          <p:nvSpPr>
            <p:cNvPr id="314" name=""/>
            <p:cNvSpPr/>
            <p:nvPr/>
          </p:nvSpPr>
          <p:spPr>
            <a:xfrm>
              <a:off x="2484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29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29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987640" y="4005360"/>
            <a:ext cx="504720" cy="934920"/>
            <a:chOff x="2987640" y="4005360"/>
            <a:chExt cx="504720" cy="934920"/>
          </a:xfrm>
        </p:grpSpPr>
        <p:sp>
          <p:nvSpPr>
            <p:cNvPr id="318" name=""/>
            <p:cNvSpPr/>
            <p:nvPr/>
          </p:nvSpPr>
          <p:spPr>
            <a:xfrm>
              <a:off x="2987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32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2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92360" y="4005360"/>
            <a:ext cx="505080" cy="934920"/>
            <a:chOff x="3492360" y="4005360"/>
            <a:chExt cx="505080" cy="934920"/>
          </a:xfrm>
        </p:grpSpPr>
        <p:sp>
          <p:nvSpPr>
            <p:cNvPr id="322" name=""/>
            <p:cNvSpPr/>
            <p:nvPr/>
          </p:nvSpPr>
          <p:spPr>
            <a:xfrm>
              <a:off x="3492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37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37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4005360"/>
            <a:ext cx="505080" cy="934920"/>
            <a:chOff x="3995640" y="4005360"/>
            <a:chExt cx="505080" cy="934920"/>
          </a:xfrm>
        </p:grpSpPr>
        <p:sp>
          <p:nvSpPr>
            <p:cNvPr id="326" name=""/>
            <p:cNvSpPr/>
            <p:nvPr/>
          </p:nvSpPr>
          <p:spPr>
            <a:xfrm>
              <a:off x="3995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40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40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68360" y="4005360"/>
            <a:ext cx="504720" cy="934920"/>
            <a:chOff x="468360" y="4005360"/>
            <a:chExt cx="504720" cy="934920"/>
          </a:xfrm>
        </p:grpSpPr>
        <p:sp>
          <p:nvSpPr>
            <p:cNvPr id="330" name=""/>
            <p:cNvSpPr/>
            <p:nvPr/>
          </p:nvSpPr>
          <p:spPr>
            <a:xfrm>
              <a:off x="468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2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2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971640" y="4005360"/>
            <a:ext cx="504720" cy="934920"/>
            <a:chOff x="971640" y="4005360"/>
            <a:chExt cx="504720" cy="934920"/>
          </a:xfrm>
        </p:grpSpPr>
        <p:sp>
          <p:nvSpPr>
            <p:cNvPr id="334" name=""/>
            <p:cNvSpPr/>
            <p:nvPr/>
          </p:nvSpPr>
          <p:spPr>
            <a:xfrm>
              <a:off x="971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16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16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476360" y="4005360"/>
            <a:ext cx="504720" cy="934920"/>
            <a:chOff x="1476360" y="4005360"/>
            <a:chExt cx="504720" cy="934920"/>
          </a:xfrm>
        </p:grpSpPr>
        <p:sp>
          <p:nvSpPr>
            <p:cNvPr id="338" name=""/>
            <p:cNvSpPr/>
            <p:nvPr/>
          </p:nvSpPr>
          <p:spPr>
            <a:xfrm>
              <a:off x="1476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20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20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979640" y="4005360"/>
            <a:ext cx="504720" cy="934920"/>
            <a:chOff x="1979640" y="4005360"/>
            <a:chExt cx="504720" cy="934920"/>
          </a:xfrm>
        </p:grpSpPr>
        <p:sp>
          <p:nvSpPr>
            <p:cNvPr id="342" name=""/>
            <p:cNvSpPr/>
            <p:nvPr/>
          </p:nvSpPr>
          <p:spPr>
            <a:xfrm>
              <a:off x="1979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24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516720" y="5157720"/>
            <a:ext cx="504720" cy="934920"/>
            <a:chOff x="6516720" y="5157720"/>
            <a:chExt cx="504720" cy="934920"/>
          </a:xfrm>
        </p:grpSpPr>
        <p:sp>
          <p:nvSpPr>
            <p:cNvPr id="346" name=""/>
            <p:cNvSpPr/>
            <p:nvPr/>
          </p:nvSpPr>
          <p:spPr>
            <a:xfrm>
              <a:off x="6516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61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61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020000" y="5157720"/>
            <a:ext cx="504720" cy="934920"/>
            <a:chOff x="7020000" y="5157720"/>
            <a:chExt cx="504720" cy="934920"/>
          </a:xfrm>
        </p:grpSpPr>
        <p:sp>
          <p:nvSpPr>
            <p:cNvPr id="350" name=""/>
            <p:cNvSpPr/>
            <p:nvPr/>
          </p:nvSpPr>
          <p:spPr>
            <a:xfrm>
              <a:off x="7020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4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524720" y="5157720"/>
            <a:ext cx="504720" cy="934920"/>
            <a:chOff x="7524720" y="5157720"/>
            <a:chExt cx="504720" cy="934920"/>
          </a:xfrm>
        </p:grpSpPr>
        <p:sp>
          <p:nvSpPr>
            <p:cNvPr id="354" name=""/>
            <p:cNvSpPr/>
            <p:nvPr/>
          </p:nvSpPr>
          <p:spPr>
            <a:xfrm>
              <a:off x="7524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69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69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28000" y="5157720"/>
            <a:ext cx="504720" cy="934920"/>
            <a:chOff x="8028000" y="5157720"/>
            <a:chExt cx="504720" cy="934920"/>
          </a:xfrm>
        </p:grpSpPr>
        <p:sp>
          <p:nvSpPr>
            <p:cNvPr id="358" name=""/>
            <p:cNvSpPr/>
            <p:nvPr/>
          </p:nvSpPr>
          <p:spPr>
            <a:xfrm>
              <a:off x="8028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72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72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00720" y="4005360"/>
            <a:ext cx="504720" cy="934920"/>
            <a:chOff x="4500720" y="4005360"/>
            <a:chExt cx="504720" cy="934920"/>
          </a:xfrm>
        </p:grpSpPr>
        <p:sp>
          <p:nvSpPr>
            <p:cNvPr id="362" name=""/>
            <p:cNvSpPr/>
            <p:nvPr/>
          </p:nvSpPr>
          <p:spPr>
            <a:xfrm>
              <a:off x="4500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5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5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003640" y="4005360"/>
            <a:ext cx="505080" cy="934920"/>
            <a:chOff x="5003640" y="4005360"/>
            <a:chExt cx="505080" cy="934920"/>
          </a:xfrm>
        </p:grpSpPr>
        <p:sp>
          <p:nvSpPr>
            <p:cNvPr id="366" name=""/>
            <p:cNvSpPr/>
            <p:nvPr/>
          </p:nvSpPr>
          <p:spPr>
            <a:xfrm>
              <a:off x="5003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48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8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508720" y="4005360"/>
            <a:ext cx="504720" cy="934920"/>
            <a:chOff x="5508720" y="4005360"/>
            <a:chExt cx="504720" cy="934920"/>
          </a:xfrm>
        </p:grpSpPr>
        <p:sp>
          <p:nvSpPr>
            <p:cNvPr id="370" name=""/>
            <p:cNvSpPr/>
            <p:nvPr/>
          </p:nvSpPr>
          <p:spPr>
            <a:xfrm>
              <a:off x="5508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53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53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12000" y="5157720"/>
            <a:ext cx="504720" cy="934920"/>
            <a:chOff x="6012000" y="5157720"/>
            <a:chExt cx="504720" cy="934920"/>
          </a:xfrm>
        </p:grpSpPr>
        <p:sp>
          <p:nvSpPr>
            <p:cNvPr id="374" name=""/>
            <p:cNvSpPr/>
            <p:nvPr/>
          </p:nvSpPr>
          <p:spPr>
            <a:xfrm>
              <a:off x="6012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56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56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50920" y="4292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256536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7280" y="333360"/>
            <a:ext cx="67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 be made more useful by breaking the chains into shorter 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3236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515772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fragments formed are not stable molecules and must rear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cking: breaking long chains into shorter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385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389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393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397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401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405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409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413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417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421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425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429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433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437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441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445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31280" y="515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56000" y="3933720"/>
            <a:ext cx="504720" cy="934920"/>
            <a:chOff x="2556000" y="3933720"/>
            <a:chExt cx="504720" cy="934920"/>
          </a:xfrm>
        </p:grpSpPr>
        <p:sp>
          <p:nvSpPr>
            <p:cNvPr id="451" name=""/>
            <p:cNvSpPr/>
            <p:nvPr/>
          </p:nvSpPr>
          <p:spPr>
            <a:xfrm>
              <a:off x="2556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00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00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059280" y="3933720"/>
            <a:ext cx="504720" cy="934920"/>
            <a:chOff x="3059280" y="3933720"/>
            <a:chExt cx="504720" cy="934920"/>
          </a:xfrm>
        </p:grpSpPr>
        <p:sp>
          <p:nvSpPr>
            <p:cNvPr id="455" name=""/>
            <p:cNvSpPr/>
            <p:nvPr/>
          </p:nvSpPr>
          <p:spPr>
            <a:xfrm>
              <a:off x="305928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0364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364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564000" y="3933720"/>
            <a:ext cx="504720" cy="934920"/>
            <a:chOff x="3564000" y="3933720"/>
            <a:chExt cx="504720" cy="934920"/>
          </a:xfrm>
        </p:grpSpPr>
        <p:sp>
          <p:nvSpPr>
            <p:cNvPr id="459" name=""/>
            <p:cNvSpPr/>
            <p:nvPr/>
          </p:nvSpPr>
          <p:spPr>
            <a:xfrm>
              <a:off x="3564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08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08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067280" y="3933720"/>
            <a:ext cx="504720" cy="934920"/>
            <a:chOff x="4067280" y="3933720"/>
            <a:chExt cx="504720" cy="934920"/>
          </a:xfrm>
        </p:grpSpPr>
        <p:sp>
          <p:nvSpPr>
            <p:cNvPr id="463" name=""/>
            <p:cNvSpPr/>
            <p:nvPr/>
          </p:nvSpPr>
          <p:spPr>
            <a:xfrm>
              <a:off x="406728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1164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1164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39640" y="3933720"/>
            <a:ext cx="505080" cy="934920"/>
            <a:chOff x="539640" y="3933720"/>
            <a:chExt cx="505080" cy="934920"/>
          </a:xfrm>
        </p:grpSpPr>
        <p:sp>
          <p:nvSpPr>
            <p:cNvPr id="467" name=""/>
            <p:cNvSpPr/>
            <p:nvPr/>
          </p:nvSpPr>
          <p:spPr>
            <a:xfrm>
              <a:off x="539640" y="414972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360" y="465300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4360" y="39337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042920" y="3933720"/>
            <a:ext cx="504720" cy="934920"/>
            <a:chOff x="1042920" y="3933720"/>
            <a:chExt cx="504720" cy="934920"/>
          </a:xfrm>
        </p:grpSpPr>
        <p:sp>
          <p:nvSpPr>
            <p:cNvPr id="471" name=""/>
            <p:cNvSpPr/>
            <p:nvPr/>
          </p:nvSpPr>
          <p:spPr>
            <a:xfrm>
              <a:off x="104292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728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728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547640" y="3933720"/>
            <a:ext cx="505080" cy="934920"/>
            <a:chOff x="1547640" y="3933720"/>
            <a:chExt cx="505080" cy="934920"/>
          </a:xfrm>
        </p:grpSpPr>
        <p:sp>
          <p:nvSpPr>
            <p:cNvPr id="475" name=""/>
            <p:cNvSpPr/>
            <p:nvPr/>
          </p:nvSpPr>
          <p:spPr>
            <a:xfrm>
              <a:off x="1547640" y="414972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92360" y="465300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92360" y="39337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050920" y="3933720"/>
            <a:ext cx="505080" cy="934920"/>
            <a:chOff x="2050920" y="3933720"/>
            <a:chExt cx="505080" cy="934920"/>
          </a:xfrm>
        </p:grpSpPr>
        <p:sp>
          <p:nvSpPr>
            <p:cNvPr id="479" name=""/>
            <p:cNvSpPr/>
            <p:nvPr/>
          </p:nvSpPr>
          <p:spPr>
            <a:xfrm>
              <a:off x="2050920" y="414972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95640" y="465300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95640" y="39337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516720" y="5013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56360" y="4797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020000" y="4797360"/>
            <a:ext cx="504720" cy="934920"/>
            <a:chOff x="7020000" y="4797360"/>
            <a:chExt cx="504720" cy="934920"/>
          </a:xfrm>
        </p:grpSpPr>
        <p:sp>
          <p:nvSpPr>
            <p:cNvPr id="486" name=""/>
            <p:cNvSpPr/>
            <p:nvPr/>
          </p:nvSpPr>
          <p:spPr>
            <a:xfrm>
              <a:off x="7020000" y="501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4360" y="551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4360" y="479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524720" y="4797360"/>
            <a:ext cx="504720" cy="934920"/>
            <a:chOff x="7524720" y="4797360"/>
            <a:chExt cx="504720" cy="934920"/>
          </a:xfrm>
        </p:grpSpPr>
        <p:sp>
          <p:nvSpPr>
            <p:cNvPr id="490" name=""/>
            <p:cNvSpPr/>
            <p:nvPr/>
          </p:nvSpPr>
          <p:spPr>
            <a:xfrm>
              <a:off x="7524720" y="501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69080" y="551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69080" y="479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8028000" y="4797360"/>
            <a:ext cx="504720" cy="934920"/>
            <a:chOff x="8028000" y="4797360"/>
            <a:chExt cx="504720" cy="934920"/>
          </a:xfrm>
        </p:grpSpPr>
        <p:sp>
          <p:nvSpPr>
            <p:cNvPr id="494" name=""/>
            <p:cNvSpPr/>
            <p:nvPr/>
          </p:nvSpPr>
          <p:spPr>
            <a:xfrm>
              <a:off x="8028000" y="501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72360" y="551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72360" y="479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572000" y="3933720"/>
            <a:ext cx="504720" cy="934920"/>
            <a:chOff x="4572000" y="3933720"/>
            <a:chExt cx="504720" cy="934920"/>
          </a:xfrm>
        </p:grpSpPr>
        <p:sp>
          <p:nvSpPr>
            <p:cNvPr id="498" name=""/>
            <p:cNvSpPr/>
            <p:nvPr/>
          </p:nvSpPr>
          <p:spPr>
            <a:xfrm>
              <a:off x="4572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16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16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075280" y="3933720"/>
            <a:ext cx="504720" cy="934920"/>
            <a:chOff x="5075280" y="3933720"/>
            <a:chExt cx="504720" cy="934920"/>
          </a:xfrm>
        </p:grpSpPr>
        <p:sp>
          <p:nvSpPr>
            <p:cNvPr id="502" name=""/>
            <p:cNvSpPr/>
            <p:nvPr/>
          </p:nvSpPr>
          <p:spPr>
            <a:xfrm>
              <a:off x="507528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1964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964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80000" y="3933720"/>
            <a:ext cx="504720" cy="934920"/>
            <a:chOff x="5580000" y="3933720"/>
            <a:chExt cx="504720" cy="934920"/>
          </a:xfrm>
        </p:grpSpPr>
        <p:sp>
          <p:nvSpPr>
            <p:cNvPr id="506" name=""/>
            <p:cNvSpPr/>
            <p:nvPr/>
          </p:nvSpPr>
          <p:spPr>
            <a:xfrm>
              <a:off x="5580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24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24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012000" y="5013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5636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83280" y="42940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2200" y="422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24000" y="508464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22936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72360" y="53006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63640" y="2492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40360" y="57340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3236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2122560" y="1989000"/>
            <a:ext cx="5761440" cy="1799640"/>
            <a:chOff x="2122560" y="1989000"/>
            <a:chExt cx="5761440" cy="1799640"/>
          </a:xfrm>
        </p:grpSpPr>
        <p:sp>
          <p:nvSpPr>
            <p:cNvPr id="520" name=""/>
            <p:cNvSpPr/>
            <p:nvPr/>
          </p:nvSpPr>
          <p:spPr>
            <a:xfrm>
              <a:off x="7429320" y="268236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564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984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26400" y="19890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4245840" y="1989000"/>
              <a:ext cx="1062360" cy="1799640"/>
              <a:chOff x="4245840" y="1989000"/>
              <a:chExt cx="1062360" cy="1799640"/>
            </a:xfrm>
          </p:grpSpPr>
          <p:sp>
            <p:nvSpPr>
              <p:cNvPr id="525" name=""/>
              <p:cNvSpPr/>
              <p:nvPr/>
            </p:nvSpPr>
            <p:spPr>
              <a:xfrm>
                <a:off x="424584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5004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5004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8920" y="1989000"/>
              <a:ext cx="1063080" cy="1799640"/>
              <a:chOff x="5308920" y="1989000"/>
              <a:chExt cx="1063080" cy="1799640"/>
            </a:xfrm>
          </p:grpSpPr>
          <p:sp>
            <p:nvSpPr>
              <p:cNvPr id="529" name=""/>
              <p:cNvSpPr/>
              <p:nvPr/>
            </p:nvSpPr>
            <p:spPr>
              <a:xfrm>
                <a:off x="5308920" y="2404440"/>
                <a:ext cx="106308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13480" y="3373560"/>
                <a:ext cx="45396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3480" y="1989000"/>
                <a:ext cx="45396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6369120" y="1989000"/>
              <a:ext cx="1062360" cy="1799640"/>
              <a:chOff x="6369120" y="1989000"/>
              <a:chExt cx="1062360" cy="1799640"/>
            </a:xfrm>
          </p:grpSpPr>
          <p:sp>
            <p:nvSpPr>
              <p:cNvPr id="533" name=""/>
              <p:cNvSpPr/>
              <p:nvPr/>
            </p:nvSpPr>
            <p:spPr>
              <a:xfrm>
                <a:off x="636912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7332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7332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212256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2640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1440" y="2820240"/>
              <a:ext cx="6051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81440" y="2957400"/>
              <a:ext cx="6051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2124000" y="450864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olecules has insufficient H atoms to form an alk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2122560" y="1989000"/>
            <a:ext cx="5761440" cy="1799640"/>
            <a:chOff x="2122560" y="1989000"/>
            <a:chExt cx="5761440" cy="1799640"/>
          </a:xfrm>
        </p:grpSpPr>
        <p:sp>
          <p:nvSpPr>
            <p:cNvPr id="542" name=""/>
            <p:cNvSpPr/>
            <p:nvPr/>
          </p:nvSpPr>
          <p:spPr>
            <a:xfrm>
              <a:off x="7429320" y="268236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8564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984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26400" y="19890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4245840" y="1989000"/>
              <a:ext cx="1062360" cy="1799640"/>
              <a:chOff x="4245840" y="1989000"/>
              <a:chExt cx="1062360" cy="1799640"/>
            </a:xfrm>
          </p:grpSpPr>
          <p:sp>
            <p:nvSpPr>
              <p:cNvPr id="547" name=""/>
              <p:cNvSpPr/>
              <p:nvPr/>
            </p:nvSpPr>
            <p:spPr>
              <a:xfrm>
                <a:off x="424584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5004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5004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308920" y="1989000"/>
              <a:ext cx="1063080" cy="1799640"/>
              <a:chOff x="5308920" y="1989000"/>
              <a:chExt cx="1063080" cy="1799640"/>
            </a:xfrm>
          </p:grpSpPr>
          <p:sp>
            <p:nvSpPr>
              <p:cNvPr id="551" name=""/>
              <p:cNvSpPr/>
              <p:nvPr/>
            </p:nvSpPr>
            <p:spPr>
              <a:xfrm>
                <a:off x="5308920" y="2404440"/>
                <a:ext cx="106308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13480" y="3373560"/>
                <a:ext cx="45396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613480" y="1989000"/>
                <a:ext cx="45396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369120" y="1989000"/>
              <a:ext cx="1062360" cy="1799640"/>
              <a:chOff x="6369120" y="1989000"/>
              <a:chExt cx="1062360" cy="1799640"/>
            </a:xfrm>
          </p:grpSpPr>
          <p:sp>
            <p:nvSpPr>
              <p:cNvPr id="555" name=""/>
              <p:cNvSpPr/>
              <p:nvPr/>
            </p:nvSpPr>
            <p:spPr>
              <a:xfrm>
                <a:off x="636912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67332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7332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212256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2640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81440" y="2820240"/>
              <a:ext cx="6051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81440" y="2957400"/>
              <a:ext cx="6051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124000" y="450864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of C and H with C=C bonds are called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122560" y="1989000"/>
            <a:ext cx="5761440" cy="1799640"/>
            <a:chOff x="2122560" y="1989000"/>
            <a:chExt cx="5761440" cy="1799640"/>
          </a:xfrm>
        </p:grpSpPr>
        <p:sp>
          <p:nvSpPr>
            <p:cNvPr id="564" name=""/>
            <p:cNvSpPr/>
            <p:nvPr/>
          </p:nvSpPr>
          <p:spPr>
            <a:xfrm>
              <a:off x="7429320" y="268236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18564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8984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6400" y="19890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245840" y="1989000"/>
              <a:ext cx="1062360" cy="1799640"/>
              <a:chOff x="4245840" y="1989000"/>
              <a:chExt cx="1062360" cy="1799640"/>
            </a:xfrm>
          </p:grpSpPr>
          <p:sp>
            <p:nvSpPr>
              <p:cNvPr id="569" name=""/>
              <p:cNvSpPr/>
              <p:nvPr/>
            </p:nvSpPr>
            <p:spPr>
              <a:xfrm>
                <a:off x="424584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55004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55004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308920" y="1989000"/>
              <a:ext cx="1063080" cy="1799640"/>
              <a:chOff x="5308920" y="1989000"/>
              <a:chExt cx="1063080" cy="179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5308920" y="2404440"/>
                <a:ext cx="106308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613480" y="3373560"/>
                <a:ext cx="45396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13480" y="1989000"/>
                <a:ext cx="45396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6369120" y="1989000"/>
              <a:ext cx="1062360" cy="1799640"/>
              <a:chOff x="6369120" y="1989000"/>
              <a:chExt cx="1062360" cy="1799640"/>
            </a:xfrm>
          </p:grpSpPr>
          <p:sp>
            <p:nvSpPr>
              <p:cNvPr id="577" name=""/>
              <p:cNvSpPr/>
              <p:nvPr/>
            </p:nvSpPr>
            <p:spPr>
              <a:xfrm>
                <a:off x="636912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7332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7332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212256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2640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81440" y="2820240"/>
              <a:ext cx="6051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81440" y="2957400"/>
              <a:ext cx="6051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411280" y="4005360"/>
            <a:ext cx="49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of C and H with C=C bonds are said to be unsaturated because they will react with hydroge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3492360" y="1557360"/>
            <a:ext cx="505080" cy="934920"/>
            <a:chOff x="3492360" y="1557360"/>
            <a:chExt cx="505080" cy="934920"/>
          </a:xfrm>
        </p:grpSpPr>
        <p:sp>
          <p:nvSpPr>
            <p:cNvPr id="586" name=""/>
            <p:cNvSpPr/>
            <p:nvPr/>
          </p:nvSpPr>
          <p:spPr>
            <a:xfrm>
              <a:off x="3492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37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37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995640" y="1557360"/>
            <a:ext cx="505080" cy="934920"/>
            <a:chOff x="3995640" y="1557360"/>
            <a:chExt cx="505080" cy="934920"/>
          </a:xfrm>
        </p:grpSpPr>
        <p:sp>
          <p:nvSpPr>
            <p:cNvPr id="590" name=""/>
            <p:cNvSpPr/>
            <p:nvPr/>
          </p:nvSpPr>
          <p:spPr>
            <a:xfrm>
              <a:off x="3995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40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500720" y="1557360"/>
            <a:ext cx="504720" cy="934920"/>
            <a:chOff x="4500720" y="1557360"/>
            <a:chExt cx="504720" cy="934920"/>
          </a:xfrm>
        </p:grpSpPr>
        <p:sp>
          <p:nvSpPr>
            <p:cNvPr id="594" name=""/>
            <p:cNvSpPr/>
            <p:nvPr/>
          </p:nvSpPr>
          <p:spPr>
            <a:xfrm>
              <a:off x="4500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45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5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003640" y="1557360"/>
            <a:ext cx="505080" cy="934920"/>
            <a:chOff x="5003640" y="1557360"/>
            <a:chExt cx="505080" cy="934920"/>
          </a:xfrm>
        </p:grpSpPr>
        <p:sp>
          <p:nvSpPr>
            <p:cNvPr id="598" name=""/>
            <p:cNvSpPr/>
            <p:nvPr/>
          </p:nvSpPr>
          <p:spPr>
            <a:xfrm>
              <a:off x="5003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48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48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76360" y="1557360"/>
            <a:ext cx="504720" cy="934920"/>
            <a:chOff x="1476360" y="1557360"/>
            <a:chExt cx="504720" cy="934920"/>
          </a:xfrm>
        </p:grpSpPr>
        <p:sp>
          <p:nvSpPr>
            <p:cNvPr id="602" name=""/>
            <p:cNvSpPr/>
            <p:nvPr/>
          </p:nvSpPr>
          <p:spPr>
            <a:xfrm>
              <a:off x="147636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2072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2072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979640" y="1557360"/>
            <a:ext cx="504720" cy="934920"/>
            <a:chOff x="1979640" y="1557360"/>
            <a:chExt cx="504720" cy="934920"/>
          </a:xfrm>
        </p:grpSpPr>
        <p:sp>
          <p:nvSpPr>
            <p:cNvPr id="606" name=""/>
            <p:cNvSpPr/>
            <p:nvPr/>
          </p:nvSpPr>
          <p:spPr>
            <a:xfrm>
              <a:off x="1979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24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4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484360" y="1557360"/>
            <a:ext cx="505080" cy="934920"/>
            <a:chOff x="2484360" y="1557360"/>
            <a:chExt cx="505080" cy="934920"/>
          </a:xfrm>
        </p:grpSpPr>
        <p:sp>
          <p:nvSpPr>
            <p:cNvPr id="610" name=""/>
            <p:cNvSpPr/>
            <p:nvPr/>
          </p:nvSpPr>
          <p:spPr>
            <a:xfrm>
              <a:off x="2484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29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29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87640" y="1557360"/>
            <a:ext cx="504720" cy="934920"/>
            <a:chOff x="2987640" y="1557360"/>
            <a:chExt cx="504720" cy="934920"/>
          </a:xfrm>
        </p:grpSpPr>
        <p:sp>
          <p:nvSpPr>
            <p:cNvPr id="614" name=""/>
            <p:cNvSpPr/>
            <p:nvPr/>
          </p:nvSpPr>
          <p:spPr>
            <a:xfrm>
              <a:off x="2987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32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32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08720" y="1557360"/>
            <a:ext cx="504720" cy="934920"/>
            <a:chOff x="5508720" y="1557360"/>
            <a:chExt cx="504720" cy="934920"/>
          </a:xfrm>
        </p:grpSpPr>
        <p:sp>
          <p:nvSpPr>
            <p:cNvPr id="618" name=""/>
            <p:cNvSpPr/>
            <p:nvPr/>
          </p:nvSpPr>
          <p:spPr>
            <a:xfrm>
              <a:off x="5508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53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3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012000" y="1557360"/>
            <a:ext cx="504720" cy="934920"/>
            <a:chOff x="6012000" y="1557360"/>
            <a:chExt cx="504720" cy="934920"/>
          </a:xfrm>
        </p:grpSpPr>
        <p:sp>
          <p:nvSpPr>
            <p:cNvPr id="622" name=""/>
            <p:cNvSpPr/>
            <p:nvPr/>
          </p:nvSpPr>
          <p:spPr>
            <a:xfrm>
              <a:off x="601200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5636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5636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516720" y="1557360"/>
            <a:ext cx="504720" cy="934920"/>
            <a:chOff x="6516720" y="1557360"/>
            <a:chExt cx="504720" cy="934920"/>
          </a:xfrm>
        </p:grpSpPr>
        <p:sp>
          <p:nvSpPr>
            <p:cNvPr id="626" name=""/>
            <p:cNvSpPr/>
            <p:nvPr/>
          </p:nvSpPr>
          <p:spPr>
            <a:xfrm>
              <a:off x="6516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61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61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702000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589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979640" y="2924280"/>
            <a:ext cx="496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of C and H with no C=C bonds are said to be saturated because they 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t with hydroge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3492360" y="1557360"/>
            <a:ext cx="505080" cy="934920"/>
            <a:chOff x="3492360" y="1557360"/>
            <a:chExt cx="505080" cy="934920"/>
          </a:xfrm>
        </p:grpSpPr>
        <p:sp>
          <p:nvSpPr>
            <p:cNvPr id="633" name=""/>
            <p:cNvSpPr/>
            <p:nvPr/>
          </p:nvSpPr>
          <p:spPr>
            <a:xfrm>
              <a:off x="3492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7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37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995640" y="1557360"/>
            <a:ext cx="505080" cy="934920"/>
            <a:chOff x="3995640" y="1557360"/>
            <a:chExt cx="505080" cy="934920"/>
          </a:xfrm>
        </p:grpSpPr>
        <p:sp>
          <p:nvSpPr>
            <p:cNvPr id="637" name=""/>
            <p:cNvSpPr/>
            <p:nvPr/>
          </p:nvSpPr>
          <p:spPr>
            <a:xfrm>
              <a:off x="3995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40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40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500720" y="1557360"/>
            <a:ext cx="504720" cy="934920"/>
            <a:chOff x="4500720" y="1557360"/>
            <a:chExt cx="504720" cy="934920"/>
          </a:xfrm>
        </p:grpSpPr>
        <p:sp>
          <p:nvSpPr>
            <p:cNvPr id="641" name=""/>
            <p:cNvSpPr/>
            <p:nvPr/>
          </p:nvSpPr>
          <p:spPr>
            <a:xfrm>
              <a:off x="4500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45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45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03640" y="1557360"/>
            <a:ext cx="505080" cy="934920"/>
            <a:chOff x="5003640" y="1557360"/>
            <a:chExt cx="505080" cy="934920"/>
          </a:xfrm>
        </p:grpSpPr>
        <p:sp>
          <p:nvSpPr>
            <p:cNvPr id="645" name=""/>
            <p:cNvSpPr/>
            <p:nvPr/>
          </p:nvSpPr>
          <p:spPr>
            <a:xfrm>
              <a:off x="5003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48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8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476360" y="1557360"/>
            <a:ext cx="504720" cy="934920"/>
            <a:chOff x="1476360" y="1557360"/>
            <a:chExt cx="504720" cy="934920"/>
          </a:xfrm>
        </p:grpSpPr>
        <p:sp>
          <p:nvSpPr>
            <p:cNvPr id="649" name=""/>
            <p:cNvSpPr/>
            <p:nvPr/>
          </p:nvSpPr>
          <p:spPr>
            <a:xfrm>
              <a:off x="147636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2072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2072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979640" y="1557360"/>
            <a:ext cx="504720" cy="934920"/>
            <a:chOff x="1979640" y="1557360"/>
            <a:chExt cx="504720" cy="934920"/>
          </a:xfrm>
        </p:grpSpPr>
        <p:sp>
          <p:nvSpPr>
            <p:cNvPr id="653" name=""/>
            <p:cNvSpPr/>
            <p:nvPr/>
          </p:nvSpPr>
          <p:spPr>
            <a:xfrm>
              <a:off x="1979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24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24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84360" y="1557360"/>
            <a:ext cx="505080" cy="934920"/>
            <a:chOff x="2484360" y="1557360"/>
            <a:chExt cx="505080" cy="934920"/>
          </a:xfrm>
        </p:grpSpPr>
        <p:sp>
          <p:nvSpPr>
            <p:cNvPr id="657" name=""/>
            <p:cNvSpPr/>
            <p:nvPr/>
          </p:nvSpPr>
          <p:spPr>
            <a:xfrm>
              <a:off x="2484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29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29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987640" y="1557360"/>
            <a:ext cx="504720" cy="934920"/>
            <a:chOff x="2987640" y="1557360"/>
            <a:chExt cx="504720" cy="934920"/>
          </a:xfrm>
        </p:grpSpPr>
        <p:sp>
          <p:nvSpPr>
            <p:cNvPr id="661" name=""/>
            <p:cNvSpPr/>
            <p:nvPr/>
          </p:nvSpPr>
          <p:spPr>
            <a:xfrm>
              <a:off x="2987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32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32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08720" y="1557360"/>
            <a:ext cx="504720" cy="934920"/>
            <a:chOff x="5508720" y="1557360"/>
            <a:chExt cx="504720" cy="934920"/>
          </a:xfrm>
        </p:grpSpPr>
        <p:sp>
          <p:nvSpPr>
            <p:cNvPr id="665" name=""/>
            <p:cNvSpPr/>
            <p:nvPr/>
          </p:nvSpPr>
          <p:spPr>
            <a:xfrm>
              <a:off x="5508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53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53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012000" y="1557360"/>
            <a:ext cx="504720" cy="934920"/>
            <a:chOff x="6012000" y="1557360"/>
            <a:chExt cx="504720" cy="934920"/>
          </a:xfrm>
        </p:grpSpPr>
        <p:sp>
          <p:nvSpPr>
            <p:cNvPr id="669" name=""/>
            <p:cNvSpPr/>
            <p:nvPr/>
          </p:nvSpPr>
          <p:spPr>
            <a:xfrm>
              <a:off x="601200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5636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5636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516720" y="1557360"/>
            <a:ext cx="504720" cy="934920"/>
            <a:chOff x="6516720" y="1557360"/>
            <a:chExt cx="504720" cy="934920"/>
          </a:xfrm>
        </p:grpSpPr>
        <p:sp>
          <p:nvSpPr>
            <p:cNvPr id="673" name=""/>
            <p:cNvSpPr/>
            <p:nvPr/>
          </p:nvSpPr>
          <p:spPr>
            <a:xfrm>
              <a:off x="6516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61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61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702000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589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2924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kanes are 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62560" y="4149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348000" y="4005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49236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987640" y="3789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851280" y="3789360"/>
            <a:ext cx="504720" cy="934920"/>
            <a:chOff x="3851280" y="3789360"/>
            <a:chExt cx="504720" cy="934920"/>
          </a:xfrm>
        </p:grpSpPr>
        <p:sp>
          <p:nvSpPr>
            <p:cNvPr id="684" name=""/>
            <p:cNvSpPr/>
            <p:nvPr/>
          </p:nvSpPr>
          <p:spPr>
            <a:xfrm>
              <a:off x="3851280" y="4005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95640" y="4508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5640" y="3789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356000" y="3789360"/>
            <a:ext cx="505080" cy="934920"/>
            <a:chOff x="4356000" y="3789360"/>
            <a:chExt cx="505080" cy="934920"/>
          </a:xfrm>
        </p:grpSpPr>
        <p:sp>
          <p:nvSpPr>
            <p:cNvPr id="688" name=""/>
            <p:cNvSpPr/>
            <p:nvPr/>
          </p:nvSpPr>
          <p:spPr>
            <a:xfrm>
              <a:off x="4356000" y="4005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00720" y="4508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00720" y="3789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859280" y="3789360"/>
            <a:ext cx="504720" cy="934920"/>
            <a:chOff x="4859280" y="3789360"/>
            <a:chExt cx="504720" cy="934920"/>
          </a:xfrm>
        </p:grpSpPr>
        <p:sp>
          <p:nvSpPr>
            <p:cNvPr id="692" name=""/>
            <p:cNvSpPr/>
            <p:nvPr/>
          </p:nvSpPr>
          <p:spPr>
            <a:xfrm>
              <a:off x="4859280" y="4005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03640" y="4508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03640" y="3789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843280" y="4005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8764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422100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3640" y="42926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35280" y="5013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enes are un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0:27:05Z</dcterms:created>
  <dc:creator>Simon Norris</dc:creator>
  <dc:description/>
  <dc:language>en-US</dc:language>
  <cp:lastModifiedBy>Simon Norris</cp:lastModifiedBy>
  <dcterms:modified xsi:type="dcterms:W3CDTF">2010-01-07T16:25:18Z</dcterms:modified>
  <cp:revision>10</cp:revision>
  <dc:subject/>
  <dc:title>Slide 1</dc:title>
</cp:coreProperties>
</file>