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9856788" cy="6718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8E63-A21A-456A-BC04-0EFB482F6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C6B5-AE87-4508-9D3E-897189CBB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787F-31F3-4BB9-B94A-CABDDB2CB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5DA9-4B31-4E18-B006-C4B2D4DD2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A451-1D3E-479F-B006-53BFDB62F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50C4-D1DF-40C6-80D6-7BC54E08D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973F-4D56-4281-BFF9-55F9CA4BB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8A10-C0F7-49DB-B7CC-05D24B36C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A3D1-7ABF-4A89-87F9-C327EAE3D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CBBB-86BE-4398-A779-89C7DDAD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E74E-3839-4611-9F49-75281DBE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8EE2-7FAD-4499-BBD5-D8501C90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9D927-FC9B-40A1-A614-780BBF7F9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schoolscience.co.uk/content/4/chemistry/petroleum/knowl/4/flash/cracking.htm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531280" y="170172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476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 Chain Hydrocarbons have limited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484360" y="1341360"/>
            <a:ext cx="505080" cy="934920"/>
            <a:chOff x="2484360" y="1341360"/>
            <a:chExt cx="505080" cy="934920"/>
          </a:xfrm>
        </p:grpSpPr>
        <p:sp>
          <p:nvSpPr>
            <p:cNvPr id="44" name=""/>
            <p:cNvSpPr/>
            <p:nvPr/>
          </p:nvSpPr>
          <p:spPr>
            <a:xfrm>
              <a:off x="2484360" y="1557360"/>
              <a:ext cx="50508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629080" y="2060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629080" y="134136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2987640" y="1341360"/>
            <a:ext cx="504720" cy="934920"/>
            <a:chOff x="2987640" y="1341360"/>
            <a:chExt cx="504720" cy="934920"/>
          </a:xfrm>
        </p:grpSpPr>
        <p:sp>
          <p:nvSpPr>
            <p:cNvPr id="48" name=""/>
            <p:cNvSpPr/>
            <p:nvPr/>
          </p:nvSpPr>
          <p:spPr>
            <a:xfrm>
              <a:off x="2987640" y="1557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132000" y="2060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132000" y="1341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492360" y="1341360"/>
            <a:ext cx="505080" cy="934920"/>
            <a:chOff x="3492360" y="1341360"/>
            <a:chExt cx="505080" cy="934920"/>
          </a:xfrm>
        </p:grpSpPr>
        <p:sp>
          <p:nvSpPr>
            <p:cNvPr id="52" name=""/>
            <p:cNvSpPr/>
            <p:nvPr/>
          </p:nvSpPr>
          <p:spPr>
            <a:xfrm>
              <a:off x="3492360" y="1557360"/>
              <a:ext cx="50508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637080" y="2060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637080" y="134136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995640" y="1341360"/>
            <a:ext cx="505080" cy="934920"/>
            <a:chOff x="3995640" y="1341360"/>
            <a:chExt cx="505080" cy="934920"/>
          </a:xfrm>
        </p:grpSpPr>
        <p:sp>
          <p:nvSpPr>
            <p:cNvPr id="56" name=""/>
            <p:cNvSpPr/>
            <p:nvPr/>
          </p:nvSpPr>
          <p:spPr>
            <a:xfrm>
              <a:off x="3995640" y="1557360"/>
              <a:ext cx="50508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0360" y="2060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140360" y="134136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468360" y="1341360"/>
            <a:ext cx="504720" cy="934920"/>
            <a:chOff x="468360" y="1341360"/>
            <a:chExt cx="504720" cy="934920"/>
          </a:xfrm>
        </p:grpSpPr>
        <p:sp>
          <p:nvSpPr>
            <p:cNvPr id="60" name=""/>
            <p:cNvSpPr/>
            <p:nvPr/>
          </p:nvSpPr>
          <p:spPr>
            <a:xfrm>
              <a:off x="468360" y="1557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12720" y="2060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12720" y="1341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971640" y="1341360"/>
            <a:ext cx="504720" cy="934920"/>
            <a:chOff x="971640" y="1341360"/>
            <a:chExt cx="504720" cy="934920"/>
          </a:xfrm>
        </p:grpSpPr>
        <p:sp>
          <p:nvSpPr>
            <p:cNvPr id="64" name=""/>
            <p:cNvSpPr/>
            <p:nvPr/>
          </p:nvSpPr>
          <p:spPr>
            <a:xfrm>
              <a:off x="971640" y="1557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16000" y="2060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116000" y="1341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476360" y="1341360"/>
            <a:ext cx="504720" cy="934920"/>
            <a:chOff x="1476360" y="1341360"/>
            <a:chExt cx="504720" cy="934920"/>
          </a:xfrm>
        </p:grpSpPr>
        <p:sp>
          <p:nvSpPr>
            <p:cNvPr id="68" name=""/>
            <p:cNvSpPr/>
            <p:nvPr/>
          </p:nvSpPr>
          <p:spPr>
            <a:xfrm>
              <a:off x="1476360" y="1557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620720" y="2060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341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1979640" y="1341360"/>
            <a:ext cx="504720" cy="934920"/>
            <a:chOff x="1979640" y="1341360"/>
            <a:chExt cx="504720" cy="934920"/>
          </a:xfrm>
        </p:grpSpPr>
        <p:sp>
          <p:nvSpPr>
            <p:cNvPr id="72" name=""/>
            <p:cNvSpPr/>
            <p:nvPr/>
          </p:nvSpPr>
          <p:spPr>
            <a:xfrm>
              <a:off x="1979640" y="1557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24000" y="2060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124000" y="1341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516720" y="1341360"/>
            <a:ext cx="504720" cy="934920"/>
            <a:chOff x="6516720" y="1341360"/>
            <a:chExt cx="504720" cy="934920"/>
          </a:xfrm>
        </p:grpSpPr>
        <p:sp>
          <p:nvSpPr>
            <p:cNvPr id="76" name=""/>
            <p:cNvSpPr/>
            <p:nvPr/>
          </p:nvSpPr>
          <p:spPr>
            <a:xfrm>
              <a:off x="6516720" y="1557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661080" y="2060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661080" y="1341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020000" y="1341360"/>
            <a:ext cx="504720" cy="934920"/>
            <a:chOff x="7020000" y="1341360"/>
            <a:chExt cx="504720" cy="934920"/>
          </a:xfrm>
        </p:grpSpPr>
        <p:sp>
          <p:nvSpPr>
            <p:cNvPr id="80" name=""/>
            <p:cNvSpPr/>
            <p:nvPr/>
          </p:nvSpPr>
          <p:spPr>
            <a:xfrm>
              <a:off x="7020000" y="1557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164360" y="2060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164360" y="1341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7524720" y="1341360"/>
            <a:ext cx="504720" cy="934920"/>
            <a:chOff x="7524720" y="1341360"/>
            <a:chExt cx="504720" cy="934920"/>
          </a:xfrm>
        </p:grpSpPr>
        <p:sp>
          <p:nvSpPr>
            <p:cNvPr id="84" name=""/>
            <p:cNvSpPr/>
            <p:nvPr/>
          </p:nvSpPr>
          <p:spPr>
            <a:xfrm>
              <a:off x="7524720" y="1557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669080" y="2060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669080" y="1341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8028000" y="1341360"/>
            <a:ext cx="504720" cy="934920"/>
            <a:chOff x="8028000" y="1341360"/>
            <a:chExt cx="504720" cy="934920"/>
          </a:xfrm>
        </p:grpSpPr>
        <p:sp>
          <p:nvSpPr>
            <p:cNvPr id="88" name=""/>
            <p:cNvSpPr/>
            <p:nvPr/>
          </p:nvSpPr>
          <p:spPr>
            <a:xfrm>
              <a:off x="8028000" y="1557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172360" y="2060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172360" y="1341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4500720" y="1341360"/>
            <a:ext cx="504720" cy="934920"/>
            <a:chOff x="4500720" y="1341360"/>
            <a:chExt cx="504720" cy="934920"/>
          </a:xfrm>
        </p:grpSpPr>
        <p:sp>
          <p:nvSpPr>
            <p:cNvPr id="92" name=""/>
            <p:cNvSpPr/>
            <p:nvPr/>
          </p:nvSpPr>
          <p:spPr>
            <a:xfrm>
              <a:off x="4500720" y="1557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645080" y="2060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645080" y="1341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5003640" y="1341360"/>
            <a:ext cx="505080" cy="934920"/>
            <a:chOff x="5003640" y="1341360"/>
            <a:chExt cx="505080" cy="934920"/>
          </a:xfrm>
        </p:grpSpPr>
        <p:sp>
          <p:nvSpPr>
            <p:cNvPr id="96" name=""/>
            <p:cNvSpPr/>
            <p:nvPr/>
          </p:nvSpPr>
          <p:spPr>
            <a:xfrm>
              <a:off x="5003640" y="1557360"/>
              <a:ext cx="50508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48360" y="2060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48360" y="134136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5508720" y="1341360"/>
            <a:ext cx="504720" cy="934920"/>
            <a:chOff x="5508720" y="1341360"/>
            <a:chExt cx="504720" cy="934920"/>
          </a:xfrm>
        </p:grpSpPr>
        <p:sp>
          <p:nvSpPr>
            <p:cNvPr id="100" name=""/>
            <p:cNvSpPr/>
            <p:nvPr/>
          </p:nvSpPr>
          <p:spPr>
            <a:xfrm>
              <a:off x="5508720" y="1557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653080" y="2060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653080" y="1341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6012000" y="1341360"/>
            <a:ext cx="504720" cy="934920"/>
            <a:chOff x="6012000" y="1341360"/>
            <a:chExt cx="504720" cy="934920"/>
          </a:xfrm>
        </p:grpSpPr>
        <p:sp>
          <p:nvSpPr>
            <p:cNvPr id="104" name=""/>
            <p:cNvSpPr/>
            <p:nvPr/>
          </p:nvSpPr>
          <p:spPr>
            <a:xfrm>
              <a:off x="6012000" y="1557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156360" y="2060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156360" y="1341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250920" y="1628640"/>
            <a:ext cx="21564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95640" y="2565360"/>
            <a:ext cx="4824360" cy="18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 in paraffin, fuel oil and die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0" y="288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1" name=""/>
          <p:cNvGraphicFramePr/>
          <p:nvPr/>
        </p:nvGraphicFramePr>
        <p:xfrm>
          <a:off x="0" y="1268280"/>
          <a:ext cx="9145440" cy="350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8280"/>
                    <a:ext cx="9145440" cy="35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3" name=""/>
          <p:cNvSpPr/>
          <p:nvPr/>
        </p:nvSpPr>
        <p:spPr>
          <a:xfrm>
            <a:off x="1619280" y="476280"/>
            <a:ext cx="59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acking in th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900000" y="508464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acking is achieved by passing the vapour of the alkane over a heated catalyst: aluminium oxide or porous pot fragments are often u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0" y="288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6" name=""/>
          <p:cNvGraphicFramePr/>
          <p:nvPr/>
        </p:nvGraphicFramePr>
        <p:xfrm>
          <a:off x="0" y="1268280"/>
          <a:ext cx="9145440" cy="350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8280"/>
                    <a:ext cx="9145440" cy="35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8" name=""/>
          <p:cNvSpPr/>
          <p:nvPr/>
        </p:nvSpPr>
        <p:spPr>
          <a:xfrm>
            <a:off x="1619280" y="476280"/>
            <a:ext cx="59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acking in th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900000" y="508464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at although the paraffin that is being cracked is liquid, one of the products is a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611280" y="692280"/>
            <a:ext cx="7993080" cy="50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breaking of the bonds is random, so a mixture of alkanes and alkenes resul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rite equations that would represent cracking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Arial"/>
              </a:rPr>
              <a:t>20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Arial"/>
              </a:rPr>
              <a:t>4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Arial"/>
              </a:rPr>
              <a:t>24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Arial"/>
              </a:rPr>
              <a:t>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2843280" y="907920"/>
            <a:ext cx="3808440" cy="525780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3423240" y="6237360"/>
            <a:ext cx="275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Go to Cracking ani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187280" y="26028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strial Cracker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acking is useful becaus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produces light, valuable fractions such as petrol from heavy less valuable f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a useful source of alk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kenes are used to make polymers and other useful chemic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acking conditions in laborator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at liquid alk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ss vapour over heated cataly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talyst is aluminium oxide or porous p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llect gases formed over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quid product condense in water and can be separ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acking conditions in industr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apourise heavy f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x vapour with hot zeolite cataly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aseous products sepa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talyst becomes covered in 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talyst is heated to clea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talyst then recyc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ydrocarbon products separated by fractional distil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8531280" y="170172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6280"/>
            <a:ext cx="84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484360" y="1341360"/>
            <a:ext cx="505080" cy="934920"/>
            <a:chOff x="2484360" y="1341360"/>
            <a:chExt cx="505080" cy="934920"/>
          </a:xfrm>
        </p:grpSpPr>
        <p:sp>
          <p:nvSpPr>
            <p:cNvPr id="112" name=""/>
            <p:cNvSpPr/>
            <p:nvPr/>
          </p:nvSpPr>
          <p:spPr>
            <a:xfrm>
              <a:off x="2484360" y="1557360"/>
              <a:ext cx="50508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629080" y="2060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629080" y="134136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2987640" y="1341360"/>
            <a:ext cx="504720" cy="934920"/>
            <a:chOff x="2987640" y="1341360"/>
            <a:chExt cx="504720" cy="934920"/>
          </a:xfrm>
        </p:grpSpPr>
        <p:sp>
          <p:nvSpPr>
            <p:cNvPr id="116" name=""/>
            <p:cNvSpPr/>
            <p:nvPr/>
          </p:nvSpPr>
          <p:spPr>
            <a:xfrm>
              <a:off x="2987640" y="1557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132000" y="2060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132000" y="1341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3492360" y="1341360"/>
            <a:ext cx="505080" cy="934920"/>
            <a:chOff x="3492360" y="1341360"/>
            <a:chExt cx="505080" cy="934920"/>
          </a:xfrm>
        </p:grpSpPr>
        <p:sp>
          <p:nvSpPr>
            <p:cNvPr id="120" name=""/>
            <p:cNvSpPr/>
            <p:nvPr/>
          </p:nvSpPr>
          <p:spPr>
            <a:xfrm>
              <a:off x="3492360" y="1557360"/>
              <a:ext cx="50508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637080" y="2060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637080" y="134136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3995640" y="1341360"/>
            <a:ext cx="505080" cy="934920"/>
            <a:chOff x="3995640" y="1341360"/>
            <a:chExt cx="505080" cy="934920"/>
          </a:xfrm>
        </p:grpSpPr>
        <p:sp>
          <p:nvSpPr>
            <p:cNvPr id="124" name=""/>
            <p:cNvSpPr/>
            <p:nvPr/>
          </p:nvSpPr>
          <p:spPr>
            <a:xfrm>
              <a:off x="3995640" y="1557360"/>
              <a:ext cx="50508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40360" y="2060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140360" y="134136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468360" y="1341360"/>
            <a:ext cx="504720" cy="934920"/>
            <a:chOff x="468360" y="1341360"/>
            <a:chExt cx="504720" cy="934920"/>
          </a:xfrm>
        </p:grpSpPr>
        <p:sp>
          <p:nvSpPr>
            <p:cNvPr id="128" name=""/>
            <p:cNvSpPr/>
            <p:nvPr/>
          </p:nvSpPr>
          <p:spPr>
            <a:xfrm>
              <a:off x="468360" y="1557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12720" y="2060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2720" y="1341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971640" y="1341360"/>
            <a:ext cx="504720" cy="934920"/>
            <a:chOff x="971640" y="1341360"/>
            <a:chExt cx="504720" cy="934920"/>
          </a:xfrm>
        </p:grpSpPr>
        <p:sp>
          <p:nvSpPr>
            <p:cNvPr id="132" name=""/>
            <p:cNvSpPr/>
            <p:nvPr/>
          </p:nvSpPr>
          <p:spPr>
            <a:xfrm>
              <a:off x="971640" y="1557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116000" y="2060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116000" y="1341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1476360" y="1341360"/>
            <a:ext cx="504720" cy="934920"/>
            <a:chOff x="1476360" y="1341360"/>
            <a:chExt cx="504720" cy="934920"/>
          </a:xfrm>
        </p:grpSpPr>
        <p:sp>
          <p:nvSpPr>
            <p:cNvPr id="136" name=""/>
            <p:cNvSpPr/>
            <p:nvPr/>
          </p:nvSpPr>
          <p:spPr>
            <a:xfrm>
              <a:off x="1476360" y="1557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20720" y="2060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20720" y="1341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1979640" y="1341360"/>
            <a:ext cx="504720" cy="934920"/>
            <a:chOff x="1979640" y="1341360"/>
            <a:chExt cx="504720" cy="934920"/>
          </a:xfrm>
        </p:grpSpPr>
        <p:sp>
          <p:nvSpPr>
            <p:cNvPr id="140" name=""/>
            <p:cNvSpPr/>
            <p:nvPr/>
          </p:nvSpPr>
          <p:spPr>
            <a:xfrm>
              <a:off x="1979640" y="1557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124000" y="2060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124000" y="1341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6516720" y="1341360"/>
            <a:ext cx="504720" cy="934920"/>
            <a:chOff x="6516720" y="1341360"/>
            <a:chExt cx="504720" cy="934920"/>
          </a:xfrm>
        </p:grpSpPr>
        <p:sp>
          <p:nvSpPr>
            <p:cNvPr id="144" name=""/>
            <p:cNvSpPr/>
            <p:nvPr/>
          </p:nvSpPr>
          <p:spPr>
            <a:xfrm>
              <a:off x="6516720" y="1557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661080" y="2060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661080" y="1341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7020000" y="1341360"/>
            <a:ext cx="504720" cy="934920"/>
            <a:chOff x="7020000" y="1341360"/>
            <a:chExt cx="504720" cy="934920"/>
          </a:xfrm>
        </p:grpSpPr>
        <p:sp>
          <p:nvSpPr>
            <p:cNvPr id="148" name=""/>
            <p:cNvSpPr/>
            <p:nvPr/>
          </p:nvSpPr>
          <p:spPr>
            <a:xfrm>
              <a:off x="7020000" y="1557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64360" y="2060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164360" y="1341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7524720" y="1341360"/>
            <a:ext cx="504720" cy="934920"/>
            <a:chOff x="7524720" y="1341360"/>
            <a:chExt cx="504720" cy="934920"/>
          </a:xfrm>
        </p:grpSpPr>
        <p:sp>
          <p:nvSpPr>
            <p:cNvPr id="152" name=""/>
            <p:cNvSpPr/>
            <p:nvPr/>
          </p:nvSpPr>
          <p:spPr>
            <a:xfrm>
              <a:off x="7524720" y="1557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669080" y="2060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669080" y="1341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8028000" y="1341360"/>
            <a:ext cx="504720" cy="934920"/>
            <a:chOff x="8028000" y="1341360"/>
            <a:chExt cx="504720" cy="934920"/>
          </a:xfrm>
        </p:grpSpPr>
        <p:sp>
          <p:nvSpPr>
            <p:cNvPr id="156" name=""/>
            <p:cNvSpPr/>
            <p:nvPr/>
          </p:nvSpPr>
          <p:spPr>
            <a:xfrm>
              <a:off x="8028000" y="1557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72360" y="2060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172360" y="1341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500720" y="1341360"/>
            <a:ext cx="504720" cy="934920"/>
            <a:chOff x="4500720" y="1341360"/>
            <a:chExt cx="504720" cy="934920"/>
          </a:xfrm>
        </p:grpSpPr>
        <p:sp>
          <p:nvSpPr>
            <p:cNvPr id="160" name=""/>
            <p:cNvSpPr/>
            <p:nvPr/>
          </p:nvSpPr>
          <p:spPr>
            <a:xfrm>
              <a:off x="4500720" y="1557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45080" y="2060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645080" y="1341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5003640" y="1341360"/>
            <a:ext cx="505080" cy="934920"/>
            <a:chOff x="5003640" y="1341360"/>
            <a:chExt cx="505080" cy="934920"/>
          </a:xfrm>
        </p:grpSpPr>
        <p:sp>
          <p:nvSpPr>
            <p:cNvPr id="164" name=""/>
            <p:cNvSpPr/>
            <p:nvPr/>
          </p:nvSpPr>
          <p:spPr>
            <a:xfrm>
              <a:off x="5003640" y="1557360"/>
              <a:ext cx="50508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148360" y="2060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148360" y="134136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5508720" y="1341360"/>
            <a:ext cx="504720" cy="934920"/>
            <a:chOff x="5508720" y="1341360"/>
            <a:chExt cx="504720" cy="934920"/>
          </a:xfrm>
        </p:grpSpPr>
        <p:sp>
          <p:nvSpPr>
            <p:cNvPr id="168" name=""/>
            <p:cNvSpPr/>
            <p:nvPr/>
          </p:nvSpPr>
          <p:spPr>
            <a:xfrm>
              <a:off x="5508720" y="1557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653080" y="2060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653080" y="1341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6012000" y="1341360"/>
            <a:ext cx="504720" cy="934920"/>
            <a:chOff x="6012000" y="1341360"/>
            <a:chExt cx="504720" cy="934920"/>
          </a:xfrm>
        </p:grpSpPr>
        <p:sp>
          <p:nvSpPr>
            <p:cNvPr id="172" name=""/>
            <p:cNvSpPr/>
            <p:nvPr/>
          </p:nvSpPr>
          <p:spPr>
            <a:xfrm>
              <a:off x="6012000" y="1557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156360" y="2060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156360" y="1341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250920" y="1628640"/>
            <a:ext cx="21564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531280" y="551808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484360" y="4005360"/>
            <a:ext cx="505080" cy="934920"/>
            <a:chOff x="2484360" y="4005360"/>
            <a:chExt cx="505080" cy="934920"/>
          </a:xfrm>
        </p:grpSpPr>
        <p:sp>
          <p:nvSpPr>
            <p:cNvPr id="178" name=""/>
            <p:cNvSpPr/>
            <p:nvPr/>
          </p:nvSpPr>
          <p:spPr>
            <a:xfrm>
              <a:off x="2484360" y="4221360"/>
              <a:ext cx="50508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62908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629080" y="400536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2987640" y="4005360"/>
            <a:ext cx="504720" cy="934920"/>
            <a:chOff x="2987640" y="4005360"/>
            <a:chExt cx="504720" cy="934920"/>
          </a:xfrm>
        </p:grpSpPr>
        <p:sp>
          <p:nvSpPr>
            <p:cNvPr id="182" name=""/>
            <p:cNvSpPr/>
            <p:nvPr/>
          </p:nvSpPr>
          <p:spPr>
            <a:xfrm>
              <a:off x="2987640" y="4221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132000" y="4724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132000" y="4005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492360" y="4005360"/>
            <a:ext cx="505080" cy="934920"/>
            <a:chOff x="3492360" y="4005360"/>
            <a:chExt cx="505080" cy="934920"/>
          </a:xfrm>
        </p:grpSpPr>
        <p:sp>
          <p:nvSpPr>
            <p:cNvPr id="186" name=""/>
            <p:cNvSpPr/>
            <p:nvPr/>
          </p:nvSpPr>
          <p:spPr>
            <a:xfrm>
              <a:off x="3492360" y="4221360"/>
              <a:ext cx="50508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63708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637080" y="400536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3995640" y="4005360"/>
            <a:ext cx="505080" cy="934920"/>
            <a:chOff x="3995640" y="4005360"/>
            <a:chExt cx="505080" cy="934920"/>
          </a:xfrm>
        </p:grpSpPr>
        <p:sp>
          <p:nvSpPr>
            <p:cNvPr id="190" name=""/>
            <p:cNvSpPr/>
            <p:nvPr/>
          </p:nvSpPr>
          <p:spPr>
            <a:xfrm>
              <a:off x="3995640" y="4221360"/>
              <a:ext cx="50508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14036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140360" y="400536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468360" y="4005360"/>
            <a:ext cx="504720" cy="934920"/>
            <a:chOff x="468360" y="4005360"/>
            <a:chExt cx="504720" cy="934920"/>
          </a:xfrm>
        </p:grpSpPr>
        <p:sp>
          <p:nvSpPr>
            <p:cNvPr id="194" name=""/>
            <p:cNvSpPr/>
            <p:nvPr/>
          </p:nvSpPr>
          <p:spPr>
            <a:xfrm>
              <a:off x="468360" y="4221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2720" y="4724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2720" y="4005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971640" y="4005360"/>
            <a:ext cx="504720" cy="934920"/>
            <a:chOff x="971640" y="4005360"/>
            <a:chExt cx="504720" cy="934920"/>
          </a:xfrm>
        </p:grpSpPr>
        <p:sp>
          <p:nvSpPr>
            <p:cNvPr id="198" name=""/>
            <p:cNvSpPr/>
            <p:nvPr/>
          </p:nvSpPr>
          <p:spPr>
            <a:xfrm>
              <a:off x="971640" y="4221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116000" y="4724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16000" y="4005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1476360" y="4005360"/>
            <a:ext cx="504720" cy="934920"/>
            <a:chOff x="1476360" y="4005360"/>
            <a:chExt cx="504720" cy="934920"/>
          </a:xfrm>
        </p:grpSpPr>
        <p:sp>
          <p:nvSpPr>
            <p:cNvPr id="202" name=""/>
            <p:cNvSpPr/>
            <p:nvPr/>
          </p:nvSpPr>
          <p:spPr>
            <a:xfrm>
              <a:off x="1476360" y="4221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620720" y="4724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620720" y="4005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1979640" y="4005360"/>
            <a:ext cx="504720" cy="934920"/>
            <a:chOff x="1979640" y="4005360"/>
            <a:chExt cx="504720" cy="934920"/>
          </a:xfrm>
        </p:grpSpPr>
        <p:sp>
          <p:nvSpPr>
            <p:cNvPr id="206" name=""/>
            <p:cNvSpPr/>
            <p:nvPr/>
          </p:nvSpPr>
          <p:spPr>
            <a:xfrm>
              <a:off x="1979640" y="4221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124000" y="4724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124000" y="4005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6516720" y="5157720"/>
            <a:ext cx="504720" cy="934920"/>
            <a:chOff x="6516720" y="5157720"/>
            <a:chExt cx="504720" cy="934920"/>
          </a:xfrm>
        </p:grpSpPr>
        <p:sp>
          <p:nvSpPr>
            <p:cNvPr id="210" name=""/>
            <p:cNvSpPr/>
            <p:nvPr/>
          </p:nvSpPr>
          <p:spPr>
            <a:xfrm>
              <a:off x="6516720" y="537372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661080" y="587700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61080" y="515772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7020000" y="5157720"/>
            <a:ext cx="504720" cy="934920"/>
            <a:chOff x="7020000" y="5157720"/>
            <a:chExt cx="504720" cy="934920"/>
          </a:xfrm>
        </p:grpSpPr>
        <p:sp>
          <p:nvSpPr>
            <p:cNvPr id="214" name=""/>
            <p:cNvSpPr/>
            <p:nvPr/>
          </p:nvSpPr>
          <p:spPr>
            <a:xfrm>
              <a:off x="7020000" y="537372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164360" y="587700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164360" y="515772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7524720" y="5157720"/>
            <a:ext cx="504720" cy="934920"/>
            <a:chOff x="7524720" y="5157720"/>
            <a:chExt cx="504720" cy="934920"/>
          </a:xfrm>
        </p:grpSpPr>
        <p:sp>
          <p:nvSpPr>
            <p:cNvPr id="218" name=""/>
            <p:cNvSpPr/>
            <p:nvPr/>
          </p:nvSpPr>
          <p:spPr>
            <a:xfrm>
              <a:off x="7524720" y="537372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669080" y="587700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669080" y="515772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8028000" y="5157720"/>
            <a:ext cx="504720" cy="934920"/>
            <a:chOff x="8028000" y="5157720"/>
            <a:chExt cx="504720" cy="934920"/>
          </a:xfrm>
        </p:grpSpPr>
        <p:sp>
          <p:nvSpPr>
            <p:cNvPr id="222" name=""/>
            <p:cNvSpPr/>
            <p:nvPr/>
          </p:nvSpPr>
          <p:spPr>
            <a:xfrm>
              <a:off x="8028000" y="537372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172360" y="587700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172360" y="515772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4500720" y="4005360"/>
            <a:ext cx="504720" cy="934920"/>
            <a:chOff x="4500720" y="4005360"/>
            <a:chExt cx="504720" cy="934920"/>
          </a:xfrm>
        </p:grpSpPr>
        <p:sp>
          <p:nvSpPr>
            <p:cNvPr id="226" name=""/>
            <p:cNvSpPr/>
            <p:nvPr/>
          </p:nvSpPr>
          <p:spPr>
            <a:xfrm>
              <a:off x="4500720" y="4221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645080" y="4724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645080" y="4005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5003640" y="4005360"/>
            <a:ext cx="505080" cy="934920"/>
            <a:chOff x="5003640" y="4005360"/>
            <a:chExt cx="505080" cy="934920"/>
          </a:xfrm>
        </p:grpSpPr>
        <p:sp>
          <p:nvSpPr>
            <p:cNvPr id="230" name=""/>
            <p:cNvSpPr/>
            <p:nvPr/>
          </p:nvSpPr>
          <p:spPr>
            <a:xfrm>
              <a:off x="5003640" y="4221360"/>
              <a:ext cx="50508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14836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148360" y="400536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5508720" y="4005360"/>
            <a:ext cx="504720" cy="934920"/>
            <a:chOff x="5508720" y="4005360"/>
            <a:chExt cx="504720" cy="934920"/>
          </a:xfrm>
        </p:grpSpPr>
        <p:sp>
          <p:nvSpPr>
            <p:cNvPr id="234" name=""/>
            <p:cNvSpPr/>
            <p:nvPr/>
          </p:nvSpPr>
          <p:spPr>
            <a:xfrm>
              <a:off x="5508720" y="4221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653080" y="4724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53080" y="4005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012000" y="5157720"/>
            <a:ext cx="504720" cy="934920"/>
            <a:chOff x="6012000" y="5157720"/>
            <a:chExt cx="504720" cy="934920"/>
          </a:xfrm>
        </p:grpSpPr>
        <p:sp>
          <p:nvSpPr>
            <p:cNvPr id="238" name=""/>
            <p:cNvSpPr/>
            <p:nvPr/>
          </p:nvSpPr>
          <p:spPr>
            <a:xfrm>
              <a:off x="6012000" y="537372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156360" y="587700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56360" y="515772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250920" y="4292640"/>
            <a:ext cx="21564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763640" y="2565360"/>
            <a:ext cx="2664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187280" y="333360"/>
            <a:ext cx="676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could be made more useful by breaking the chains into shorter leng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932360" y="249228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8531280" y="170172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95280" y="476280"/>
            <a:ext cx="84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2484360" y="1341360"/>
            <a:ext cx="505080" cy="934920"/>
            <a:chOff x="2484360" y="1341360"/>
            <a:chExt cx="505080" cy="934920"/>
          </a:xfrm>
        </p:grpSpPr>
        <p:sp>
          <p:nvSpPr>
            <p:cNvPr id="248" name=""/>
            <p:cNvSpPr/>
            <p:nvPr/>
          </p:nvSpPr>
          <p:spPr>
            <a:xfrm>
              <a:off x="2484360" y="1557360"/>
              <a:ext cx="50508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629080" y="2060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629080" y="134136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2987640" y="1341360"/>
            <a:ext cx="504720" cy="934920"/>
            <a:chOff x="2987640" y="1341360"/>
            <a:chExt cx="504720" cy="934920"/>
          </a:xfrm>
        </p:grpSpPr>
        <p:sp>
          <p:nvSpPr>
            <p:cNvPr id="252" name=""/>
            <p:cNvSpPr/>
            <p:nvPr/>
          </p:nvSpPr>
          <p:spPr>
            <a:xfrm>
              <a:off x="2987640" y="1557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32000" y="2060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132000" y="1341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3492360" y="1341360"/>
            <a:ext cx="505080" cy="934920"/>
            <a:chOff x="3492360" y="1341360"/>
            <a:chExt cx="505080" cy="934920"/>
          </a:xfrm>
        </p:grpSpPr>
        <p:sp>
          <p:nvSpPr>
            <p:cNvPr id="256" name=""/>
            <p:cNvSpPr/>
            <p:nvPr/>
          </p:nvSpPr>
          <p:spPr>
            <a:xfrm>
              <a:off x="3492360" y="1557360"/>
              <a:ext cx="50508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637080" y="2060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637080" y="134136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3995640" y="1341360"/>
            <a:ext cx="505080" cy="934920"/>
            <a:chOff x="3995640" y="1341360"/>
            <a:chExt cx="505080" cy="934920"/>
          </a:xfrm>
        </p:grpSpPr>
        <p:sp>
          <p:nvSpPr>
            <p:cNvPr id="260" name=""/>
            <p:cNvSpPr/>
            <p:nvPr/>
          </p:nvSpPr>
          <p:spPr>
            <a:xfrm>
              <a:off x="3995640" y="1557360"/>
              <a:ext cx="50508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140360" y="2060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140360" y="134136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468360" y="1341360"/>
            <a:ext cx="504720" cy="934920"/>
            <a:chOff x="468360" y="1341360"/>
            <a:chExt cx="504720" cy="934920"/>
          </a:xfrm>
        </p:grpSpPr>
        <p:sp>
          <p:nvSpPr>
            <p:cNvPr id="264" name=""/>
            <p:cNvSpPr/>
            <p:nvPr/>
          </p:nvSpPr>
          <p:spPr>
            <a:xfrm>
              <a:off x="468360" y="1557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12720" y="2060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2720" y="1341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971640" y="1341360"/>
            <a:ext cx="504720" cy="934920"/>
            <a:chOff x="971640" y="1341360"/>
            <a:chExt cx="504720" cy="934920"/>
          </a:xfrm>
        </p:grpSpPr>
        <p:sp>
          <p:nvSpPr>
            <p:cNvPr id="268" name=""/>
            <p:cNvSpPr/>
            <p:nvPr/>
          </p:nvSpPr>
          <p:spPr>
            <a:xfrm>
              <a:off x="971640" y="1557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116000" y="2060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116000" y="1341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1476360" y="1341360"/>
            <a:ext cx="504720" cy="934920"/>
            <a:chOff x="1476360" y="1341360"/>
            <a:chExt cx="504720" cy="934920"/>
          </a:xfrm>
        </p:grpSpPr>
        <p:sp>
          <p:nvSpPr>
            <p:cNvPr id="272" name=""/>
            <p:cNvSpPr/>
            <p:nvPr/>
          </p:nvSpPr>
          <p:spPr>
            <a:xfrm>
              <a:off x="1476360" y="1557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620720" y="2060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620720" y="1341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1979640" y="1341360"/>
            <a:ext cx="504720" cy="934920"/>
            <a:chOff x="1979640" y="1341360"/>
            <a:chExt cx="504720" cy="934920"/>
          </a:xfrm>
        </p:grpSpPr>
        <p:sp>
          <p:nvSpPr>
            <p:cNvPr id="276" name=""/>
            <p:cNvSpPr/>
            <p:nvPr/>
          </p:nvSpPr>
          <p:spPr>
            <a:xfrm>
              <a:off x="1979640" y="1557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124000" y="2060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124000" y="1341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6516720" y="1341360"/>
            <a:ext cx="504720" cy="934920"/>
            <a:chOff x="6516720" y="1341360"/>
            <a:chExt cx="504720" cy="934920"/>
          </a:xfrm>
        </p:grpSpPr>
        <p:sp>
          <p:nvSpPr>
            <p:cNvPr id="280" name=""/>
            <p:cNvSpPr/>
            <p:nvPr/>
          </p:nvSpPr>
          <p:spPr>
            <a:xfrm>
              <a:off x="6516720" y="1557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661080" y="2060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661080" y="1341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7020000" y="1341360"/>
            <a:ext cx="504720" cy="934920"/>
            <a:chOff x="7020000" y="1341360"/>
            <a:chExt cx="504720" cy="934920"/>
          </a:xfrm>
        </p:grpSpPr>
        <p:sp>
          <p:nvSpPr>
            <p:cNvPr id="284" name=""/>
            <p:cNvSpPr/>
            <p:nvPr/>
          </p:nvSpPr>
          <p:spPr>
            <a:xfrm>
              <a:off x="7020000" y="1557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64360" y="2060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164360" y="1341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7524720" y="1341360"/>
            <a:ext cx="504720" cy="934920"/>
            <a:chOff x="7524720" y="1341360"/>
            <a:chExt cx="504720" cy="934920"/>
          </a:xfrm>
        </p:grpSpPr>
        <p:sp>
          <p:nvSpPr>
            <p:cNvPr id="288" name=""/>
            <p:cNvSpPr/>
            <p:nvPr/>
          </p:nvSpPr>
          <p:spPr>
            <a:xfrm>
              <a:off x="7524720" y="1557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669080" y="2060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669080" y="1341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8028000" y="1341360"/>
            <a:ext cx="504720" cy="934920"/>
            <a:chOff x="8028000" y="1341360"/>
            <a:chExt cx="504720" cy="934920"/>
          </a:xfrm>
        </p:grpSpPr>
        <p:sp>
          <p:nvSpPr>
            <p:cNvPr id="292" name=""/>
            <p:cNvSpPr/>
            <p:nvPr/>
          </p:nvSpPr>
          <p:spPr>
            <a:xfrm>
              <a:off x="8028000" y="1557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172360" y="2060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172360" y="1341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4500720" y="1341360"/>
            <a:ext cx="504720" cy="934920"/>
            <a:chOff x="4500720" y="1341360"/>
            <a:chExt cx="504720" cy="934920"/>
          </a:xfrm>
        </p:grpSpPr>
        <p:sp>
          <p:nvSpPr>
            <p:cNvPr id="296" name=""/>
            <p:cNvSpPr/>
            <p:nvPr/>
          </p:nvSpPr>
          <p:spPr>
            <a:xfrm>
              <a:off x="4500720" y="1557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645080" y="2060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645080" y="1341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5003640" y="1341360"/>
            <a:ext cx="505080" cy="934920"/>
            <a:chOff x="5003640" y="1341360"/>
            <a:chExt cx="505080" cy="934920"/>
          </a:xfrm>
        </p:grpSpPr>
        <p:sp>
          <p:nvSpPr>
            <p:cNvPr id="300" name=""/>
            <p:cNvSpPr/>
            <p:nvPr/>
          </p:nvSpPr>
          <p:spPr>
            <a:xfrm>
              <a:off x="5003640" y="1557360"/>
              <a:ext cx="50508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148360" y="2060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148360" y="134136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5508720" y="1341360"/>
            <a:ext cx="504720" cy="934920"/>
            <a:chOff x="5508720" y="1341360"/>
            <a:chExt cx="504720" cy="934920"/>
          </a:xfrm>
        </p:grpSpPr>
        <p:sp>
          <p:nvSpPr>
            <p:cNvPr id="304" name=""/>
            <p:cNvSpPr/>
            <p:nvPr/>
          </p:nvSpPr>
          <p:spPr>
            <a:xfrm>
              <a:off x="5508720" y="1557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653080" y="2060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653080" y="1341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6012000" y="1341360"/>
            <a:ext cx="504720" cy="934920"/>
            <a:chOff x="6012000" y="1341360"/>
            <a:chExt cx="504720" cy="934920"/>
          </a:xfrm>
        </p:grpSpPr>
        <p:sp>
          <p:nvSpPr>
            <p:cNvPr id="308" name=""/>
            <p:cNvSpPr/>
            <p:nvPr/>
          </p:nvSpPr>
          <p:spPr>
            <a:xfrm>
              <a:off x="6012000" y="1557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156360" y="2060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156360" y="1341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250920" y="1628640"/>
            <a:ext cx="21564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531280" y="551808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2484360" y="4005360"/>
            <a:ext cx="505080" cy="934920"/>
            <a:chOff x="2484360" y="4005360"/>
            <a:chExt cx="505080" cy="934920"/>
          </a:xfrm>
        </p:grpSpPr>
        <p:sp>
          <p:nvSpPr>
            <p:cNvPr id="314" name=""/>
            <p:cNvSpPr/>
            <p:nvPr/>
          </p:nvSpPr>
          <p:spPr>
            <a:xfrm>
              <a:off x="2484360" y="4221360"/>
              <a:ext cx="50508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62908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629080" y="400536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2987640" y="4005360"/>
            <a:ext cx="504720" cy="934920"/>
            <a:chOff x="2987640" y="4005360"/>
            <a:chExt cx="504720" cy="934920"/>
          </a:xfrm>
        </p:grpSpPr>
        <p:sp>
          <p:nvSpPr>
            <p:cNvPr id="318" name=""/>
            <p:cNvSpPr/>
            <p:nvPr/>
          </p:nvSpPr>
          <p:spPr>
            <a:xfrm>
              <a:off x="2987640" y="4221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132000" y="4724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132000" y="4005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92360" y="4005360"/>
            <a:ext cx="505080" cy="934920"/>
            <a:chOff x="3492360" y="4005360"/>
            <a:chExt cx="505080" cy="934920"/>
          </a:xfrm>
        </p:grpSpPr>
        <p:sp>
          <p:nvSpPr>
            <p:cNvPr id="322" name=""/>
            <p:cNvSpPr/>
            <p:nvPr/>
          </p:nvSpPr>
          <p:spPr>
            <a:xfrm>
              <a:off x="3492360" y="4221360"/>
              <a:ext cx="50508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63708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637080" y="400536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3995640" y="4005360"/>
            <a:ext cx="505080" cy="934920"/>
            <a:chOff x="3995640" y="4005360"/>
            <a:chExt cx="505080" cy="934920"/>
          </a:xfrm>
        </p:grpSpPr>
        <p:sp>
          <p:nvSpPr>
            <p:cNvPr id="326" name=""/>
            <p:cNvSpPr/>
            <p:nvPr/>
          </p:nvSpPr>
          <p:spPr>
            <a:xfrm>
              <a:off x="3995640" y="4221360"/>
              <a:ext cx="50508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14036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140360" y="400536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468360" y="4005360"/>
            <a:ext cx="504720" cy="934920"/>
            <a:chOff x="468360" y="4005360"/>
            <a:chExt cx="504720" cy="934920"/>
          </a:xfrm>
        </p:grpSpPr>
        <p:sp>
          <p:nvSpPr>
            <p:cNvPr id="330" name=""/>
            <p:cNvSpPr/>
            <p:nvPr/>
          </p:nvSpPr>
          <p:spPr>
            <a:xfrm>
              <a:off x="468360" y="4221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12720" y="4724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12720" y="4005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971640" y="4005360"/>
            <a:ext cx="504720" cy="934920"/>
            <a:chOff x="971640" y="4005360"/>
            <a:chExt cx="504720" cy="934920"/>
          </a:xfrm>
        </p:grpSpPr>
        <p:sp>
          <p:nvSpPr>
            <p:cNvPr id="334" name=""/>
            <p:cNvSpPr/>
            <p:nvPr/>
          </p:nvSpPr>
          <p:spPr>
            <a:xfrm>
              <a:off x="971640" y="4221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116000" y="4724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116000" y="4005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1476360" y="4005360"/>
            <a:ext cx="504720" cy="934920"/>
            <a:chOff x="1476360" y="4005360"/>
            <a:chExt cx="504720" cy="934920"/>
          </a:xfrm>
        </p:grpSpPr>
        <p:sp>
          <p:nvSpPr>
            <p:cNvPr id="338" name=""/>
            <p:cNvSpPr/>
            <p:nvPr/>
          </p:nvSpPr>
          <p:spPr>
            <a:xfrm>
              <a:off x="1476360" y="4221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620720" y="4724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620720" y="4005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1979640" y="4005360"/>
            <a:ext cx="504720" cy="934920"/>
            <a:chOff x="1979640" y="4005360"/>
            <a:chExt cx="504720" cy="934920"/>
          </a:xfrm>
        </p:grpSpPr>
        <p:sp>
          <p:nvSpPr>
            <p:cNvPr id="342" name=""/>
            <p:cNvSpPr/>
            <p:nvPr/>
          </p:nvSpPr>
          <p:spPr>
            <a:xfrm>
              <a:off x="1979640" y="4221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124000" y="4724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124000" y="4005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6516720" y="5157720"/>
            <a:ext cx="504720" cy="934920"/>
            <a:chOff x="6516720" y="5157720"/>
            <a:chExt cx="504720" cy="934920"/>
          </a:xfrm>
        </p:grpSpPr>
        <p:sp>
          <p:nvSpPr>
            <p:cNvPr id="346" name=""/>
            <p:cNvSpPr/>
            <p:nvPr/>
          </p:nvSpPr>
          <p:spPr>
            <a:xfrm>
              <a:off x="6516720" y="537372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661080" y="587700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661080" y="515772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7020000" y="5157720"/>
            <a:ext cx="504720" cy="934920"/>
            <a:chOff x="7020000" y="5157720"/>
            <a:chExt cx="504720" cy="934920"/>
          </a:xfrm>
        </p:grpSpPr>
        <p:sp>
          <p:nvSpPr>
            <p:cNvPr id="350" name=""/>
            <p:cNvSpPr/>
            <p:nvPr/>
          </p:nvSpPr>
          <p:spPr>
            <a:xfrm>
              <a:off x="7020000" y="537372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4360" y="587700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4360" y="515772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7524720" y="5157720"/>
            <a:ext cx="504720" cy="934920"/>
            <a:chOff x="7524720" y="5157720"/>
            <a:chExt cx="504720" cy="934920"/>
          </a:xfrm>
        </p:grpSpPr>
        <p:sp>
          <p:nvSpPr>
            <p:cNvPr id="354" name=""/>
            <p:cNvSpPr/>
            <p:nvPr/>
          </p:nvSpPr>
          <p:spPr>
            <a:xfrm>
              <a:off x="7524720" y="537372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669080" y="587700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669080" y="515772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8028000" y="5157720"/>
            <a:ext cx="504720" cy="934920"/>
            <a:chOff x="8028000" y="5157720"/>
            <a:chExt cx="504720" cy="934920"/>
          </a:xfrm>
        </p:grpSpPr>
        <p:sp>
          <p:nvSpPr>
            <p:cNvPr id="358" name=""/>
            <p:cNvSpPr/>
            <p:nvPr/>
          </p:nvSpPr>
          <p:spPr>
            <a:xfrm>
              <a:off x="8028000" y="537372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172360" y="587700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172360" y="515772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4500720" y="4005360"/>
            <a:ext cx="504720" cy="934920"/>
            <a:chOff x="4500720" y="4005360"/>
            <a:chExt cx="504720" cy="934920"/>
          </a:xfrm>
        </p:grpSpPr>
        <p:sp>
          <p:nvSpPr>
            <p:cNvPr id="362" name=""/>
            <p:cNvSpPr/>
            <p:nvPr/>
          </p:nvSpPr>
          <p:spPr>
            <a:xfrm>
              <a:off x="4500720" y="4221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645080" y="4724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645080" y="4005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003640" y="4005360"/>
            <a:ext cx="505080" cy="934920"/>
            <a:chOff x="5003640" y="4005360"/>
            <a:chExt cx="505080" cy="934920"/>
          </a:xfrm>
        </p:grpSpPr>
        <p:sp>
          <p:nvSpPr>
            <p:cNvPr id="366" name=""/>
            <p:cNvSpPr/>
            <p:nvPr/>
          </p:nvSpPr>
          <p:spPr>
            <a:xfrm>
              <a:off x="5003640" y="4221360"/>
              <a:ext cx="50508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4836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148360" y="400536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5508720" y="4005360"/>
            <a:ext cx="504720" cy="934920"/>
            <a:chOff x="5508720" y="4005360"/>
            <a:chExt cx="504720" cy="934920"/>
          </a:xfrm>
        </p:grpSpPr>
        <p:sp>
          <p:nvSpPr>
            <p:cNvPr id="370" name=""/>
            <p:cNvSpPr/>
            <p:nvPr/>
          </p:nvSpPr>
          <p:spPr>
            <a:xfrm>
              <a:off x="5508720" y="4221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653080" y="4724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653080" y="4005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6012000" y="5157720"/>
            <a:ext cx="504720" cy="934920"/>
            <a:chOff x="6012000" y="5157720"/>
            <a:chExt cx="504720" cy="934920"/>
          </a:xfrm>
        </p:grpSpPr>
        <p:sp>
          <p:nvSpPr>
            <p:cNvPr id="374" name=""/>
            <p:cNvSpPr/>
            <p:nvPr/>
          </p:nvSpPr>
          <p:spPr>
            <a:xfrm>
              <a:off x="6012000" y="537372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156360" y="587700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156360" y="515772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250920" y="4292640"/>
            <a:ext cx="21564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763640" y="2565360"/>
            <a:ext cx="2664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187280" y="333360"/>
            <a:ext cx="676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could be made more useful by breaking the chains into shorter leng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932360" y="249228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39640" y="5157720"/>
            <a:ext cx="504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wo fragments formed are not stable molecules and must rearra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8531280" y="170172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95280" y="4762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acking: breaking long chains into shorter 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2484360" y="1341360"/>
            <a:ext cx="505080" cy="934920"/>
            <a:chOff x="2484360" y="1341360"/>
            <a:chExt cx="505080" cy="934920"/>
          </a:xfrm>
        </p:grpSpPr>
        <p:sp>
          <p:nvSpPr>
            <p:cNvPr id="385" name=""/>
            <p:cNvSpPr/>
            <p:nvPr/>
          </p:nvSpPr>
          <p:spPr>
            <a:xfrm>
              <a:off x="2484360" y="1557360"/>
              <a:ext cx="50508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629080" y="2060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629080" y="134136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2987640" y="1341360"/>
            <a:ext cx="504720" cy="934920"/>
            <a:chOff x="2987640" y="1341360"/>
            <a:chExt cx="504720" cy="934920"/>
          </a:xfrm>
        </p:grpSpPr>
        <p:sp>
          <p:nvSpPr>
            <p:cNvPr id="389" name=""/>
            <p:cNvSpPr/>
            <p:nvPr/>
          </p:nvSpPr>
          <p:spPr>
            <a:xfrm>
              <a:off x="2987640" y="1557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132000" y="2060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132000" y="1341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3492360" y="1341360"/>
            <a:ext cx="505080" cy="934920"/>
            <a:chOff x="3492360" y="1341360"/>
            <a:chExt cx="505080" cy="934920"/>
          </a:xfrm>
        </p:grpSpPr>
        <p:sp>
          <p:nvSpPr>
            <p:cNvPr id="393" name=""/>
            <p:cNvSpPr/>
            <p:nvPr/>
          </p:nvSpPr>
          <p:spPr>
            <a:xfrm>
              <a:off x="3492360" y="1557360"/>
              <a:ext cx="50508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637080" y="2060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637080" y="134136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3995640" y="1341360"/>
            <a:ext cx="505080" cy="934920"/>
            <a:chOff x="3995640" y="1341360"/>
            <a:chExt cx="505080" cy="934920"/>
          </a:xfrm>
        </p:grpSpPr>
        <p:sp>
          <p:nvSpPr>
            <p:cNvPr id="397" name=""/>
            <p:cNvSpPr/>
            <p:nvPr/>
          </p:nvSpPr>
          <p:spPr>
            <a:xfrm>
              <a:off x="3995640" y="1557360"/>
              <a:ext cx="50508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140360" y="2060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140360" y="134136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468360" y="1341360"/>
            <a:ext cx="504720" cy="934920"/>
            <a:chOff x="468360" y="1341360"/>
            <a:chExt cx="504720" cy="934920"/>
          </a:xfrm>
        </p:grpSpPr>
        <p:sp>
          <p:nvSpPr>
            <p:cNvPr id="401" name=""/>
            <p:cNvSpPr/>
            <p:nvPr/>
          </p:nvSpPr>
          <p:spPr>
            <a:xfrm>
              <a:off x="468360" y="1557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12720" y="2060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12720" y="1341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971640" y="1341360"/>
            <a:ext cx="504720" cy="934920"/>
            <a:chOff x="971640" y="1341360"/>
            <a:chExt cx="504720" cy="934920"/>
          </a:xfrm>
        </p:grpSpPr>
        <p:sp>
          <p:nvSpPr>
            <p:cNvPr id="405" name=""/>
            <p:cNvSpPr/>
            <p:nvPr/>
          </p:nvSpPr>
          <p:spPr>
            <a:xfrm>
              <a:off x="971640" y="1557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116000" y="2060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116000" y="1341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1476360" y="1341360"/>
            <a:ext cx="504720" cy="934920"/>
            <a:chOff x="1476360" y="1341360"/>
            <a:chExt cx="504720" cy="934920"/>
          </a:xfrm>
        </p:grpSpPr>
        <p:sp>
          <p:nvSpPr>
            <p:cNvPr id="409" name=""/>
            <p:cNvSpPr/>
            <p:nvPr/>
          </p:nvSpPr>
          <p:spPr>
            <a:xfrm>
              <a:off x="1476360" y="1557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620720" y="2060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620720" y="1341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1979640" y="1341360"/>
            <a:ext cx="504720" cy="934920"/>
            <a:chOff x="1979640" y="1341360"/>
            <a:chExt cx="504720" cy="934920"/>
          </a:xfrm>
        </p:grpSpPr>
        <p:sp>
          <p:nvSpPr>
            <p:cNvPr id="413" name=""/>
            <p:cNvSpPr/>
            <p:nvPr/>
          </p:nvSpPr>
          <p:spPr>
            <a:xfrm>
              <a:off x="1979640" y="1557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124000" y="2060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124000" y="1341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6516720" y="1341360"/>
            <a:ext cx="504720" cy="934920"/>
            <a:chOff x="6516720" y="1341360"/>
            <a:chExt cx="504720" cy="934920"/>
          </a:xfrm>
        </p:grpSpPr>
        <p:sp>
          <p:nvSpPr>
            <p:cNvPr id="417" name=""/>
            <p:cNvSpPr/>
            <p:nvPr/>
          </p:nvSpPr>
          <p:spPr>
            <a:xfrm>
              <a:off x="6516720" y="1557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661080" y="2060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661080" y="1341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7020000" y="1341360"/>
            <a:ext cx="504720" cy="934920"/>
            <a:chOff x="7020000" y="1341360"/>
            <a:chExt cx="504720" cy="934920"/>
          </a:xfrm>
        </p:grpSpPr>
        <p:sp>
          <p:nvSpPr>
            <p:cNvPr id="421" name=""/>
            <p:cNvSpPr/>
            <p:nvPr/>
          </p:nvSpPr>
          <p:spPr>
            <a:xfrm>
              <a:off x="7020000" y="1557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164360" y="2060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164360" y="1341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7524720" y="1341360"/>
            <a:ext cx="504720" cy="934920"/>
            <a:chOff x="7524720" y="1341360"/>
            <a:chExt cx="504720" cy="934920"/>
          </a:xfrm>
        </p:grpSpPr>
        <p:sp>
          <p:nvSpPr>
            <p:cNvPr id="425" name=""/>
            <p:cNvSpPr/>
            <p:nvPr/>
          </p:nvSpPr>
          <p:spPr>
            <a:xfrm>
              <a:off x="7524720" y="1557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69080" y="2060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69080" y="1341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8028000" y="1341360"/>
            <a:ext cx="504720" cy="934920"/>
            <a:chOff x="8028000" y="1341360"/>
            <a:chExt cx="504720" cy="934920"/>
          </a:xfrm>
        </p:grpSpPr>
        <p:sp>
          <p:nvSpPr>
            <p:cNvPr id="429" name=""/>
            <p:cNvSpPr/>
            <p:nvPr/>
          </p:nvSpPr>
          <p:spPr>
            <a:xfrm>
              <a:off x="8028000" y="1557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172360" y="2060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172360" y="1341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4500720" y="1341360"/>
            <a:ext cx="504720" cy="934920"/>
            <a:chOff x="4500720" y="1341360"/>
            <a:chExt cx="504720" cy="934920"/>
          </a:xfrm>
        </p:grpSpPr>
        <p:sp>
          <p:nvSpPr>
            <p:cNvPr id="433" name=""/>
            <p:cNvSpPr/>
            <p:nvPr/>
          </p:nvSpPr>
          <p:spPr>
            <a:xfrm>
              <a:off x="4500720" y="1557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645080" y="2060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645080" y="1341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5003640" y="1341360"/>
            <a:ext cx="505080" cy="934920"/>
            <a:chOff x="5003640" y="1341360"/>
            <a:chExt cx="505080" cy="934920"/>
          </a:xfrm>
        </p:grpSpPr>
        <p:sp>
          <p:nvSpPr>
            <p:cNvPr id="437" name=""/>
            <p:cNvSpPr/>
            <p:nvPr/>
          </p:nvSpPr>
          <p:spPr>
            <a:xfrm>
              <a:off x="5003640" y="1557360"/>
              <a:ext cx="50508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48360" y="2060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148360" y="134136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5508720" y="1341360"/>
            <a:ext cx="504720" cy="934920"/>
            <a:chOff x="5508720" y="1341360"/>
            <a:chExt cx="504720" cy="934920"/>
          </a:xfrm>
        </p:grpSpPr>
        <p:sp>
          <p:nvSpPr>
            <p:cNvPr id="441" name=""/>
            <p:cNvSpPr/>
            <p:nvPr/>
          </p:nvSpPr>
          <p:spPr>
            <a:xfrm>
              <a:off x="5508720" y="1557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653080" y="2060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653080" y="1341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6012000" y="1341360"/>
            <a:ext cx="504720" cy="934920"/>
            <a:chOff x="6012000" y="1341360"/>
            <a:chExt cx="504720" cy="934920"/>
          </a:xfrm>
        </p:grpSpPr>
        <p:sp>
          <p:nvSpPr>
            <p:cNvPr id="445" name=""/>
            <p:cNvSpPr/>
            <p:nvPr/>
          </p:nvSpPr>
          <p:spPr>
            <a:xfrm>
              <a:off x="6012000" y="1557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156360" y="2060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156360" y="1341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250920" y="1628640"/>
            <a:ext cx="21564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8531280" y="515772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2556000" y="3933720"/>
            <a:ext cx="504720" cy="934920"/>
            <a:chOff x="2556000" y="3933720"/>
            <a:chExt cx="504720" cy="934920"/>
          </a:xfrm>
        </p:grpSpPr>
        <p:sp>
          <p:nvSpPr>
            <p:cNvPr id="451" name=""/>
            <p:cNvSpPr/>
            <p:nvPr/>
          </p:nvSpPr>
          <p:spPr>
            <a:xfrm>
              <a:off x="2556000" y="414972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700360" y="465300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700360" y="393372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3059280" y="3933720"/>
            <a:ext cx="504720" cy="934920"/>
            <a:chOff x="3059280" y="3933720"/>
            <a:chExt cx="504720" cy="934920"/>
          </a:xfrm>
        </p:grpSpPr>
        <p:sp>
          <p:nvSpPr>
            <p:cNvPr id="455" name=""/>
            <p:cNvSpPr/>
            <p:nvPr/>
          </p:nvSpPr>
          <p:spPr>
            <a:xfrm>
              <a:off x="3059280" y="414972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203640" y="465300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203640" y="393372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3564000" y="3933720"/>
            <a:ext cx="504720" cy="934920"/>
            <a:chOff x="3564000" y="3933720"/>
            <a:chExt cx="504720" cy="934920"/>
          </a:xfrm>
        </p:grpSpPr>
        <p:sp>
          <p:nvSpPr>
            <p:cNvPr id="459" name=""/>
            <p:cNvSpPr/>
            <p:nvPr/>
          </p:nvSpPr>
          <p:spPr>
            <a:xfrm>
              <a:off x="3564000" y="414972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708360" y="465300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708360" y="393372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4067280" y="3933720"/>
            <a:ext cx="504720" cy="934920"/>
            <a:chOff x="4067280" y="3933720"/>
            <a:chExt cx="504720" cy="934920"/>
          </a:xfrm>
        </p:grpSpPr>
        <p:sp>
          <p:nvSpPr>
            <p:cNvPr id="463" name=""/>
            <p:cNvSpPr/>
            <p:nvPr/>
          </p:nvSpPr>
          <p:spPr>
            <a:xfrm>
              <a:off x="4067280" y="414972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211640" y="465300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11640" y="393372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539640" y="3933720"/>
            <a:ext cx="505080" cy="934920"/>
            <a:chOff x="539640" y="3933720"/>
            <a:chExt cx="505080" cy="934920"/>
          </a:xfrm>
        </p:grpSpPr>
        <p:sp>
          <p:nvSpPr>
            <p:cNvPr id="467" name=""/>
            <p:cNvSpPr/>
            <p:nvPr/>
          </p:nvSpPr>
          <p:spPr>
            <a:xfrm>
              <a:off x="539640" y="4149720"/>
              <a:ext cx="50508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84360" y="4653000"/>
              <a:ext cx="21564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84360" y="393372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1042920" y="3933720"/>
            <a:ext cx="504720" cy="934920"/>
            <a:chOff x="1042920" y="3933720"/>
            <a:chExt cx="504720" cy="934920"/>
          </a:xfrm>
        </p:grpSpPr>
        <p:sp>
          <p:nvSpPr>
            <p:cNvPr id="471" name=""/>
            <p:cNvSpPr/>
            <p:nvPr/>
          </p:nvSpPr>
          <p:spPr>
            <a:xfrm>
              <a:off x="1042920" y="414972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187280" y="465300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187280" y="393372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1547640" y="3933720"/>
            <a:ext cx="505080" cy="934920"/>
            <a:chOff x="1547640" y="3933720"/>
            <a:chExt cx="505080" cy="934920"/>
          </a:xfrm>
        </p:grpSpPr>
        <p:sp>
          <p:nvSpPr>
            <p:cNvPr id="475" name=""/>
            <p:cNvSpPr/>
            <p:nvPr/>
          </p:nvSpPr>
          <p:spPr>
            <a:xfrm>
              <a:off x="1547640" y="4149720"/>
              <a:ext cx="50508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692360" y="4653000"/>
              <a:ext cx="21564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692360" y="393372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2050920" y="3933720"/>
            <a:ext cx="505080" cy="934920"/>
            <a:chOff x="2050920" y="3933720"/>
            <a:chExt cx="505080" cy="934920"/>
          </a:xfrm>
        </p:grpSpPr>
        <p:sp>
          <p:nvSpPr>
            <p:cNvPr id="479" name=""/>
            <p:cNvSpPr/>
            <p:nvPr/>
          </p:nvSpPr>
          <p:spPr>
            <a:xfrm>
              <a:off x="2050920" y="4149720"/>
              <a:ext cx="50508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195640" y="4653000"/>
              <a:ext cx="21564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195640" y="393372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6516720" y="5013360"/>
            <a:ext cx="504720" cy="503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661080" y="551664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156360" y="479736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7020000" y="4797360"/>
            <a:ext cx="504720" cy="934920"/>
            <a:chOff x="7020000" y="4797360"/>
            <a:chExt cx="504720" cy="934920"/>
          </a:xfrm>
        </p:grpSpPr>
        <p:sp>
          <p:nvSpPr>
            <p:cNvPr id="486" name=""/>
            <p:cNvSpPr/>
            <p:nvPr/>
          </p:nvSpPr>
          <p:spPr>
            <a:xfrm>
              <a:off x="7020000" y="5013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164360" y="5516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64360" y="4797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7524720" y="4797360"/>
            <a:ext cx="504720" cy="934920"/>
            <a:chOff x="7524720" y="4797360"/>
            <a:chExt cx="504720" cy="934920"/>
          </a:xfrm>
        </p:grpSpPr>
        <p:sp>
          <p:nvSpPr>
            <p:cNvPr id="490" name=""/>
            <p:cNvSpPr/>
            <p:nvPr/>
          </p:nvSpPr>
          <p:spPr>
            <a:xfrm>
              <a:off x="7524720" y="5013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669080" y="5516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669080" y="4797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8028000" y="4797360"/>
            <a:ext cx="504720" cy="934920"/>
            <a:chOff x="8028000" y="4797360"/>
            <a:chExt cx="504720" cy="934920"/>
          </a:xfrm>
        </p:grpSpPr>
        <p:sp>
          <p:nvSpPr>
            <p:cNvPr id="494" name=""/>
            <p:cNvSpPr/>
            <p:nvPr/>
          </p:nvSpPr>
          <p:spPr>
            <a:xfrm>
              <a:off x="8028000" y="5013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172360" y="5516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172360" y="4797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4572000" y="3933720"/>
            <a:ext cx="504720" cy="934920"/>
            <a:chOff x="4572000" y="3933720"/>
            <a:chExt cx="504720" cy="934920"/>
          </a:xfrm>
        </p:grpSpPr>
        <p:sp>
          <p:nvSpPr>
            <p:cNvPr id="498" name=""/>
            <p:cNvSpPr/>
            <p:nvPr/>
          </p:nvSpPr>
          <p:spPr>
            <a:xfrm>
              <a:off x="4572000" y="414972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716360" y="465300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716360" y="393372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5075280" y="3933720"/>
            <a:ext cx="504720" cy="934920"/>
            <a:chOff x="5075280" y="3933720"/>
            <a:chExt cx="504720" cy="934920"/>
          </a:xfrm>
        </p:grpSpPr>
        <p:sp>
          <p:nvSpPr>
            <p:cNvPr id="502" name=""/>
            <p:cNvSpPr/>
            <p:nvPr/>
          </p:nvSpPr>
          <p:spPr>
            <a:xfrm>
              <a:off x="5075280" y="414972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219640" y="465300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219640" y="393372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5580000" y="3933720"/>
            <a:ext cx="504720" cy="934920"/>
            <a:chOff x="5580000" y="3933720"/>
            <a:chExt cx="504720" cy="934920"/>
          </a:xfrm>
        </p:grpSpPr>
        <p:sp>
          <p:nvSpPr>
            <p:cNvPr id="506" name=""/>
            <p:cNvSpPr/>
            <p:nvPr/>
          </p:nvSpPr>
          <p:spPr>
            <a:xfrm>
              <a:off x="5580000" y="414972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724360" y="465300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724360" y="393372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"/>
          <p:cNvSpPr/>
          <p:nvPr/>
        </p:nvSpPr>
        <p:spPr>
          <a:xfrm>
            <a:off x="6012000" y="5013360"/>
            <a:ext cx="504720" cy="503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156360" y="551664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083280" y="429408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22200" y="422100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124000" y="5084640"/>
            <a:ext cx="2664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372360" y="5229360"/>
            <a:ext cx="287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372360" y="5300640"/>
            <a:ext cx="287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763640" y="2492280"/>
            <a:ext cx="2664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940360" y="5734080"/>
            <a:ext cx="2664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932360" y="249228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"/>
          <p:cNvGrpSpPr/>
          <p:nvPr/>
        </p:nvGrpSpPr>
        <p:grpSpPr>
          <a:xfrm>
            <a:off x="2122560" y="1989000"/>
            <a:ext cx="5761440" cy="1799640"/>
            <a:chOff x="2122560" y="1989000"/>
            <a:chExt cx="5761440" cy="1799640"/>
          </a:xfrm>
        </p:grpSpPr>
        <p:sp>
          <p:nvSpPr>
            <p:cNvPr id="520" name=""/>
            <p:cNvSpPr/>
            <p:nvPr/>
          </p:nvSpPr>
          <p:spPr>
            <a:xfrm>
              <a:off x="7429320" y="2682360"/>
              <a:ext cx="454680" cy="415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185640" y="2404440"/>
              <a:ext cx="1063080" cy="9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489840" y="3373200"/>
              <a:ext cx="454680" cy="415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426400" y="1989000"/>
              <a:ext cx="454680" cy="415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" name=""/>
            <p:cNvGrpSpPr/>
            <p:nvPr/>
          </p:nvGrpSpPr>
          <p:grpSpPr>
            <a:xfrm>
              <a:off x="4245840" y="1989000"/>
              <a:ext cx="1062360" cy="1799640"/>
              <a:chOff x="4245840" y="1989000"/>
              <a:chExt cx="1062360" cy="1799640"/>
            </a:xfrm>
          </p:grpSpPr>
          <p:sp>
            <p:nvSpPr>
              <p:cNvPr id="525" name=""/>
              <p:cNvSpPr/>
              <p:nvPr/>
            </p:nvSpPr>
            <p:spPr>
              <a:xfrm>
                <a:off x="4245840" y="2404440"/>
                <a:ext cx="1062360" cy="968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550040" y="3373560"/>
                <a:ext cx="453600" cy="4150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4550040" y="1989000"/>
                <a:ext cx="453600" cy="415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5308920" y="1989000"/>
              <a:ext cx="1063080" cy="1799640"/>
              <a:chOff x="5308920" y="1989000"/>
              <a:chExt cx="1063080" cy="1799640"/>
            </a:xfrm>
          </p:grpSpPr>
          <p:sp>
            <p:nvSpPr>
              <p:cNvPr id="529" name=""/>
              <p:cNvSpPr/>
              <p:nvPr/>
            </p:nvSpPr>
            <p:spPr>
              <a:xfrm>
                <a:off x="5308920" y="2404440"/>
                <a:ext cx="1063080" cy="968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613480" y="3373560"/>
                <a:ext cx="453960" cy="4150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613480" y="1989000"/>
                <a:ext cx="453960" cy="415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2" name=""/>
            <p:cNvGrpSpPr/>
            <p:nvPr/>
          </p:nvGrpSpPr>
          <p:grpSpPr>
            <a:xfrm>
              <a:off x="6369120" y="1989000"/>
              <a:ext cx="1062360" cy="1799640"/>
              <a:chOff x="6369120" y="1989000"/>
              <a:chExt cx="1062360" cy="1799640"/>
            </a:xfrm>
          </p:grpSpPr>
          <p:sp>
            <p:nvSpPr>
              <p:cNvPr id="533" name=""/>
              <p:cNvSpPr/>
              <p:nvPr/>
            </p:nvSpPr>
            <p:spPr>
              <a:xfrm>
                <a:off x="6369120" y="2404440"/>
                <a:ext cx="1062360" cy="968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673320" y="3373560"/>
                <a:ext cx="453600" cy="4150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673320" y="1989000"/>
                <a:ext cx="453600" cy="415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6" name=""/>
            <p:cNvSpPr/>
            <p:nvPr/>
          </p:nvSpPr>
          <p:spPr>
            <a:xfrm>
              <a:off x="2122560" y="2404440"/>
              <a:ext cx="1063080" cy="9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426400" y="3373200"/>
              <a:ext cx="454680" cy="415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881440" y="2820240"/>
              <a:ext cx="60516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881440" y="2957400"/>
              <a:ext cx="60516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2124000" y="4508640"/>
            <a:ext cx="49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olecules has insufficient H atoms to form an alk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"/>
          <p:cNvGrpSpPr/>
          <p:nvPr/>
        </p:nvGrpSpPr>
        <p:grpSpPr>
          <a:xfrm>
            <a:off x="2122560" y="1989000"/>
            <a:ext cx="5761440" cy="1799640"/>
            <a:chOff x="2122560" y="1989000"/>
            <a:chExt cx="5761440" cy="1799640"/>
          </a:xfrm>
        </p:grpSpPr>
        <p:sp>
          <p:nvSpPr>
            <p:cNvPr id="542" name=""/>
            <p:cNvSpPr/>
            <p:nvPr/>
          </p:nvSpPr>
          <p:spPr>
            <a:xfrm>
              <a:off x="7429320" y="2682360"/>
              <a:ext cx="454680" cy="415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185640" y="2404440"/>
              <a:ext cx="1063080" cy="9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489840" y="3373200"/>
              <a:ext cx="454680" cy="415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426400" y="1989000"/>
              <a:ext cx="454680" cy="415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6" name=""/>
            <p:cNvGrpSpPr/>
            <p:nvPr/>
          </p:nvGrpSpPr>
          <p:grpSpPr>
            <a:xfrm>
              <a:off x="4245840" y="1989000"/>
              <a:ext cx="1062360" cy="1799640"/>
              <a:chOff x="4245840" y="1989000"/>
              <a:chExt cx="1062360" cy="1799640"/>
            </a:xfrm>
          </p:grpSpPr>
          <p:sp>
            <p:nvSpPr>
              <p:cNvPr id="547" name=""/>
              <p:cNvSpPr/>
              <p:nvPr/>
            </p:nvSpPr>
            <p:spPr>
              <a:xfrm>
                <a:off x="4245840" y="2404440"/>
                <a:ext cx="1062360" cy="968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550040" y="3373560"/>
                <a:ext cx="453600" cy="4150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550040" y="1989000"/>
                <a:ext cx="453600" cy="415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"/>
            <p:cNvGrpSpPr/>
            <p:nvPr/>
          </p:nvGrpSpPr>
          <p:grpSpPr>
            <a:xfrm>
              <a:off x="5308920" y="1989000"/>
              <a:ext cx="1063080" cy="1799640"/>
              <a:chOff x="5308920" y="1989000"/>
              <a:chExt cx="1063080" cy="1799640"/>
            </a:xfrm>
          </p:grpSpPr>
          <p:sp>
            <p:nvSpPr>
              <p:cNvPr id="551" name=""/>
              <p:cNvSpPr/>
              <p:nvPr/>
            </p:nvSpPr>
            <p:spPr>
              <a:xfrm>
                <a:off x="5308920" y="2404440"/>
                <a:ext cx="1063080" cy="968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613480" y="3373560"/>
                <a:ext cx="453960" cy="4150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613480" y="1989000"/>
                <a:ext cx="453960" cy="415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4" name=""/>
            <p:cNvGrpSpPr/>
            <p:nvPr/>
          </p:nvGrpSpPr>
          <p:grpSpPr>
            <a:xfrm>
              <a:off x="6369120" y="1989000"/>
              <a:ext cx="1062360" cy="1799640"/>
              <a:chOff x="6369120" y="1989000"/>
              <a:chExt cx="1062360" cy="1799640"/>
            </a:xfrm>
          </p:grpSpPr>
          <p:sp>
            <p:nvSpPr>
              <p:cNvPr id="555" name=""/>
              <p:cNvSpPr/>
              <p:nvPr/>
            </p:nvSpPr>
            <p:spPr>
              <a:xfrm>
                <a:off x="6369120" y="2404440"/>
                <a:ext cx="1062360" cy="968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6673320" y="3373560"/>
                <a:ext cx="453600" cy="4150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673320" y="1989000"/>
                <a:ext cx="453600" cy="415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8" name=""/>
            <p:cNvSpPr/>
            <p:nvPr/>
          </p:nvSpPr>
          <p:spPr>
            <a:xfrm>
              <a:off x="2122560" y="2404440"/>
              <a:ext cx="1063080" cy="9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426400" y="3373200"/>
              <a:ext cx="454680" cy="415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881440" y="2820240"/>
              <a:ext cx="60516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881440" y="2957400"/>
              <a:ext cx="60516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2124000" y="4508640"/>
            <a:ext cx="49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ecules of C and H with C=C bonds are called alk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"/>
          <p:cNvGrpSpPr/>
          <p:nvPr/>
        </p:nvGrpSpPr>
        <p:grpSpPr>
          <a:xfrm>
            <a:off x="2122560" y="1989000"/>
            <a:ext cx="5761440" cy="1799640"/>
            <a:chOff x="2122560" y="1989000"/>
            <a:chExt cx="5761440" cy="1799640"/>
          </a:xfrm>
        </p:grpSpPr>
        <p:sp>
          <p:nvSpPr>
            <p:cNvPr id="564" name=""/>
            <p:cNvSpPr/>
            <p:nvPr/>
          </p:nvSpPr>
          <p:spPr>
            <a:xfrm>
              <a:off x="7429320" y="2682360"/>
              <a:ext cx="454680" cy="415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185640" y="2404440"/>
              <a:ext cx="1063080" cy="9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489840" y="3373200"/>
              <a:ext cx="454680" cy="415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426400" y="1989000"/>
              <a:ext cx="454680" cy="415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8" name=""/>
            <p:cNvGrpSpPr/>
            <p:nvPr/>
          </p:nvGrpSpPr>
          <p:grpSpPr>
            <a:xfrm>
              <a:off x="4245840" y="1989000"/>
              <a:ext cx="1062360" cy="1799640"/>
              <a:chOff x="4245840" y="1989000"/>
              <a:chExt cx="1062360" cy="1799640"/>
            </a:xfrm>
          </p:grpSpPr>
          <p:sp>
            <p:nvSpPr>
              <p:cNvPr id="569" name=""/>
              <p:cNvSpPr/>
              <p:nvPr/>
            </p:nvSpPr>
            <p:spPr>
              <a:xfrm>
                <a:off x="4245840" y="2404440"/>
                <a:ext cx="1062360" cy="968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4550040" y="3373560"/>
                <a:ext cx="453600" cy="4150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4550040" y="1989000"/>
                <a:ext cx="453600" cy="415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2" name=""/>
            <p:cNvGrpSpPr/>
            <p:nvPr/>
          </p:nvGrpSpPr>
          <p:grpSpPr>
            <a:xfrm>
              <a:off x="5308920" y="1989000"/>
              <a:ext cx="1063080" cy="1799640"/>
              <a:chOff x="5308920" y="1989000"/>
              <a:chExt cx="1063080" cy="1799640"/>
            </a:xfrm>
          </p:grpSpPr>
          <p:sp>
            <p:nvSpPr>
              <p:cNvPr id="573" name=""/>
              <p:cNvSpPr/>
              <p:nvPr/>
            </p:nvSpPr>
            <p:spPr>
              <a:xfrm>
                <a:off x="5308920" y="2404440"/>
                <a:ext cx="1063080" cy="968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613480" y="3373560"/>
                <a:ext cx="453960" cy="4150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613480" y="1989000"/>
                <a:ext cx="453960" cy="415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6" name=""/>
            <p:cNvGrpSpPr/>
            <p:nvPr/>
          </p:nvGrpSpPr>
          <p:grpSpPr>
            <a:xfrm>
              <a:off x="6369120" y="1989000"/>
              <a:ext cx="1062360" cy="1799640"/>
              <a:chOff x="6369120" y="1989000"/>
              <a:chExt cx="1062360" cy="1799640"/>
            </a:xfrm>
          </p:grpSpPr>
          <p:sp>
            <p:nvSpPr>
              <p:cNvPr id="577" name=""/>
              <p:cNvSpPr/>
              <p:nvPr/>
            </p:nvSpPr>
            <p:spPr>
              <a:xfrm>
                <a:off x="6369120" y="2404440"/>
                <a:ext cx="1062360" cy="968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673320" y="3373560"/>
                <a:ext cx="453600" cy="4150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673320" y="1989000"/>
                <a:ext cx="453600" cy="4154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0" name=""/>
            <p:cNvSpPr/>
            <p:nvPr/>
          </p:nvSpPr>
          <p:spPr>
            <a:xfrm>
              <a:off x="2122560" y="2404440"/>
              <a:ext cx="1063080" cy="9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426400" y="3373200"/>
              <a:ext cx="454680" cy="415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881440" y="2820240"/>
              <a:ext cx="60516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881440" y="2957400"/>
              <a:ext cx="60516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2411280" y="4005360"/>
            <a:ext cx="4969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ecules of C and H with C=C bonds are said to be unsaturated because they will react with hydrogen 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5" name=""/>
          <p:cNvGrpSpPr/>
          <p:nvPr/>
        </p:nvGrpSpPr>
        <p:grpSpPr>
          <a:xfrm>
            <a:off x="3492360" y="1557360"/>
            <a:ext cx="505080" cy="934920"/>
            <a:chOff x="3492360" y="1557360"/>
            <a:chExt cx="505080" cy="934920"/>
          </a:xfrm>
        </p:grpSpPr>
        <p:sp>
          <p:nvSpPr>
            <p:cNvPr id="586" name=""/>
            <p:cNvSpPr/>
            <p:nvPr/>
          </p:nvSpPr>
          <p:spPr>
            <a:xfrm>
              <a:off x="3492360" y="1773360"/>
              <a:ext cx="50508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637080" y="2276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637080" y="155736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3995640" y="1557360"/>
            <a:ext cx="505080" cy="934920"/>
            <a:chOff x="3995640" y="1557360"/>
            <a:chExt cx="505080" cy="934920"/>
          </a:xfrm>
        </p:grpSpPr>
        <p:sp>
          <p:nvSpPr>
            <p:cNvPr id="590" name=""/>
            <p:cNvSpPr/>
            <p:nvPr/>
          </p:nvSpPr>
          <p:spPr>
            <a:xfrm>
              <a:off x="3995640" y="1773360"/>
              <a:ext cx="50508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140360" y="2276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140360" y="155736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4500720" y="1557360"/>
            <a:ext cx="504720" cy="934920"/>
            <a:chOff x="4500720" y="1557360"/>
            <a:chExt cx="504720" cy="934920"/>
          </a:xfrm>
        </p:grpSpPr>
        <p:sp>
          <p:nvSpPr>
            <p:cNvPr id="594" name=""/>
            <p:cNvSpPr/>
            <p:nvPr/>
          </p:nvSpPr>
          <p:spPr>
            <a:xfrm>
              <a:off x="4500720" y="1773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645080" y="2276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645080" y="1557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5003640" y="1557360"/>
            <a:ext cx="505080" cy="934920"/>
            <a:chOff x="5003640" y="1557360"/>
            <a:chExt cx="505080" cy="934920"/>
          </a:xfrm>
        </p:grpSpPr>
        <p:sp>
          <p:nvSpPr>
            <p:cNvPr id="598" name=""/>
            <p:cNvSpPr/>
            <p:nvPr/>
          </p:nvSpPr>
          <p:spPr>
            <a:xfrm>
              <a:off x="5003640" y="1773360"/>
              <a:ext cx="50508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148360" y="2276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148360" y="155736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1476360" y="1557360"/>
            <a:ext cx="504720" cy="934920"/>
            <a:chOff x="1476360" y="1557360"/>
            <a:chExt cx="504720" cy="934920"/>
          </a:xfrm>
        </p:grpSpPr>
        <p:sp>
          <p:nvSpPr>
            <p:cNvPr id="602" name=""/>
            <p:cNvSpPr/>
            <p:nvPr/>
          </p:nvSpPr>
          <p:spPr>
            <a:xfrm>
              <a:off x="1476360" y="1773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620720" y="2276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620720" y="1557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1979640" y="1557360"/>
            <a:ext cx="504720" cy="934920"/>
            <a:chOff x="1979640" y="1557360"/>
            <a:chExt cx="504720" cy="934920"/>
          </a:xfrm>
        </p:grpSpPr>
        <p:sp>
          <p:nvSpPr>
            <p:cNvPr id="606" name=""/>
            <p:cNvSpPr/>
            <p:nvPr/>
          </p:nvSpPr>
          <p:spPr>
            <a:xfrm>
              <a:off x="1979640" y="1773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124000" y="2276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124000" y="1557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2484360" y="1557360"/>
            <a:ext cx="505080" cy="934920"/>
            <a:chOff x="2484360" y="1557360"/>
            <a:chExt cx="505080" cy="934920"/>
          </a:xfrm>
        </p:grpSpPr>
        <p:sp>
          <p:nvSpPr>
            <p:cNvPr id="610" name=""/>
            <p:cNvSpPr/>
            <p:nvPr/>
          </p:nvSpPr>
          <p:spPr>
            <a:xfrm>
              <a:off x="2484360" y="1773360"/>
              <a:ext cx="50508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629080" y="2276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629080" y="155736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2987640" y="1557360"/>
            <a:ext cx="504720" cy="934920"/>
            <a:chOff x="2987640" y="1557360"/>
            <a:chExt cx="504720" cy="934920"/>
          </a:xfrm>
        </p:grpSpPr>
        <p:sp>
          <p:nvSpPr>
            <p:cNvPr id="614" name=""/>
            <p:cNvSpPr/>
            <p:nvPr/>
          </p:nvSpPr>
          <p:spPr>
            <a:xfrm>
              <a:off x="2987640" y="1773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132000" y="2276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132000" y="1557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5508720" y="1557360"/>
            <a:ext cx="504720" cy="934920"/>
            <a:chOff x="5508720" y="1557360"/>
            <a:chExt cx="504720" cy="934920"/>
          </a:xfrm>
        </p:grpSpPr>
        <p:sp>
          <p:nvSpPr>
            <p:cNvPr id="618" name=""/>
            <p:cNvSpPr/>
            <p:nvPr/>
          </p:nvSpPr>
          <p:spPr>
            <a:xfrm>
              <a:off x="5508720" y="1773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653080" y="2276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653080" y="1557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6012000" y="1557360"/>
            <a:ext cx="504720" cy="934920"/>
            <a:chOff x="6012000" y="1557360"/>
            <a:chExt cx="504720" cy="934920"/>
          </a:xfrm>
        </p:grpSpPr>
        <p:sp>
          <p:nvSpPr>
            <p:cNvPr id="622" name=""/>
            <p:cNvSpPr/>
            <p:nvPr/>
          </p:nvSpPr>
          <p:spPr>
            <a:xfrm>
              <a:off x="6012000" y="1773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156360" y="2276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156360" y="1557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6516720" y="1557360"/>
            <a:ext cx="504720" cy="934920"/>
            <a:chOff x="6516720" y="1557360"/>
            <a:chExt cx="504720" cy="934920"/>
          </a:xfrm>
        </p:grpSpPr>
        <p:sp>
          <p:nvSpPr>
            <p:cNvPr id="626" name=""/>
            <p:cNvSpPr/>
            <p:nvPr/>
          </p:nvSpPr>
          <p:spPr>
            <a:xfrm>
              <a:off x="6516720" y="1773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661080" y="2276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661080" y="1557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9" name=""/>
          <p:cNvSpPr/>
          <p:nvPr/>
        </p:nvSpPr>
        <p:spPr>
          <a:xfrm>
            <a:off x="7020000" y="191772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258920" y="184464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979640" y="2924280"/>
            <a:ext cx="4968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ecules of C and H with no C=C bonds are said to be saturated because they will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act with hydrogen 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2" name=""/>
          <p:cNvGrpSpPr/>
          <p:nvPr/>
        </p:nvGrpSpPr>
        <p:grpSpPr>
          <a:xfrm>
            <a:off x="3492360" y="1557360"/>
            <a:ext cx="505080" cy="934920"/>
            <a:chOff x="3492360" y="1557360"/>
            <a:chExt cx="505080" cy="934920"/>
          </a:xfrm>
        </p:grpSpPr>
        <p:sp>
          <p:nvSpPr>
            <p:cNvPr id="633" name=""/>
            <p:cNvSpPr/>
            <p:nvPr/>
          </p:nvSpPr>
          <p:spPr>
            <a:xfrm>
              <a:off x="3492360" y="1773360"/>
              <a:ext cx="50508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637080" y="2276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637080" y="155736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3995640" y="1557360"/>
            <a:ext cx="505080" cy="934920"/>
            <a:chOff x="3995640" y="1557360"/>
            <a:chExt cx="505080" cy="934920"/>
          </a:xfrm>
        </p:grpSpPr>
        <p:sp>
          <p:nvSpPr>
            <p:cNvPr id="637" name=""/>
            <p:cNvSpPr/>
            <p:nvPr/>
          </p:nvSpPr>
          <p:spPr>
            <a:xfrm>
              <a:off x="3995640" y="1773360"/>
              <a:ext cx="50508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140360" y="2276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140360" y="155736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4500720" y="1557360"/>
            <a:ext cx="504720" cy="934920"/>
            <a:chOff x="4500720" y="1557360"/>
            <a:chExt cx="504720" cy="934920"/>
          </a:xfrm>
        </p:grpSpPr>
        <p:sp>
          <p:nvSpPr>
            <p:cNvPr id="641" name=""/>
            <p:cNvSpPr/>
            <p:nvPr/>
          </p:nvSpPr>
          <p:spPr>
            <a:xfrm>
              <a:off x="4500720" y="1773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645080" y="2276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645080" y="1557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5003640" y="1557360"/>
            <a:ext cx="505080" cy="934920"/>
            <a:chOff x="5003640" y="1557360"/>
            <a:chExt cx="505080" cy="934920"/>
          </a:xfrm>
        </p:grpSpPr>
        <p:sp>
          <p:nvSpPr>
            <p:cNvPr id="645" name=""/>
            <p:cNvSpPr/>
            <p:nvPr/>
          </p:nvSpPr>
          <p:spPr>
            <a:xfrm>
              <a:off x="5003640" y="1773360"/>
              <a:ext cx="50508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48360" y="2276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148360" y="155736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1476360" y="1557360"/>
            <a:ext cx="504720" cy="934920"/>
            <a:chOff x="1476360" y="1557360"/>
            <a:chExt cx="504720" cy="934920"/>
          </a:xfrm>
        </p:grpSpPr>
        <p:sp>
          <p:nvSpPr>
            <p:cNvPr id="649" name=""/>
            <p:cNvSpPr/>
            <p:nvPr/>
          </p:nvSpPr>
          <p:spPr>
            <a:xfrm>
              <a:off x="1476360" y="1773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620720" y="2276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620720" y="1557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1979640" y="1557360"/>
            <a:ext cx="504720" cy="934920"/>
            <a:chOff x="1979640" y="1557360"/>
            <a:chExt cx="504720" cy="934920"/>
          </a:xfrm>
        </p:grpSpPr>
        <p:sp>
          <p:nvSpPr>
            <p:cNvPr id="653" name=""/>
            <p:cNvSpPr/>
            <p:nvPr/>
          </p:nvSpPr>
          <p:spPr>
            <a:xfrm>
              <a:off x="1979640" y="1773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124000" y="2276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124000" y="1557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2484360" y="1557360"/>
            <a:ext cx="505080" cy="934920"/>
            <a:chOff x="2484360" y="1557360"/>
            <a:chExt cx="505080" cy="934920"/>
          </a:xfrm>
        </p:grpSpPr>
        <p:sp>
          <p:nvSpPr>
            <p:cNvPr id="657" name=""/>
            <p:cNvSpPr/>
            <p:nvPr/>
          </p:nvSpPr>
          <p:spPr>
            <a:xfrm>
              <a:off x="2484360" y="1773360"/>
              <a:ext cx="50508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629080" y="2276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629080" y="155736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2987640" y="1557360"/>
            <a:ext cx="504720" cy="934920"/>
            <a:chOff x="2987640" y="1557360"/>
            <a:chExt cx="504720" cy="934920"/>
          </a:xfrm>
        </p:grpSpPr>
        <p:sp>
          <p:nvSpPr>
            <p:cNvPr id="661" name=""/>
            <p:cNvSpPr/>
            <p:nvPr/>
          </p:nvSpPr>
          <p:spPr>
            <a:xfrm>
              <a:off x="2987640" y="1773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132000" y="2276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132000" y="1557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4" name=""/>
          <p:cNvGrpSpPr/>
          <p:nvPr/>
        </p:nvGrpSpPr>
        <p:grpSpPr>
          <a:xfrm>
            <a:off x="5508720" y="1557360"/>
            <a:ext cx="504720" cy="934920"/>
            <a:chOff x="5508720" y="1557360"/>
            <a:chExt cx="504720" cy="934920"/>
          </a:xfrm>
        </p:grpSpPr>
        <p:sp>
          <p:nvSpPr>
            <p:cNvPr id="665" name=""/>
            <p:cNvSpPr/>
            <p:nvPr/>
          </p:nvSpPr>
          <p:spPr>
            <a:xfrm>
              <a:off x="5508720" y="1773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653080" y="2276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653080" y="1557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6012000" y="1557360"/>
            <a:ext cx="504720" cy="934920"/>
            <a:chOff x="6012000" y="1557360"/>
            <a:chExt cx="504720" cy="934920"/>
          </a:xfrm>
        </p:grpSpPr>
        <p:sp>
          <p:nvSpPr>
            <p:cNvPr id="669" name=""/>
            <p:cNvSpPr/>
            <p:nvPr/>
          </p:nvSpPr>
          <p:spPr>
            <a:xfrm>
              <a:off x="6012000" y="1773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156360" y="2276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156360" y="1557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6516720" y="1557360"/>
            <a:ext cx="504720" cy="934920"/>
            <a:chOff x="6516720" y="1557360"/>
            <a:chExt cx="504720" cy="934920"/>
          </a:xfrm>
        </p:grpSpPr>
        <p:sp>
          <p:nvSpPr>
            <p:cNvPr id="673" name=""/>
            <p:cNvSpPr/>
            <p:nvPr/>
          </p:nvSpPr>
          <p:spPr>
            <a:xfrm>
              <a:off x="6516720" y="1773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661080" y="2276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661080" y="1557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6" name=""/>
          <p:cNvSpPr/>
          <p:nvPr/>
        </p:nvSpPr>
        <p:spPr>
          <a:xfrm>
            <a:off x="7020000" y="191772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1258920" y="184464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1979640" y="292428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kanes are satur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5362560" y="414972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348000" y="4005360"/>
            <a:ext cx="504720" cy="503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492360" y="4508640"/>
            <a:ext cx="21600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2987640" y="378936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3851280" y="3789360"/>
            <a:ext cx="504720" cy="934920"/>
            <a:chOff x="3851280" y="3789360"/>
            <a:chExt cx="504720" cy="934920"/>
          </a:xfrm>
        </p:grpSpPr>
        <p:sp>
          <p:nvSpPr>
            <p:cNvPr id="684" name=""/>
            <p:cNvSpPr/>
            <p:nvPr/>
          </p:nvSpPr>
          <p:spPr>
            <a:xfrm>
              <a:off x="3851280" y="4005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995640" y="4508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995640" y="3789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4356000" y="3789360"/>
            <a:ext cx="505080" cy="934920"/>
            <a:chOff x="4356000" y="3789360"/>
            <a:chExt cx="505080" cy="934920"/>
          </a:xfrm>
        </p:grpSpPr>
        <p:sp>
          <p:nvSpPr>
            <p:cNvPr id="688" name=""/>
            <p:cNvSpPr/>
            <p:nvPr/>
          </p:nvSpPr>
          <p:spPr>
            <a:xfrm>
              <a:off x="4356000" y="4005360"/>
              <a:ext cx="50508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500720" y="4508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500720" y="3789360"/>
              <a:ext cx="21564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1" name=""/>
          <p:cNvGrpSpPr/>
          <p:nvPr/>
        </p:nvGrpSpPr>
        <p:grpSpPr>
          <a:xfrm>
            <a:off x="4859280" y="3789360"/>
            <a:ext cx="504720" cy="934920"/>
            <a:chOff x="4859280" y="3789360"/>
            <a:chExt cx="504720" cy="934920"/>
          </a:xfrm>
        </p:grpSpPr>
        <p:sp>
          <p:nvSpPr>
            <p:cNvPr id="692" name=""/>
            <p:cNvSpPr/>
            <p:nvPr/>
          </p:nvSpPr>
          <p:spPr>
            <a:xfrm>
              <a:off x="4859280" y="4005360"/>
              <a:ext cx="504720" cy="50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003640" y="4508640"/>
              <a:ext cx="215280" cy="21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003640" y="3789360"/>
              <a:ext cx="215280" cy="21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2843280" y="4005360"/>
            <a:ext cx="504720" cy="503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987640" y="4508640"/>
            <a:ext cx="21600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203640" y="4221000"/>
            <a:ext cx="287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3640" y="4292640"/>
            <a:ext cx="287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1835280" y="501336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kenes are unsatur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0:27:05Z</dcterms:created>
  <dc:creator>Simon Norris</dc:creator>
  <dc:description/>
  <dc:language>en-US</dc:language>
  <cp:lastModifiedBy>Simon Norris</cp:lastModifiedBy>
  <dcterms:modified xsi:type="dcterms:W3CDTF">2010-01-07T16:25:18Z</dcterms:modified>
  <cp:revision>10</cp:revision>
  <dc:subject/>
  <dc:title>Slide 1</dc:title>
</cp:coreProperties>
</file>