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2CC7-2417-4BFD-B68C-C8A6F194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5A0-9077-41E6-B3BE-F42B8809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DD8-595E-4092-8C32-028D50ED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D79-2AE0-4CC2-AE18-D0B1F206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EBF4-DD18-41E1-A26F-CA061208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7BB-3C1F-492E-AB9C-A6C73544D241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3B3-8AC7-4036-99B5-7740D5488421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,000 = F /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1,000,000 N or 1,000 kN or 1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thin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 huge force.  It’s about the same as 1,000 fat people standing on the wall.  So why doesn’t the wall fall 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on the next sl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77724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CD43-18C5-46A2-9F1F-6FB3D5CFA5F0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that the wall doesn’t fall over is because there’s exactly the same force acting on the other side of the wall, so the two forces cancel ou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removed the force from the other side of the wall by removing the air (creating a vacuum) then the 1,000,000N force would knock the wall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B5D-7134-44EE-9972-1B27D0183F33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00 N/cm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5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5 / 10,000 = 0.000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500 / 0.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 = 1,000,000Pa or 1,0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25268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90D-0BB8-4953-B9D1-6DF5A8FDCEE4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essure Calculations – Mode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e - the pressure in both pistons is the same (see objective 5.5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= F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2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0 / 10,000 = 0.00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= F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000,000 = F / 0.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= 2,000N or 2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43400" cy="172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780080" y="798480"/>
            <a:ext cx="3944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47:22Z</dcterms:modified>
  <cp:revision>32</cp:revision>
  <dc:subject/>
  <dc:title>4C Work and Power</dc:title>
</cp:coreProperties>
</file>