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7EDF-4319-4C52-AAD2-CD0A49009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94AF-F6E5-4384-AF1A-617EB8BBC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EAD0-9AD8-4A11-AD3A-B00BB46E5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7238-DB47-4255-9D85-E5AE99F61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D46E-A18B-4D5F-8926-BFF5493DC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0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74D6-0522-4677-9E62-142C8414B3CA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1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CEEF-6671-4491-8C62-E4921CA76E93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1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essure Calculations – Mode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,000 = F /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 = 1,000,000 N or 1,000 kN or 1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thing to think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a huge force.  It’s about the same as 1,000 fat people standing on the wall.  So why doesn’t the wall fall o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 on the next sli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304920" y="912960"/>
            <a:ext cx="77724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CBE4-6BF7-439C-BFE8-8467605DA5F1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1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essure Calculations – Mode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a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ason that the wall doesn’t fall over is because there’s exactly the same force acting on the other side of the wall, so the two forces cancel ou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ou removed the force from the other side of the wall by removing the air (creating a vacuum) then the 1,000,000N force would knock the wall dow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C7D4-053C-43C5-93C7-19A22210BBC8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1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essure Calculations – Mode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. 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500 /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 = 100 N/cm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= 5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5 / 10,000 = 0.000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500 / 0.0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 = 1,000,000Pa or 1,000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252680" cy="1685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944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717F-EAC7-4B64-87AD-78FFFE007764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1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essure Calculations – Mode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e - the pressure in both pistons is the same (see objective 5.5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. 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 = F /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 = 2,000N or 2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= 2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0 / 10,000 = 0.002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000,000 = F / 0.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 = 2,000N or 2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43400" cy="172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780080" y="798480"/>
            <a:ext cx="3944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27T08:47:22Z</dcterms:modified>
  <cp:revision>32</cp:revision>
  <dc:subject/>
  <dc:title>4C Work and Power</dc:title>
</cp:coreProperties>
</file>