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4446-709E-4751-A25E-CC3644637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3881-A69D-4AB6-8B57-4BBB5AB5C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A142-5162-4E8C-BAD2-919A0D7F2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5F4B-3151-4747-A89E-203681152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AE4A-1002-4983-996B-E88B09F2A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0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90EA-DBCC-4BF9-A642-DE8F1E539906}" type="datetime3"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31. Juli 20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81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ate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315D-2289-4903-AC23-0192C407603B}" type="datetime3"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31. Juli 20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ressure Calculations – Model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 = F /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0,000 = F /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 = 1,000,000 N or 1,000 kN or 1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mething to think abo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is is a huge force.  It’s about the same as 1,000 fat people standing on the wall.  So why doesn’t the wall fall ov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 on the next slid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304920" y="912960"/>
            <a:ext cx="777240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F8CC-28F0-4CE6-A90B-FBD6EC56C2F8}" type="datetime3"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31. Juli 20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ressure Calculations – Model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lan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reason that the wall doesn’t fall over is because there’s exactly the same force acting on the other side of the wall, so the two forces cancel ou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ou removed the force from the other side of the wall by removing the air (creating a vacuum) then the 1,000,000N force would knock the wall dow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Date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72C7-BA12-4678-B0B3-385CD94E145E}" type="datetime3"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31. Juli 20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7631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ressure Calculations – Model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7. 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 = F /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 = 500 /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 = 100 N/cm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= 5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5 / 10,000 = 0.0005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 = F /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 = 500 / 0.0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 = 1,000,000Pa or 1,000 k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252680" cy="1685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2"/>
          <a:stretch/>
        </p:blipFill>
        <p:spPr>
          <a:xfrm>
            <a:off x="4572000" y="762120"/>
            <a:ext cx="394488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Date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2B59-3B0C-40D8-A7C7-5E3290B37EFA}" type="datetime3"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31. Juli 20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7631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ressure Calculations – Model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e - the pressure in both pistons is the same (see objective 5.5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7. 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 = F /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00 = F /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 = 2,000N or 2k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= 20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20 / 10,000 = 0.002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 = F /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,000,000 = F / 0.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 = 2,000N or 2k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43400" cy="1722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4780080" y="798480"/>
            <a:ext cx="394488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07:05:37Z</dcterms:created>
  <dc:creator>tempusers</dc:creator>
  <dc:description/>
  <dc:language>en-US</dc:language>
  <cp:lastModifiedBy>Matt Baker</cp:lastModifiedBy>
  <dcterms:modified xsi:type="dcterms:W3CDTF">2011-10-27T08:47:22Z</dcterms:modified>
  <cp:revision>32</cp:revision>
  <dc:subject/>
  <dc:title>4C Work and Power</dc:title>
</cp:coreProperties>
</file>