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BC82-6FCB-492D-8290-B82CBBFD9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0296-D9BB-4661-A5D8-F7AF69287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0BC7-CB96-4DBC-96BF-C6CA0256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8E17-D41C-4C55-B918-E8BCAB0F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AD87-B456-47F4-BAB9-F5A4CD70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D505-1472-44ED-A269-0AAE8371BD73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2308-5D6C-46F2-AD81-33BA2ABA9C5E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000 = F /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1,000,000 N or 1,000 kN or 1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to think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 huge force.  It’s about the same as 1,000 fat people standing on the wall.  So why doesn’t the wall fall 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 on the next sli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304920" y="912960"/>
            <a:ext cx="77724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176D-E4F8-4E89-8651-20EEF0D691C2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ason that the wall doesn’t fall over is because there’s exactly the same force acting on the other side of the wall, so the two forces cancel ou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removed the force from the other side of the wall by removing the air (creating a vacuum) then the 1,000,000N force would knock the wall d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71CD-8B2B-4B99-95EC-9687A9117B46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500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 = 100 N/cm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= 5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5 / 10,000 = 0.000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500 / 0.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 = 1,000,000Pa or 1,0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252680" cy="16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944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8011-052D-41FC-A39D-74ADE3A9C91A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e - the pressure in both pistons is the same (see objective 5.5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 = F /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2,000N or 2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= 2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0 / 10,000 = 0.002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000,000 = F / 0.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2,000N or 2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43400" cy="172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780080" y="798480"/>
            <a:ext cx="3944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27T08:47:22Z</dcterms:modified>
  <cp:revision>32</cp:revision>
  <dc:subject/>
  <dc:title>4C Work and Power</dc:title>
</cp:coreProperties>
</file>