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Click to edit the title text format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 u="sng">
                <a:solidFill>
                  <a:srgbClr val="660033"/>
                </a:solidFill>
                <a:uFillTx/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804E-1FA9-4C73-BE13-542047E4488A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00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ADCE-1A62-45A7-AB01-7365166164C4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048120" y="1371600"/>
            <a:ext cx="3047760" cy="762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4B1 Work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808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Wd = F x d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Wd = ____ ____ [ _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F = _____ [ _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d = ________ ______ __ ___ ________ 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__ ___ _____ [ _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_ _ _ = 1,000J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_ _ _ = </a:t>
            </a:r>
            <a:r>
              <a:rPr b="0" lang="en-GB" sz="3600" spc="-1" strike="noStrike">
                <a:solidFill>
                  <a:srgbClr val="660033"/>
                </a:solidFill>
                <a:latin typeface="Tahoma"/>
              </a:rPr>
              <a:t>1,000_ _ = 1,000,000J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21EA-D9F0-49E5-A09F-EE348D642E46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8120" y="1371600"/>
            <a:ext cx="3047760" cy="762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4B1 Work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808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Wd = F x d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Wd = Work Done [ J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F = Force [ N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d = distance moved in the direction of the 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force [ m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1kJ = 1,000J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1MJ = 1,000kJ = 1,000,000J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1A76-EDB0-4405-A59B-9E66FA1105FC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9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Work Calculation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How much work do you do going to bed?!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5105520" y="2819160"/>
            <a:ext cx="1676160" cy="1675800"/>
            <a:chOff x="5105520" y="2819160"/>
            <a:chExt cx="1676160" cy="1675800"/>
          </a:xfrm>
        </p:grpSpPr>
        <p:sp>
          <p:nvSpPr>
            <p:cNvPr id="56" name="Line 4"/>
            <p:cNvSpPr/>
            <p:nvPr/>
          </p:nvSpPr>
          <p:spPr>
            <a:xfrm flipV="1">
              <a:off x="5943600" y="323820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>
              <a:off x="5943600" y="323820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6362640" y="2819160"/>
              <a:ext cx="0" cy="418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7"/>
            <p:cNvSpPr/>
            <p:nvPr/>
          </p:nvSpPr>
          <p:spPr>
            <a:xfrm>
              <a:off x="6362640" y="281952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5105520" y="4076280"/>
              <a:ext cx="0" cy="418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5105520" y="407664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5524560" y="365760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5524560" y="365760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2"/>
          <p:cNvGrpSpPr/>
          <p:nvPr/>
        </p:nvGrpSpPr>
        <p:grpSpPr>
          <a:xfrm>
            <a:off x="5106240" y="4495680"/>
            <a:ext cx="1675800" cy="1676520"/>
            <a:chOff x="5106240" y="4495680"/>
            <a:chExt cx="1675800" cy="1676520"/>
          </a:xfrm>
        </p:grpSpPr>
        <p:sp>
          <p:nvSpPr>
            <p:cNvPr id="65" name="Line 23"/>
            <p:cNvSpPr/>
            <p:nvPr/>
          </p:nvSpPr>
          <p:spPr>
            <a:xfrm>
              <a:off x="5943960" y="533376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6363000" y="533376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>
              <a:off x="6363360" y="5753160"/>
              <a:ext cx="4186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>
              <a:off x="6781680" y="575316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>
              <a:off x="5106240" y="4495680"/>
              <a:ext cx="4186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>
              <a:off x="5524560" y="449568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5524560" y="491472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0"/>
            <p:cNvSpPr/>
            <p:nvPr/>
          </p:nvSpPr>
          <p:spPr>
            <a:xfrm>
              <a:off x="5943600" y="491472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31"/>
          <p:cNvSpPr/>
          <p:nvPr/>
        </p:nvSpPr>
        <p:spPr>
          <a:xfrm>
            <a:off x="6781680" y="6172200"/>
            <a:ext cx="1752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6781680" y="2819520"/>
            <a:ext cx="1752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7924680" y="548640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7924680" y="601992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7924680" y="54864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8305920" y="54864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>
            <a:off x="8001000" y="601992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8077320" y="601992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8153280" y="601992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8229600" y="601992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1"/>
          <p:cNvSpPr/>
          <p:nvPr/>
        </p:nvSpPr>
        <p:spPr>
          <a:xfrm>
            <a:off x="7877160" y="5519880"/>
            <a:ext cx="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3"/>
          <p:cNvSpPr/>
          <p:nvPr/>
        </p:nvSpPr>
        <p:spPr>
          <a:xfrm>
            <a:off x="7877160" y="5524560"/>
            <a:ext cx="42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4"/>
          <p:cNvSpPr/>
          <p:nvPr/>
        </p:nvSpPr>
        <p:spPr>
          <a:xfrm>
            <a:off x="7872480" y="5977080"/>
            <a:ext cx="42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5"/>
          <p:cNvSpPr/>
          <p:nvPr/>
        </p:nvSpPr>
        <p:spPr>
          <a:xfrm>
            <a:off x="7162920" y="2514600"/>
            <a:ext cx="10666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7162920" y="2666880"/>
            <a:ext cx="10666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7162920" y="251460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8"/>
          <p:cNvSpPr/>
          <p:nvPr/>
        </p:nvSpPr>
        <p:spPr>
          <a:xfrm>
            <a:off x="8229600" y="251460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9"/>
          <p:cNvSpPr/>
          <p:nvPr/>
        </p:nvSpPr>
        <p:spPr>
          <a:xfrm>
            <a:off x="7238880" y="2666880"/>
            <a:ext cx="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0"/>
          <p:cNvSpPr/>
          <p:nvPr/>
        </p:nvSpPr>
        <p:spPr>
          <a:xfrm>
            <a:off x="7315200" y="2666880"/>
            <a:ext cx="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1"/>
          <p:cNvSpPr/>
          <p:nvPr/>
        </p:nvSpPr>
        <p:spPr>
          <a:xfrm>
            <a:off x="8077320" y="2666880"/>
            <a:ext cx="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2"/>
          <p:cNvSpPr/>
          <p:nvPr/>
        </p:nvSpPr>
        <p:spPr>
          <a:xfrm>
            <a:off x="8153280" y="2666880"/>
            <a:ext cx="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6"/>
          <p:cNvSpPr/>
          <p:nvPr/>
        </p:nvSpPr>
        <p:spPr>
          <a:xfrm>
            <a:off x="7924680" y="2438280"/>
            <a:ext cx="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>
            <a:off x="8153280" y="2438280"/>
            <a:ext cx="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8"/>
          <p:cNvSpPr/>
          <p:nvPr/>
        </p:nvSpPr>
        <p:spPr>
          <a:xfrm>
            <a:off x="7924680" y="24382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0"/>
          <p:cNvSpPr/>
          <p:nvPr/>
        </p:nvSpPr>
        <p:spPr>
          <a:xfrm>
            <a:off x="7162920" y="2071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7772400" y="5029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2"/>
          <p:cNvSpPr/>
          <p:nvPr/>
        </p:nvSpPr>
        <p:spPr>
          <a:xfrm>
            <a:off x="4648320" y="27432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3"/>
          <p:cNvSpPr/>
          <p:nvPr/>
        </p:nvSpPr>
        <p:spPr>
          <a:xfrm>
            <a:off x="4800600" y="419112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4"/>
          <p:cNvSpPr/>
          <p:nvPr/>
        </p:nvSpPr>
        <p:spPr>
          <a:xfrm flipV="1">
            <a:off x="4800600" y="281952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5"/>
          <p:cNvSpPr/>
          <p:nvPr/>
        </p:nvSpPr>
        <p:spPr>
          <a:xfrm>
            <a:off x="63244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6"/>
          <p:cNvSpPr/>
          <p:nvPr/>
        </p:nvSpPr>
        <p:spPr>
          <a:xfrm>
            <a:off x="678168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7"/>
          <p:cNvSpPr/>
          <p:nvPr/>
        </p:nvSpPr>
        <p:spPr>
          <a:xfrm>
            <a:off x="6934320" y="6172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6324480" y="2438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510552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0"/>
          <p:cNvSpPr/>
          <p:nvPr/>
        </p:nvSpPr>
        <p:spPr>
          <a:xfrm>
            <a:off x="5029200" y="31082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1"/>
          <p:cNvSpPr/>
          <p:nvPr/>
        </p:nvSpPr>
        <p:spPr>
          <a:xfrm>
            <a:off x="3962520" y="4175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2"/>
          <p:cNvSpPr/>
          <p:nvPr/>
        </p:nvSpPr>
        <p:spPr>
          <a:xfrm>
            <a:off x="380880" y="1805040"/>
            <a:ext cx="69343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50 x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 = 500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d = F x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d = 500 x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d = 2000J or 2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4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5"/>
          <p:cNvSpPr/>
          <p:nvPr/>
        </p:nvSpPr>
        <p:spPr>
          <a:xfrm flipH="1">
            <a:off x="7238880" y="5943600"/>
            <a:ext cx="15264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6"/>
          <p:cNvSpPr/>
          <p:nvPr/>
        </p:nvSpPr>
        <p:spPr>
          <a:xfrm>
            <a:off x="7391520" y="5943600"/>
            <a:ext cx="15228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7"/>
          <p:cNvSpPr/>
          <p:nvPr/>
        </p:nvSpPr>
        <p:spPr>
          <a:xfrm>
            <a:off x="7391520" y="5638680"/>
            <a:ext cx="15228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 flipH="1">
            <a:off x="7238880" y="5638680"/>
            <a:ext cx="15264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0"/>
          <p:cNvSpPr/>
          <p:nvPr/>
        </p:nvSpPr>
        <p:spPr>
          <a:xfrm>
            <a:off x="7277040" y="5410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6"/>
          <p:cNvSpPr/>
          <p:nvPr/>
        </p:nvSpPr>
        <p:spPr>
          <a:xfrm>
            <a:off x="6400800" y="4724280"/>
            <a:ext cx="990720" cy="762120"/>
          </a:xfrm>
          <a:prstGeom prst="wedgeRoundRectCallout">
            <a:avLst>
              <a:gd name="adj1" fmla="val 48555"/>
              <a:gd name="adj2" fmla="val 62708"/>
              <a:gd name="adj3" fmla="val 16667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mass is 50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6:08Z</dcterms:created>
  <dc:creator>tempusers</dc:creator>
  <dc:description/>
  <dc:language>en-US</dc:language>
  <cp:lastModifiedBy>maba</cp:lastModifiedBy>
  <dcterms:modified xsi:type="dcterms:W3CDTF">2011-08-19T09:16:20Z</dcterms:modified>
  <cp:revision>38</cp:revision>
  <dc:subject/>
  <dc:title>Objectives – Work and Power</dc:title>
</cp:coreProperties>
</file>