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6240-DA11-4BAC-9430-61F75F60F9DD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5CDE-053B-4281-B074-183DC6305C66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nuits wear snow sho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w shoes spread the same weight (this is the “F” in the p=F/A formula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on the sn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Inuit doesn’t sink into the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FE61-AE4D-4995-8E27-1351009FC13A}" type="datetime3"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30.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 style written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ractors have big tyres? (3 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tyres spread the same weight (this is the “F” in the p=F/A formula)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a larger surface are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re is less pressure under the ty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 tractor doesn’t sink into the m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need to mention p, F and A in answer to score all 3 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27T08:51:53Z</dcterms:modified>
  <cp:revision>32</cp:revision>
  <dc:subject/>
  <dc:title>4C Work and Power</dc:title>
</cp:coreProperties>
</file>