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0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4B07-6687-42E5-ADB3-8C13CE839BC2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1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C06F-B68E-4A8C-9AA8-37EB94F942AF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1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 style written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Inuits wear snow shoes? (3 ma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now shoes spread the same weight (this is the “F” in the p=F/A formula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 a larger surface are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there is less pressure on the snow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the Inuit doesn’t sink into the s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: need to mention p, F and A in answer to score all 3 ma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0F4C-4883-42D4-885E-C1DDD79C3413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1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 style written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tractors have big tyres? (3 ma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g tyres spread the same weight (this is the “F” in the p=F/A formula)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 a larger surface are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there is less pressure under the ty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the tractor doesn’t sink into the m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: need to mention p, F and A in answer to score all 3 ma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05:37Z</dcterms:created>
  <dc:creator>tempusers</dc:creator>
  <dc:description/>
  <dc:language>en-US</dc:language>
  <cp:lastModifiedBy>Matt Baker</cp:lastModifiedBy>
  <dcterms:modified xsi:type="dcterms:W3CDTF">2011-10-27T08:51:53Z</dcterms:modified>
  <cp:revision>32</cp:revision>
  <dc:subject/>
  <dc:title>4C Work and Power</dc:title>
</cp:coreProperties>
</file>