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6F48-9A05-4E6E-A6E3-5D12ED50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1870-9EC1-40E3-8B19-289FC2A7C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85EE-5E2C-473A-B00F-7A5D2697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346-767A-44CB-9DA9-14E8B199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438-9EAF-4C2C-B840-27CE81C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EFA-5A7D-4634-A825-A98264E4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20D-F3D6-4C5A-B639-12BF5941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F18-ACC9-4661-875B-09FAB0D9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DE2-6DB1-4B09-ACD4-14387F5C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CD5-44E3-4BE4-890D-AF201327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FB1-5B72-4E58-AD73-491F5E0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C53-EB29-4A94-BA82-1336FD5D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359-42D1-4EA8-90F4-FA9FFABE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7E1-2504-432A-9730-E37E1CBD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557-AF41-497B-9706-E0468D8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2BDE-EC96-4117-A191-3ABCD26B8A34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7DAD-8B30-4E03-8461-D5BE5B86E305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2895-A2A1-40F8-89EE-60567435F420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66"/>
                </a:solidFill>
                <a:uFillTx/>
                <a:latin typeface="Tahoma"/>
                <a:ea typeface="Times New Roman"/>
              </a:rPr>
              <a:t>Dens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819520" y="739800"/>
            <a:ext cx="3200400" cy="76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ρ = m /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8600" y="2133720"/>
            <a:ext cx="8686800" cy="4443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ρ = _________ [ _ _ / _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_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or [ _ / _ _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_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m = ______  [ _ _ ] or [ _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V = ________ [ _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_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or [ _ _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_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ρ = ___ (greek let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kg = _____ g; 1m = ____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= ___________ c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; 1g/c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= _____ kg/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BBCB-E95B-43AB-9853-859F4CDFEE43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66"/>
                </a:solidFill>
                <a:uFillTx/>
                <a:latin typeface="Tahoma"/>
                <a:ea typeface="Times New Roman"/>
              </a:rPr>
              <a:t>Dens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819520" y="739800"/>
            <a:ext cx="3200400" cy="76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ρ = m /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28600" y="2133720"/>
            <a:ext cx="8686800" cy="4443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ρ = density [kg/m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or [g/cm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m = mass [kg] or [g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V = volume [m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or [cm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ρ = rho (greek let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kg = 1000g; 1m = 100cm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= 1,000,000c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; 1g/c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= 1000kg/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04T06:43:16Z</dcterms:modified>
  <cp:revision>23</cp:revision>
  <dc:subject/>
  <dc:title>4C Work and Power</dc:title>
</cp:coreProperties>
</file>