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C599-216A-4535-96A5-065B62DBC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F100-A3F0-4FDA-8F6D-BC978E533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37F4-A57F-46CE-A5E6-DA6DB7B51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2D2-84D5-463A-9EBE-6EF2C20A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E78-E43A-4BF8-8225-0D5425AA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6D7-3146-42B6-ADD6-A218299C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260-6FC5-456A-9FAC-49E4EBB2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76E-405C-4E00-9A28-A9EAE572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6DC-2A9D-4ADB-8E2A-6D7AA500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B74-27D5-476C-ABE8-6F7A0AAF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D47-3299-46E8-AD5D-0F2E1EB6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923-31C2-48EF-90CC-BD2F64F2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4186-A024-424D-866D-3632E442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00F-B933-4501-84F7-9F9F575A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FA7-DF00-4766-AB10-523B70B3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2ECE-EDE6-4A5E-81A1-5341409F15AE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56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19E2-3BF7-4ED9-9610-FEB17C24B1F7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1843-FD31-4589-ACCF-D11C46258882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66"/>
                </a:solidFill>
                <a:uFillTx/>
                <a:latin typeface="Tahoma"/>
                <a:ea typeface="Times New Roman"/>
              </a:rPr>
              <a:t>Dens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819520" y="739800"/>
            <a:ext cx="3200400" cy="764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ρ = m /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28600" y="2133720"/>
            <a:ext cx="8686800" cy="44434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ρ = _________ [ _ _ / _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_ 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 or [ _ / _ _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_ 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m = ______  [ _ _ ] or [ _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V = ________ [ _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_ 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 or [ _ _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_ 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ρ = ___ (greek let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kg = _____ g; 1m = ____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= ___________ c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; 1g/c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= _____ kg/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4F44-37E3-4B56-95B0-4742CEB1ABC8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66"/>
                </a:solidFill>
                <a:uFillTx/>
                <a:latin typeface="Tahoma"/>
                <a:ea typeface="Times New Roman"/>
              </a:rPr>
              <a:t>Dens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819520" y="739800"/>
            <a:ext cx="3200400" cy="764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ρ = m /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28600" y="2133720"/>
            <a:ext cx="8686800" cy="44434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ρ = density [kg/m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 or [g/cm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m = mass [kg] or [g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V = volume [m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 or [cm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ρ = rho (greek let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kg = 1000g; 1m = 100cm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= 1,000,000c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; 1g/c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= 1000kg/m</a:t>
            </a:r>
            <a:r>
              <a:rPr b="0" lang="en-US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04T06:43:16Z</dcterms:modified>
  <cp:revision>23</cp:revision>
  <dc:subject/>
  <dc:title>4C Work and Power</dc:title>
</cp:coreProperties>
</file>