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2FD4-D73C-4EEC-968C-57DA2A47C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2CE4-363B-4701-B903-15C178299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11EF-5A20-42D8-BD21-891AA869C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ECAC-B608-49DE-8E00-E3AF1E161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0FB1-A697-4B7A-BE84-CFC56A7BF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2BD-741E-45B3-96EC-5CC79CEF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A86-C3F7-472E-ACEB-0244BF01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E241-7D6D-46ED-BF84-1F229A46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E671-B24C-4A00-AEEF-B0D3E0B2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CA5D-B5D4-40D8-9A51-F68D206A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7C8-087B-44BB-AD4B-FF37B7DE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1A1-CEDE-4DD1-BD3B-A81E834D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6FE-2036-4325-BAD2-F6B546FE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E93-93D3-4720-8C1B-74413528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5F8F-BF2B-4345-8D6F-E0274177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4254-2815-46D4-9FE5-8AADD8C4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A57-2149-4441-B63F-3E6DDCC7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56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F778-BF39-4E3F-AAB8-E8148F7FC45F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856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8C10-02CC-4DC8-9B69-11F9E03C8B6B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6451-399C-4E7D-9C82-38CD47615A8A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280" y="2286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Density of a regular sol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 mass using a bal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 width, length and height using a ru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e volume ( V = w x l x h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e density ( ρ = m / V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= ______ 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 = ______ cm; l = ______ cm; h = ______ c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= w x l x h = ___ x ___ x ___ = _____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ρ = m / V = ___ / ___ = _____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E55E-D6DB-4D4D-9DDE-0C77C6E62AEE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767040" y="457200"/>
            <a:ext cx="1609920" cy="5943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0823-C75D-41D5-AEB6-DE65291975E6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280" y="22860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Density of a liqu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 mass of empty measuring cylinder using a bal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 mass of liquid and measuring cyli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ubtract 1 from 2 to calculate the mass of the liqu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 volume of liquid by using the measuring cylinder (Note: measure to the bottom of the menisc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e density ( ρ = m / V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cylin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 ______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cylinder+liqu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 ______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liqui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cylinder+liqui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–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cylind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 ____ - ____ = ____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 = ______ ml = _____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ρ = m / V = ___ / ___ = _____ g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E7D4-C532-436A-A448-00649F33AA5B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 now you’ve measured the density of water and oil, predict whether oil will float or sink in 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about wood in wat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about aluminium in wat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about steel in mercu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39BC-E818-4A66-8225-CD7FE2379365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2286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Density of an irregular sol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 mass using a bal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 volume by using the “displacement” method (submerge solid in a “Eureka” can and collect the overflow in a measuring cylind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e density ( ρ = m / V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= ______ 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= _____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ρ = m / V = ___ / ___ = _____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0-04T06:46:24Z</dcterms:modified>
  <cp:revision>23</cp:revision>
  <dc:subject/>
  <dc:title>4C Work and Power</dc:title>
</cp:coreProperties>
</file>