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15728-3B55-419C-A1E2-01345A382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C2866-D239-41D4-B11B-AED1D9174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415B8-0AAE-4CDC-BE63-D7DDF81B2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AF203-3B73-4841-B8CF-CD06C2C17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3A691-C5B0-4562-8822-B7D13E815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8BF3-45B2-46A5-82A8-5572818FC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51E1-DBDF-4C4F-8FBC-41DF97AF4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7170-C602-4497-9B73-89799654E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A233-7458-4000-AE8F-26D26B545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9362-BEAE-42A8-B603-9DFDA078A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1EE6-E10B-43B0-A6CF-D4B31FE02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168B-BEA2-407E-8419-EF53DCE42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46E5-1FB5-46C6-B812-B63D75B7A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0BA8-4501-4FC9-A659-4A4F3C76F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8F15-31DB-49D7-8F7E-B663A516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45F1-A527-4C67-B7D1-7B89CE95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64C1-6B79-4159-99CA-59309B62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09920" y="568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F641E-535F-4499-A82A-DCD645EA207C}" type="datetime">
              <a:rPr b="1" lang="en-GB" sz="1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31/07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248160" y="65336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Tahoma"/>
              </a:rPr>
              <a:t>MBA 12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85640" y="60195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05F49-185A-43F4-8EA5-3578C6BF21C2}" type="slidenum">
              <a:rPr b="0" lang="en-GB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7010280" y="572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D1845-EB63-4E3B-A100-A0296D5E8D9B}" type="datetime">
              <a:rPr b="1" lang="en-GB" sz="1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31/07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624852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Tahoma"/>
              </a:rPr>
              <a:t>MBA 12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52280" y="228600"/>
            <a:ext cx="87631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Density of a regular sol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Meth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asure mass using a bal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asure width, length and height using a ru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lculate volume ( V = w x l x h 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lculate density ( ρ = m / V 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= ______ 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 = ______ cm; l = ______ cm; h = ______ c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 = w x l x h = ___ x ___ x ___ = _____ 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ρ = m / V = ___ / ___ = _____ g/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Date Placeholder 3"/>
          <p:cNvSpPr/>
          <p:nvPr/>
        </p:nvSpPr>
        <p:spPr>
          <a:xfrm>
            <a:off x="7010280" y="572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946FC-8099-48B0-A366-CD64D018D959}" type="datetime">
              <a:rPr b="1" lang="en-GB" sz="1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31/07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4"/>
          <p:cNvSpPr/>
          <p:nvPr/>
        </p:nvSpPr>
        <p:spPr>
          <a:xfrm>
            <a:off x="624852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Tahoma"/>
              </a:rPr>
              <a:t>MBA 12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3767040" y="457200"/>
            <a:ext cx="1609920" cy="59436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Date Placeholder 3"/>
          <p:cNvSpPr/>
          <p:nvPr/>
        </p:nvSpPr>
        <p:spPr>
          <a:xfrm>
            <a:off x="7010280" y="572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C27A9-0A44-4FE4-A49E-B999FFA7332A}" type="datetime">
              <a:rPr b="1" lang="en-GB" sz="1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31/07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ooter Placeholder 4"/>
          <p:cNvSpPr/>
          <p:nvPr/>
        </p:nvSpPr>
        <p:spPr>
          <a:xfrm>
            <a:off x="624852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Tahoma"/>
              </a:rPr>
              <a:t>MBA 12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52280" y="228600"/>
            <a:ext cx="876312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Density of a liqu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easure mass of empty measuring cylinder using a bal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easure mass of liquid and measuring cyli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ubtract 1 from 2 to calculate the mass of the liqu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easure volume of liquid by using the measuring cylinder (Note: measure to the bottom of the meniscu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lculate density ( ρ = m / V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cylind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= ______ 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cylinder+liqui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= ______ 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liqui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=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cylinder+liqui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–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cylinde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= ____ - ____ = ____ 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 = ______ ml = _____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ρ = m / V = ___ / ___ = _____ g/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3"/>
          <p:cNvSpPr/>
          <p:nvPr/>
        </p:nvSpPr>
        <p:spPr>
          <a:xfrm>
            <a:off x="7010280" y="572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5B1FA-EFA7-47B3-84C9-A377183E2FE3}" type="datetime">
              <a:rPr b="1" lang="en-GB" sz="1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31/07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4"/>
          <p:cNvSpPr/>
          <p:nvPr/>
        </p:nvSpPr>
        <p:spPr>
          <a:xfrm>
            <a:off x="624852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Tahoma"/>
              </a:rPr>
              <a:t>MBA 12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280" y="1066680"/>
            <a:ext cx="876312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 now you’ve measured the density of water and oil, predict whether oil will float or sink in wa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about wood in wat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about aluminium in wat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about steel in mercur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Date Placeholder 3"/>
          <p:cNvSpPr/>
          <p:nvPr/>
        </p:nvSpPr>
        <p:spPr>
          <a:xfrm>
            <a:off x="7010280" y="572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BC75B-5DD5-4314-A208-DBF248CB7E2F}" type="datetime">
              <a:rPr b="1" lang="en-GB" sz="1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31/07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624852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Tahoma"/>
              </a:rPr>
              <a:t>MBA 12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228600"/>
            <a:ext cx="87631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Density of an irregular sol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Meth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asure mass using a bal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asure volume by using the “displacement” method (submerge solid in a “Eureka” can and collect the overflow in a measuring cylind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lculate density ( ρ = m / V 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= ______ 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 = _____ 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ρ = m / V = ___ / ___ = _____ g/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8T07:05:37Z</dcterms:created>
  <dc:creator>tempusers</dc:creator>
  <dc:description/>
  <dc:language>en-US</dc:language>
  <cp:lastModifiedBy>Matt Baker</cp:lastModifiedBy>
  <dcterms:modified xsi:type="dcterms:W3CDTF">2011-10-04T06:46:24Z</dcterms:modified>
  <cp:revision>23</cp:revision>
  <dc:subject/>
  <dc:title>4C Work and Power</dc:title>
</cp:coreProperties>
</file>