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966-FB86-4A98-8E84-13E300C0F0C1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98EE-D6DA-40F3-AB4F-D946682F9E24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nuits wear snow sho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ow shoes spread the same weight (this is the “F” in the p=F/A formula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on the sn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Inuit doesn’t sink into the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38C-9925-4F62-AA01-F90B3A1BA8AF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ractors have big tyr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tyres spread the same weight (this is the “F” in the p=F/A formula)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under the ty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tractor doesn’t sink into the m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51:53Z</dcterms:modified>
  <cp:revision>32</cp:revision>
  <dc:subject/>
  <dc:title>4C Work and Power</dc:title>
</cp:coreProperties>
</file>