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C5A1-0A86-4C34-9E93-0AB33124608E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4802-1BB6-4813-A2CA-F3FC5A172A05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 style written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Inuits wear snow shoes? (3 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ow shoes spread the same weight (this is the “F” in the p=F/A formula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a larger surface are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re is less pressure on the sno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 Inuit doesn’t sink into the s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 need to mention p, F and A in answer to score all 3 m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789D-7923-4C8F-A2B2-F73243B23E3F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 style written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ractors have big tyres? (3 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 tyres spread the same weight (this is the “F” in the p=F/A formula)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a larger surface are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re is less pressure under the ty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 tractor doesn’t sink into the m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 need to mention p, F and A in answer to score all 3 m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27T08:51:53Z</dcterms:modified>
  <cp:revision>32</cp:revision>
  <dc:subject/>
  <dc:title>4C Work and Power</dc:title>
</cp:coreProperties>
</file>