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36D-BB92-42CD-AF7C-18ED677D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86D-E0FE-425C-B127-BD72077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244-A063-4832-A0BE-097BB1B8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AD9-A8A1-4E59-BF64-AC90D28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8F4-007A-4EF0-B27E-DF3EB253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73B-E598-44DB-9C04-EBDE6FC3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9A9-7754-4446-B8CF-09A297F2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F84-EE7B-4446-A031-C0E6146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FB8-9C70-462F-81FC-CB5494F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E92-B44F-4FCC-B9D8-A5DB24B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B9C-07DD-4732-AA24-F64D2075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A4F-0630-489E-A634-ABBE385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A4C6-A264-48CD-BF8A-1ADFAEB5F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349360"/>
            <a:ext cx="1152360" cy="2303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303640"/>
              <a:gd name="textAreaBottom" fmla="*/ 2247480 h 230364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276640"/>
            <a:ext cx="1873440" cy="2447640"/>
          </a:xfrm>
          <a:custGeom>
            <a:avLst/>
            <a:gdLst>
              <a:gd name="textAreaLeft" fmla="*/ 91440 w 1873440"/>
              <a:gd name="textAreaRight" fmla="*/ 1782000 w 1873440"/>
              <a:gd name="textAreaTop" fmla="*/ 91440 h 2447640"/>
              <a:gd name="textAreaBottom" fmla="*/ 2356200 h 2447640"/>
            </a:gdLst>
            <a:ahLst/>
            <a:rect l="textAreaLeft" t="textAreaTop" r="textAreaRight" b="textAreaBottom"/>
            <a:pathLst>
              <a:path w="21600" h="28219">
                <a:moveTo>
                  <a:pt x="3600" y="0"/>
                </a:moveTo>
                <a:arcTo wR="3600" hR="3600" stAng="16200000" swAng="-5400000"/>
                <a:lnTo>
                  <a:pt x="0" y="24619"/>
                </a:lnTo>
                <a:arcTo wR="3600" hR="3600" stAng="10800000" swAng="-5400000"/>
                <a:lnTo>
                  <a:pt x="18000" y="28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205000"/>
            <a:ext cx="2592360" cy="266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664000"/>
              <a:gd name="textAreaBottom" fmla="*/ 2537640 h 266400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635280" y="1268640"/>
            <a:ext cx="1224000" cy="792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765000"/>
            <a:ext cx="64908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55280" y="2852640"/>
            <a:ext cx="647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491640" y="476280"/>
            <a:ext cx="358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907920"/>
            <a:ext cx="432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587280" y="549360"/>
            <a:ext cx="360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553400">
            <a:off x="4421160" y="2039400"/>
            <a:ext cx="289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53400">
            <a:off x="3131640" y="4653000"/>
            <a:ext cx="216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1916280"/>
            <a:ext cx="936720" cy="273672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2736720"/>
              <a:gd name="textAreaBottom" fmla="*/ 2691000 h 2736720"/>
            </a:gdLst>
            <a:ahLst/>
            <a:rect l="textAreaLeft" t="textAreaTop" r="textAreaRight" b="textAreaBottom"/>
            <a:pathLst>
              <a:path w="21600" h="63091">
                <a:moveTo>
                  <a:pt x="3600" y="0"/>
                </a:moveTo>
                <a:arcTo wR="3600" hR="3600" stAng="16200000" swAng="-5400000"/>
                <a:lnTo>
                  <a:pt x="0" y="59491"/>
                </a:lnTo>
                <a:arcTo wR="3600" hR="3600" stAng="10800000" swAng="-5400000"/>
                <a:lnTo>
                  <a:pt x="18000" y="63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13000"/>
            <a:ext cx="14400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661000"/>
            <a:ext cx="43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276640"/>
            <a:ext cx="50508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70828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306864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42900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378936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14972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348000" y="220464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472200">
            <a:off x="4140360" y="2277720"/>
            <a:ext cx="43164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808360" y="2168280"/>
            <a:ext cx="360360" cy="14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3239280" y="4689720"/>
            <a:ext cx="36036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270828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213000"/>
            <a:ext cx="142920" cy="144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371628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36572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2852640"/>
            <a:ext cx="142920" cy="144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479736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981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1700280"/>
            <a:ext cx="14256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227664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2637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306864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645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8000" y="335772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267200">
            <a:off x="4430520" y="1844280"/>
            <a:ext cx="45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414200">
            <a:off x="3854520" y="148356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m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290000">
            <a:off x="3853440" y="10522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takkevol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317600">
            <a:off x="4141800" y="69156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Ørnd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352400">
            <a:off x="4645080" y="321264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to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359000">
            <a:off x="4646520" y="35730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ol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369800">
            <a:off x="4644360" y="38602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ndka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628400">
            <a:off x="4645440" y="2420640"/>
            <a:ext cx="83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jørnst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771200">
            <a:off x="4645440" y="278100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Kræmerby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9459200">
            <a:off x="2845080" y="1699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yplas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308000">
            <a:off x="1104120" y="274176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øysletta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414200">
            <a:off x="5568840" y="33901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ndbye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9414200">
            <a:off x="5654520" y="29239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yram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544400">
            <a:off x="5581800" y="20602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467600">
            <a:off x="3421080" y="42210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Fager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411800">
            <a:off x="3349800" y="35730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Åsgå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596600">
            <a:off x="3279240" y="2565000"/>
            <a:ext cx="64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Worki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349360"/>
            <a:ext cx="142920" cy="144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634400">
            <a:off x="4598640" y="200304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Botanisk 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Nordmus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548600">
            <a:off x="5654880" y="494136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olligå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544400">
            <a:off x="5582880" y="24210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masj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308000">
            <a:off x="1045440" y="328392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øysletta 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308000">
            <a:off x="1333800" y="349992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torel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308000">
            <a:off x="2197440" y="4436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åkøya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08000">
            <a:off x="1334520" y="23490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lettael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459200">
            <a:off x="3278520" y="184428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åp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411800">
            <a:off x="3350160" y="314136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Norrø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35772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479736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378936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308000">
            <a:off x="2557440" y="44366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åkøya 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73408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308000">
            <a:off x="1260360" y="5805000"/>
            <a:ext cx="79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åkøybot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kianleg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308000">
            <a:off x="1261080" y="479700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dkjo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79640" y="4508640"/>
            <a:ext cx="0" cy="122544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580000" y="907560"/>
            <a:ext cx="0" cy="1514520"/>
          </a:xfrm>
          <a:prstGeom prst="line">
            <a:avLst/>
          </a:prstGeom>
          <a:ln w="3168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765000"/>
            <a:ext cx="142920" cy="144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177336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544400">
            <a:off x="5654160" y="14839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kjel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544400">
            <a:off x="5654160" y="119664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Mov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413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544400">
            <a:off x="5580360" y="404640"/>
            <a:ext cx="98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Tønsnes hav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400536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414200">
            <a:off x="5581440" y="364464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ndbyen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383640" y="10166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981000"/>
            <a:ext cx="57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1268280"/>
            <a:ext cx="57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341360"/>
            <a:ext cx="142560" cy="144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981000"/>
            <a:ext cx="144360" cy="14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194000">
            <a:off x="2846160" y="11962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278136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270828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7383600" y="22762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Ramfj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508640"/>
            <a:ext cx="14400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437000"/>
            <a:ext cx="142920" cy="144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437000"/>
            <a:ext cx="142920" cy="14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308000">
            <a:off x="471240" y="414936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ldfj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4653000"/>
            <a:ext cx="935280" cy="93672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936720"/>
              <a:gd name="textAreaBottom" fmla="*/ 891360 h 936720"/>
            </a:gdLst>
            <a:ahLst/>
            <a:rect l="textAreaLeft" t="textAreaTop" r="textAreaRight" b="textAreaBottom"/>
            <a:pathLst>
              <a:path w="21600" h="21633">
                <a:moveTo>
                  <a:pt x="3600" y="0"/>
                </a:moveTo>
                <a:arcTo wR="3600" hR="3600" stAng="16200000" swAng="-5400000"/>
                <a:lnTo>
                  <a:pt x="0" y="18033"/>
                </a:lnTo>
                <a:arcTo wR="3600" hR="3600" stAng="10800000" swAng="-5400000"/>
                <a:lnTo>
                  <a:pt x="18000" y="216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316400">
            <a:off x="4500720" y="4652640"/>
            <a:ext cx="266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537372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00640"/>
            <a:ext cx="10796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5300640"/>
            <a:ext cx="144360" cy="14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7810560" y="5304960"/>
            <a:ext cx="15235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00"/>
                </a:solidFill>
                <a:latin typeface="Arial"/>
              </a:rPr>
              <a:t>PodCar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10:35:40Z</dcterms:created>
  <dc:creator>msk0506unn</dc:creator>
  <dc:description/>
  <dc:language>en-US</dc:language>
  <cp:lastModifiedBy>msk0506unn</cp:lastModifiedBy>
  <dcterms:modified xsi:type="dcterms:W3CDTF">2010-07-08T13:47:01Z</dcterms:modified>
  <cp:revision>9</cp:revision>
  <dc:subject/>
  <dc:title>Lysbilde 1</dc:title>
</cp:coreProperties>
</file>