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91C-D0CC-499A-86B1-6A071FD5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327-4145-4B24-8B62-23F4F052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A5C-2F2D-409A-BA27-0AD10CCF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2C2-ECBB-4139-99B4-1033D763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007-7E10-4C28-B8CC-DF9104AD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ED7-22AB-43CE-942B-BACE5462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430-B17F-4D3D-BF3B-D8A2E510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000-1888-43F3-B493-AF1CC1CA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363-0E12-457E-9F0E-EE42DD1D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4EA-78A1-4930-8720-8CFECC8B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8D4-4149-4D6F-BCB6-60C18124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85E-C63B-499C-A835-05D1A01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4148-A2A2-452C-894F-8F65D755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0"/>
            <a:ext cx="777708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0"/>
            <a:ext cx="1368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59640" y="0"/>
            <a:ext cx="170640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620640"/>
            <a:ext cx="2519280" cy="5400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3573360"/>
            <a:ext cx="1079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360" y="2781360"/>
            <a:ext cx="1079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24360" y="4365720"/>
            <a:ext cx="1079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341360"/>
            <a:ext cx="36036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5003640" y="1988640"/>
            <a:ext cx="1729080" cy="287640"/>
          </a:xfrm>
          <a:custGeom>
            <a:avLst/>
            <a:gdLst>
              <a:gd name="textAreaLeft" fmla="*/ 380160 w 1729080"/>
              <a:gd name="textAreaRight" fmla="*/ 1348920 w 1729080"/>
              <a:gd name="textAreaTop" fmla="*/ 63000 h 287640"/>
              <a:gd name="textAreaBottom" fmla="*/ 2246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5291640" y="4366080"/>
            <a:ext cx="1152720" cy="287640"/>
          </a:xfrm>
          <a:custGeom>
            <a:avLst/>
            <a:gdLst>
              <a:gd name="textAreaLeft" fmla="*/ 253440 w 1152720"/>
              <a:gd name="textAreaRight" fmla="*/ 899280 w 1152720"/>
              <a:gd name="textAreaTop" fmla="*/ 63000 h 287640"/>
              <a:gd name="textAreaBottom" fmla="*/ 2246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6191640" y="4041000"/>
            <a:ext cx="863640" cy="360360"/>
          </a:xfrm>
          <a:custGeom>
            <a:avLst/>
            <a:gdLst>
              <a:gd name="textAreaLeft" fmla="*/ 189720 w 863640"/>
              <a:gd name="textAreaRight" fmla="*/ 673920 w 863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5589720"/>
            <a:ext cx="1657440" cy="981000"/>
          </a:xfrm>
          <a:custGeom>
            <a:avLst/>
            <a:gdLst>
              <a:gd name="textAreaLeft" fmla="*/ 364320 w 1657440"/>
              <a:gd name="textAreaRight" fmla="*/ 1293120 w 1657440"/>
              <a:gd name="textAreaTop" fmla="*/ 215640 h 981000"/>
              <a:gd name="textAreaBottom" fmla="*/ 765360 h 98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3851280" y="188280"/>
            <a:ext cx="1440000" cy="981000"/>
          </a:xfrm>
          <a:custGeom>
            <a:avLst/>
            <a:gdLst>
              <a:gd name="textAreaLeft" fmla="*/ 316440 w 1440000"/>
              <a:gd name="textAreaRight" fmla="*/ 1123560 w 1440000"/>
              <a:gd name="textAreaTop" fmla="*/ 215640 h 981000"/>
              <a:gd name="textAreaBottom" fmla="*/ 765360 h 98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996840" y="5536800"/>
            <a:ext cx="1800360" cy="84132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5950080"/>
            <a:ext cx="863640" cy="718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6237360"/>
            <a:ext cx="1079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1197000"/>
            <a:ext cx="0" cy="38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2754360"/>
            <a:ext cx="0" cy="2330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3645000"/>
            <a:ext cx="1944360" cy="79200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19640" y="2708280"/>
            <a:ext cx="2016000" cy="108108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1413000"/>
            <a:ext cx="0" cy="216036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16000" y="1197000"/>
            <a:ext cx="7923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781360"/>
            <a:ext cx="12967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55640" y="5084640"/>
            <a:ext cx="1295640" cy="1297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48360" y="1125360"/>
            <a:ext cx="0" cy="1656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948360" y="2781000"/>
            <a:ext cx="0" cy="2160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564000" y="4724280"/>
            <a:ext cx="792000" cy="1657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050920" y="3789000"/>
            <a:ext cx="0" cy="136836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050920" y="3789360"/>
            <a:ext cx="136872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645000"/>
            <a:ext cx="144144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0920" y="1484280"/>
            <a:ext cx="0" cy="216072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3080" y="2708280"/>
            <a:ext cx="0" cy="36734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35640" y="2708280"/>
            <a:ext cx="172872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4437000"/>
            <a:ext cx="1729080" cy="7164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020000" y="4508280"/>
            <a:ext cx="0" cy="136836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564000" y="476280"/>
            <a:ext cx="863640" cy="93672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3789360"/>
            <a:ext cx="1871640" cy="792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64000" y="3860280"/>
            <a:ext cx="0" cy="863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1989000"/>
            <a:ext cx="2232000" cy="3168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00" y="1197000"/>
            <a:ext cx="287640" cy="28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5157720"/>
            <a:ext cx="287640" cy="28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836640"/>
            <a:ext cx="287280" cy="28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6308640"/>
            <a:ext cx="287640" cy="28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8360" y="5661000"/>
            <a:ext cx="287640" cy="28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4365720"/>
            <a:ext cx="576360" cy="21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238920" y="3537720"/>
            <a:ext cx="576000" cy="21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2637000"/>
            <a:ext cx="576360" cy="21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799280" y="3609000"/>
            <a:ext cx="5763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4437000"/>
            <a:ext cx="5763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2637000"/>
            <a:ext cx="57600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242100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3573360"/>
            <a:ext cx="287280" cy="28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4941720"/>
            <a:ext cx="287280" cy="28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1052640"/>
            <a:ext cx="287280" cy="28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333360"/>
            <a:ext cx="287280" cy="28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3645000"/>
            <a:ext cx="100800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75640" y="2637000"/>
            <a:ext cx="287280" cy="28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500280"/>
            <a:ext cx="287280" cy="28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8720" y="2781360"/>
            <a:ext cx="165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720" y="2276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2000" y="3933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yp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2000" y="4581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494172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20500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249228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1916280"/>
            <a:ext cx="142920" cy="142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92428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2852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2428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4292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6308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479736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443700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4869000"/>
            <a:ext cx="142920" cy="142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2060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2060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155736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76500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112536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0920" y="393228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141300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2997360"/>
            <a:ext cx="57636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429000"/>
            <a:ext cx="5763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3860640"/>
            <a:ext cx="5763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465300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393372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350028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314172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1640" y="0"/>
            <a:ext cx="259236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etrobu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Byb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189000"/>
            <a:ext cx="5047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04000" y="260280"/>
            <a:ext cx="50472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404640"/>
            <a:ext cx="50472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549360"/>
            <a:ext cx="504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692280"/>
            <a:ext cx="50472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10526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0"/>
            <a:ext cx="23050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R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S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566100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81800" y="23493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romsb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-680760" y="5368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Arctic </a:t>
            </a:r>
            <a:r>
              <a:rPr b="1" lang="nb-NO" sz="1800" spc="-1" strike="noStrike">
                <a:solidFill>
                  <a:srgbClr val="ff0000"/>
                </a:solidFill>
                <a:latin typeface="Arial"/>
              </a:rPr>
              <a:t>Metro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6:41Z</dcterms:created>
  <dc:creator>msk0506unn</dc:creator>
  <dc:description/>
  <dc:language>en-US</dc:language>
  <cp:lastModifiedBy>msk0506unn</cp:lastModifiedBy>
  <dcterms:modified xsi:type="dcterms:W3CDTF">2009-06-24T08:21:22Z</dcterms:modified>
  <cp:revision>6</cp:revision>
  <dc:subject/>
  <dc:title>Lysbil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06352158</vt:r8>
  </property>
  <property fmtid="{D5CDD505-2E9C-101B-9397-08002B2CF9AE}" pid="3" name="_AuthorEmail">
    <vt:lpwstr>Morten.Skandfer@unn.no</vt:lpwstr>
  </property>
  <property fmtid="{D5CDD505-2E9C-101B-9397-08002B2CF9AE}" pid="4" name="_AuthorEmailDisplayName">
    <vt:lpwstr>Skandfer Morten</vt:lpwstr>
  </property>
  <property fmtid="{D5CDD505-2E9C-101B-9397-08002B2CF9AE}" pid="5" name="_EmailSubject">
    <vt:lpwstr>Verdens nordligste bybane?</vt:lpwstr>
  </property>
</Properties>
</file>