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73F-853A-4BF6-B816-E256E455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6D4-4C01-4CD2-9379-255EF380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58C-879A-4012-8BB3-8D78A305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3CF-F5A6-457E-B718-3A8FCE0E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174-F63C-4ECD-9635-BC197FCF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8FC-8E7E-4869-90D7-6F63BB0F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2872-2861-48BD-82FE-F962C047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840-EE7A-4B4A-9CBF-A676A236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75B-86BD-4ED0-8F94-C4C442B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4D7-5DF5-42DC-A876-B523DEB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F17-9165-4889-B119-0A47D09C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AF7F-1687-454C-8734-96A72A9C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A36740-5539-49F9-B892-C0B5332A2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1028700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69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9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702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24:25Z</dcterms:created>
  <dc:creator>jereck</dc:creator>
  <dc:description/>
  <dc:language>en-US</dc:language>
  <cp:lastModifiedBy>jereck</cp:lastModifiedBy>
  <dcterms:modified xsi:type="dcterms:W3CDTF">2009-05-11T22:23:59Z</dcterms:modified>
  <cp:revision>3</cp:revision>
  <dc:subject/>
  <dc:title>Slide 1</dc:title>
</cp:coreProperties>
</file>