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0A0A-7EF8-4935-A278-7C2D2B8E5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BBF8-9B8F-408C-9CDC-DA64B7A9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3809-3A0F-4ABF-89ED-DBE8EEAB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5D03-1487-4ABD-836E-4CE24BE46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A2CD-FAA7-46B9-A356-258642F6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3251-9AD9-4EC2-82C8-445AF644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4A97-1504-4614-B2C7-5BE7F23B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83E3-6092-434C-9938-31004D0D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00BA-45CA-43B7-A0B8-6EC00827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411D-87FC-498E-A9F4-7B607FDC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1405-23C4-43B1-A873-C59C8667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0D0A-5B9C-4A2E-AE35-26982E51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5090-4CDA-4870-81E6-9EAE6B89B66D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 Diagrama" descr=""/>
          <p:cNvPicPr/>
          <p:nvPr/>
        </p:nvPicPr>
        <p:blipFill>
          <a:blip r:embed="rId1"/>
          <a:stretch/>
        </p:blipFill>
        <p:spPr>
          <a:xfrm>
            <a:off x="1481040" y="853920"/>
            <a:ext cx="61326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00:37:27Z</dcterms:created>
  <dc:creator>Karen</dc:creator>
  <dc:description/>
  <dc:language>en-US</dc:language>
  <cp:lastModifiedBy>Karen</cp:lastModifiedBy>
  <dcterms:modified xsi:type="dcterms:W3CDTF">2010-11-30T01:13:39Z</dcterms:modified>
  <cp:revision>4</cp:revision>
  <dc:subject/>
  <dc:title>Diapositiva 1</dc:title>
</cp:coreProperties>
</file>