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voltage.wav" ContentType="audio/x-wav"/>
  <Override PartName="/ppt/media/image4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9170-E209-43DD-8D5F-31393EB99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333B-BA63-4413-BD0F-3E0A15940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DBBD08-FBD4-4F47-A5B0-BD3121F15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F55D1C-1863-4139-8F80-251997BCB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33CBE8-C0C7-489D-BE7E-1873543EB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D1281E-3C83-4AAA-BE83-454E2BE78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B65CC9-A2E4-45E5-9CC4-05788B824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22B57A-B70A-4BC3-A1F1-72C4B61EF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174048-C130-4E95-961C-20834AEE5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BC4CA1-D1BE-477B-87E6-0BE5D7DEE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881BCE-2C69-4E8B-B7C9-C81891258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7F0488-BA35-4E50-A58C-8A5630573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BB44-16AB-4908-B385-D974F5228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711AEB-E1AA-4D90-8D22-1F3EE5755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CC3DFB-B697-440C-9C6C-2BE2CF4CD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169F27-8447-4365-94E2-238B13589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93A858-0FF9-4FC8-ACA3-A41EEDB01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EBE7D4-9B48-415D-B145-1EEE793FD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7CB9F1-3693-462B-B694-00A64CD10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E928E8-E1C9-4B83-82BF-FBE2A8170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C92989-BBF8-41B2-BCB3-302537DE9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95B6A1-2CA2-4DDB-9719-6361D175B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BBC848-16A4-4F9F-9BC7-1510D2C0C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9862-77A2-4820-BB68-6ED4D9790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7892F9-09F1-4AA5-842F-1B75DE68A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D98EC2-73B6-4E86-8D57-175AAD6A1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0CC972-42E3-4BEC-8788-33CFFEF07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F66EE1-EEB6-448A-8508-A1103C396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BCE4B7-B614-4AF7-A6C2-E35FCC85F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F659EA-5C0C-410C-A267-0A614AE60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9E7167-E192-4728-93BF-D7382E3E9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DE37A1-C416-447F-9C0D-3700A0BFF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D59A32-68C6-421C-824B-3EE0AE4C1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0174C1-77FB-4768-9CF0-71EC08730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9DA51-113F-4167-BDFB-E6FB7123A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67760C-8B8B-49B4-AB3F-C2BCBCF48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C6334D-DAC8-44BC-97A1-78D009D02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5D437E-517C-44B0-B8E6-FE6C7764F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060245-C310-498C-A893-A33E645CC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AF1905-5B2F-425D-AE66-B068827E1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D2E88D-3046-4ADD-97B3-5A89119ED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411739-F4C0-4086-8E65-80D0ED383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89BDE4-7B55-47CE-904F-ECE4E5355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41A715-C58C-45D3-801D-C5F99E4B3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031826-9688-45AB-A86C-641510CFA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BCF71-86E8-4187-91C6-D74FB7E9F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C6EA9B-C7A2-48A4-B02F-C044F8647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D741DD-C86F-49D7-9840-8866C03EC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920296-2235-4035-872D-3F629A9C9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58B1CA-90F4-4C43-B3C1-485ABCA65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00FA7A-5B9D-473B-9762-DB88B29AF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9E7E6-8CA0-44E9-850B-4A643C809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78B76-C14A-4385-887C-2DBE1E8EF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A2B41-2F12-472D-94CD-77EFB2141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12220-365A-48B1-8E61-ED6A7DAE3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69379-57CE-4A60-914D-48A796D05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C331-10B6-4109-8AA5-6F5732821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0FF3F-31DC-406C-9A97-1722F2E80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AF129-3945-4292-8419-9FD0DB4CF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3FE02-98DD-4B9A-B079-A9308317C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0C11F-B8BA-42ED-B4B4-234BB2D6D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68A7C-243C-43CF-B415-5CAB2B89C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6A8E9C-9D56-4593-9643-E562AA93A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84BCE6-B72B-42E3-8D77-9961EED99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B50F99-A14C-4C80-921A-D781BAA56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3DC8D7-B18F-4382-88D7-4AA3FDAEE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8CD4A7-EA99-4D70-A4DB-4FF1A4D85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715A-51FF-49E7-8A85-FD79C0ED3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142B0C-8171-412E-97A3-83524383C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A3E4CB-85CC-4F77-A778-02B49DD1F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78E344-5D0B-4051-BEDC-EA173D0B6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8A8FF0-9223-4766-AE89-B4048C513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C0695C-E636-42BE-AD4B-8A06448C0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89D891-E7A1-4DE5-877E-0CA341F5F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B6064A-9465-4997-9416-619092185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06EAF1-60DA-4CC5-8FFA-F577A1E47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6AF3E2-9C42-4557-A3FF-E2DD6DFFF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6462A5-0932-41DD-8045-14FEC6A41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BCE6-78CC-4ADF-9DDF-291A51946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FAE8BD-949D-4F15-B64B-9D98E4729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2ABFF8-948F-4E9A-BC71-E56B615CD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6E12EC-A16B-416D-9406-728C4A1BC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DB764A-305A-4AF6-9720-089DF8863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C8ECB7-6B9C-493E-A1C3-0E1F73380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DBE94A-85F3-4B9C-B4D7-952AA1024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92E00A-0276-4568-BB33-82B49ADAA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751930-DFDE-4830-BBFA-16226AFE5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B0D8D4-201E-4906-89E3-3FF7F3122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83923A-5A01-49FA-B00F-2ACC2BCD4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85C6-3097-4824-AFE4-5B3907EE0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90B837-0E87-4769-AA06-4A0278A6B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BAFFFF-62A9-420E-A224-CAB0B5E5E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BD2222-3659-4FFF-AA85-90B04C3CD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FDF148-7113-4ED4-B744-57469BB51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48ABAB-1C59-4998-ACAA-BE5458A69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7A4DAA-E5CF-4396-853B-036DA57D7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58CEAD-69A2-4F34-932E-FC8A24723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FF1297-C3F1-4BC2-9ACF-56F97207B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5B0F45-C995-4D37-813F-B1AA3EAB5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6ED69B-E525-4316-9FEC-5650B14BE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F91A-76E4-4A84-B8EE-322C90EC0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55428F-7BA7-4370-AAD6-8409EA2EF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E3C3E5-5D44-48E0-BB9C-ADF7AC792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68B366-E353-4C7B-B73C-00C926522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586440-712E-4AC0-80EA-30BAE23DC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06F7AC-A044-4A75-8889-58EFAA0FC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019095-6EA9-4398-B62B-78D64EA5C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4F5BA3-9894-4FF9-A268-5DF619D9B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78607B-41BF-44A0-BE82-AC17B934B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2E3413-DF02-44F9-AB66-7205F9E92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945133-A293-4D1D-918C-E01EBFBE9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10D4-8344-42E4-B5FE-FBD265A6F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108B2A-2CF9-4E05-B96A-EC42C6555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6AA357-0150-463C-AB15-33E99C9E0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627699-852E-492E-9BDF-00176CAB4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1761DF-A3B8-484D-941E-5572B6A83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BE03CB-EFAA-4344-AE2C-C1A1A3D93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5FBE5F-76F1-40A4-B308-CC292483A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E4FC65-0C29-40E5-9C3A-3AB23F8A8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C637CA-9A73-46BE-B138-56DC1709D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99D1B5-3BE7-4A69-BA38-44BA4BA14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D6465E-07B9-4AA1-8CA7-C3E223215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959D-0370-49A8-98E7-9F0A4388F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10093A-DE33-4E30-B63F-385776766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B49846-C073-4791-AF14-2DBAE437C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D0DFBE-A899-4A9B-8913-0AA8643F4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EC7E90-5FFF-4B47-B0A0-959F1CFD9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1768BA-987D-48C8-87E5-944C41BB1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07A5F2-68DF-4E50-B854-EC7062B41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6F5A90-8E18-408C-AB68-3368DFE14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B5356D-5A8D-4824-B7F3-57DC142D7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72BC8A-CC4F-445D-8320-78C43E75C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D3B085-6D19-40BD-9F2C-B4C1DD44E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9C09-2901-4D92-9182-D56E422CD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5DA072-64EE-41A2-A325-69363164F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9EF0E6-789D-4D7E-8E0F-394E6A81B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6D54BC-5CF5-445C-927D-917736738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547534-23F5-4150-9D02-0C2491C2D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2ED431-A79C-4B66-9277-29CAB6249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1BCBCD-A8AC-46F8-BA16-2B0846616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63DE6A-E3D3-4669-8847-A30120705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13DD3A-0186-4CF3-B29E-C9EF4CCD9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238DC4-CE2F-4E02-86F4-27C77628B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05FDD0-D0E8-4609-831C-0A0DEDE76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6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15 Rectángulo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17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18 Rectángulo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8 Rectángulo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a04d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7 Rectángulo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c43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9 Conector recto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c438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11 Elipse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14 Elipse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c43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600" spc="-1" strike="noStrike">
                <a:solidFill>
                  <a:srgbClr val="8c438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4860E-6581-4C8A-BFFB-27E32BD99301}" type="slidenum">
              <a:rPr b="0" lang="es-MX" sz="1600" spc="-1" strike="noStrike">
                <a:solidFill>
                  <a:srgbClr val="8c438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c438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43808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a04da3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c4652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b5d3d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19 Conector recto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8c438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20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21 Rectángulo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23 Rectángulo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24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25 Rectángulo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a04d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26 Rectángulo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27 Rectángulo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c43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28 Elipse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29 Elipse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c43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30 Rectángulo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a04d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c438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43808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a04da3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c4652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b5d3d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600" spc="-1" strike="noStrike">
                <a:solidFill>
                  <a:srgbClr val="8c438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9B4C2-A74E-4810-991F-E8BF5952AAD5}" type="slidenum">
              <a:rPr b="0" lang="es-MX" sz="1600" spc="-1" strike="noStrike">
                <a:solidFill>
                  <a:srgbClr val="8c438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de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16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15 Rectángulo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17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18 Rectángulo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8 Rectángulo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a04d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7 Rectángulo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c43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9 Conector recto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c438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11 Elipse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14 Elipse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c43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c438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43808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a04da3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c4652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b5d3d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600" spc="-1" strike="noStrike">
                <a:solidFill>
                  <a:srgbClr val="8c438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D1098-1CAD-4F1A-B72B-3845F7106C35}" type="slidenum">
              <a:rPr b="0" lang="es-MX" sz="1600" spc="-1" strike="noStrike">
                <a:solidFill>
                  <a:srgbClr val="8c438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de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19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20 Rectángulo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21 Rectángulo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23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24 Rectángulo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a04d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25 Rectángulo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c43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26 Conector recto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8c438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27 Elipse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28 Elipse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c43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c438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43808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a04da3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c4652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b5d3d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600" spc="-1" strike="noStrike">
                <a:solidFill>
                  <a:srgbClr val="8c438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E0ACF-67C5-425E-A8DD-B7158774C5FE}" type="slidenum">
              <a:rPr b="0" lang="es-MX" sz="1600" spc="-1" strike="noStrike">
                <a:solidFill>
                  <a:srgbClr val="8c438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de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19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20 Rectángulo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21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23 Rectángulo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24 Rectángulo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a04d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25 Conector recto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8c438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26 Rectángulo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8c43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27 Elipse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28 Elipse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c43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c438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43808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a04da3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c4652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b5d3d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600" spc="-1" strike="noStrike">
                <a:solidFill>
                  <a:srgbClr val="8c438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03F2A-AC7F-41E6-987E-CFCD88A989E9}" type="slidenum">
              <a:rPr b="0" lang="es-MX" sz="1600" spc="-1" strike="noStrike">
                <a:solidFill>
                  <a:srgbClr val="8c438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de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16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15 Rectángulo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17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18 Rectángulo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8 Rectángulo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a04d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7 Rectángulo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c43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9 Conector recto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c438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11 Elipse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14 Elipse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c43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c438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43808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a04da3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c4652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b5d3d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600" spc="-1" strike="noStrike">
                <a:solidFill>
                  <a:srgbClr val="8c438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44A4E-3379-4701-8624-5F795F932A58}" type="slidenum">
              <a:rPr b="0" lang="es-MX" sz="1600" spc="-1" strike="noStrike">
                <a:solidFill>
                  <a:srgbClr val="8c438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19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20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21 Rectángulo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23 Rectángulo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24 Rectángulo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25 Rectángulo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26 Rectángulo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a04d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27 Rectángulo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8c43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28 Conector recto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8c438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29 Elipse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30 Elipse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c43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c438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43808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a04da3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c4652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b5d3d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600" spc="-1" strike="noStrike">
                <a:solidFill>
                  <a:srgbClr val="8c438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1C2DB-8FD1-4A7D-900B-D50D2B0D98A9}" type="slidenum">
              <a:rPr b="0" lang="es-MX" sz="1600" spc="-1" strike="noStrike">
                <a:solidFill>
                  <a:srgbClr val="8c438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de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16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15 Rectángulo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17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18 Rectángulo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8 Rectángulo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a04d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7 Rectángulo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c43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9 Conector recto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c438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11 Elipse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14 Elipse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c43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19 Conector recto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42445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c438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43808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a04da3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c4652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b5d3d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600" spc="-1" strike="noStrike">
                <a:solidFill>
                  <a:srgbClr val="8c438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FB782-4C70-47F4-9D24-65574D40F590}" type="slidenum">
              <a:rPr b="0" lang="es-MX" sz="1600" spc="-1" strike="noStrike">
                <a:solidFill>
                  <a:srgbClr val="8c438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de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19 Conector recto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42445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20 Rectángulo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21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23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24 Rectángulo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25 Rectángulo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26 Rectángulo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a04d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27 Conector recto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8c438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28 Rectángulo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c43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29 Elipse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30 Elipse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c43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c438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43808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a04da3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c4652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b5d3d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600" spc="-1" strike="noStrike">
                <a:solidFill>
                  <a:srgbClr val="8c438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6DA69-3FD6-49DB-A6E4-38387E105A21}" type="slidenum">
              <a:rPr b="0" lang="es-MX" sz="1600" spc="-1" strike="noStrike">
                <a:solidFill>
                  <a:srgbClr val="8c438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16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15 Rectángulo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17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18 Rectángulo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8 Rectángulo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a04d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7 Rectángulo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c43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9 Conector recto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c438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11 Elipse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14 Elipse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c43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c438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43808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a04da3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c4652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b5d3d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600" spc="-1" strike="noStrike">
                <a:solidFill>
                  <a:srgbClr val="8c438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F43AE-6D19-45AE-AEB8-CACBF4A27582}" type="slidenum">
              <a:rPr b="0" lang="es-MX" sz="1600" spc="-1" strike="noStrike">
                <a:solidFill>
                  <a:srgbClr val="8c438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19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20 Rectángulo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21 Rectángulo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23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24 Rectángulo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a04d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25 Rectángulo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8c43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c438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43808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a04da3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c4652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b5d3d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9DB7D-2AFA-4D28-B400-66C444A2B0CB}" type="slidenum">
              <a:rPr b="0" lang="es-MX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19 Rectángulo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a04d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20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21 Rectángulo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23 Rectángulo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24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25 Rectángulo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26 Rectángulo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8c43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27 Conector recto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8c438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28 Elipse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29 Elipse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c43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30 Rectángulo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a04d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c438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43808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a04da3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c4652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b5d3d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600" spc="-1" strike="noStrike">
                <a:solidFill>
                  <a:srgbClr val="8c438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8A7D7-F252-4351-BAC1-994756E90B95}" type="slidenum">
              <a:rPr b="0" lang="es-MX" sz="1600" spc="-1" strike="noStrike">
                <a:solidFill>
                  <a:srgbClr val="8c438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voltage.wav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voltage.wav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voltage.wav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audio" Target="../media/voltage.wav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voltage.wav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voltage.wav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voltage.wav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voltage.wav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324000" y="476280"/>
            <a:ext cx="853416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0" spc="-1" strike="noStrike">
                <a:solidFill>
                  <a:srgbClr val="7030a0"/>
                </a:solidFill>
                <a:latin typeface="Berlin Sans FB Demi"/>
              </a:rPr>
              <a:t>Piratería </a:t>
            </a:r>
            <a:endParaRPr b="0" lang="en-US" sz="8000" spc="-1" strike="noStrike">
              <a:solidFill>
                <a:srgbClr val="8c438f"/>
              </a:solidFill>
              <a:latin typeface="Georgia"/>
            </a:endParaRPr>
          </a:p>
        </p:txBody>
      </p:sp>
      <p:pic>
        <p:nvPicPr>
          <p:cNvPr id="607" name="11 Marcador de contenido" descr="pirata"/>
          <p:cNvPicPr/>
          <p:nvPr/>
        </p:nvPicPr>
        <p:blipFill>
          <a:blip r:embed="rId1"/>
          <a:stretch/>
        </p:blipFill>
        <p:spPr>
          <a:xfrm>
            <a:off x="3181320" y="2414520"/>
            <a:ext cx="3097080" cy="514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7030a0"/>
                </a:solidFill>
                <a:latin typeface="Berlin Sans FB Demi"/>
              </a:rPr>
              <a:t>¿Qué es la piratería?</a:t>
            </a:r>
            <a:br>
              <a:rPr sz="5400"/>
            </a:br>
            <a:endParaRPr b="0" lang="en-US" sz="54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000000"/>
                </a:solidFill>
                <a:latin typeface="Georgia"/>
              </a:rPr>
              <a:t>   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7030a0"/>
                </a:solidFill>
                <a:latin typeface="Berlin Sans FB Demi"/>
              </a:rPr>
              <a:t>El término “piratería” abarca la reproducción y distribución de copias de obras protegidas por el derecho de autor, así como su transmisión al público o su puesta a disposición en redes de comunicación en línea, sin la autorización de los propietarios legítimos, cuando dicha autorización resulte necesaria legalmente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0" name="1 Título" descr=""/>
          <p:cNvPicPr/>
          <p:nvPr/>
        </p:nvPicPr>
        <p:blipFill>
          <a:blip r:embed="rId1"/>
          <a:stretch/>
        </p:blipFill>
        <p:spPr>
          <a:xfrm>
            <a:off x="152280" y="-85680"/>
            <a:ext cx="8479080" cy="1854000"/>
          </a:xfrm>
          <a:prstGeom prst="rect">
            <a:avLst/>
          </a:prstGeom>
          <a:ln w="0">
            <a:noFill/>
          </a:ln>
        </p:spPr>
      </p:pic>
      <p:sp>
        <p:nvSpPr>
          <p:cNvPr id="611" name=""/>
          <p:cNvSpPr txBox="1"/>
          <p:nvPr/>
        </p:nvSpPr>
        <p:spPr>
          <a:xfrm>
            <a:off x="684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7030a0"/>
                </a:solidFill>
                <a:latin typeface="Berlin Sans FB Demi"/>
              </a:rPr>
              <a:t>Los disco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7030a0"/>
                </a:solidFill>
                <a:latin typeface="Berlin Sans FB Demi"/>
              </a:rPr>
              <a:t>Los tenis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7030a0"/>
                </a:solidFill>
                <a:latin typeface="Berlin Sans FB Demi"/>
              </a:rPr>
              <a:t>Los libros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7030a0"/>
                </a:solidFill>
                <a:latin typeface="Berlin Sans FB Demi"/>
              </a:rPr>
              <a:t>La ropa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7030a0"/>
                </a:solidFill>
                <a:latin typeface="Berlin Sans FB Demi"/>
              </a:rPr>
              <a:t>Bebidas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7030a0"/>
                </a:solidFill>
                <a:latin typeface="Berlin Sans FB Demi"/>
              </a:rPr>
              <a:t>Softwar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7030a0"/>
                </a:solidFill>
                <a:latin typeface="Berlin Sans FB Demi"/>
              </a:rPr>
              <a:t>Letras de canciones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900" spc="-1" strike="noStrike">
                <a:solidFill>
                  <a:srgbClr val="7030a0"/>
                </a:solidFill>
                <a:latin typeface="Berlin Sans FB Demi"/>
              </a:rPr>
              <a:t>Piratería </a:t>
            </a:r>
            <a:endParaRPr b="0" lang="en-US" sz="5900" spc="-1" strike="noStrike">
              <a:solidFill>
                <a:srgbClr val="8c438f"/>
              </a:solidFill>
              <a:latin typeface="Georgia"/>
            </a:endParaRPr>
          </a:p>
        </p:txBody>
      </p:sp>
      <p:pic>
        <p:nvPicPr>
          <p:cNvPr id="613" name="3 Marcador de contenido" descr="pirateria.jpg"/>
          <p:cNvPicPr/>
          <p:nvPr/>
        </p:nvPicPr>
        <p:blipFill>
          <a:blip r:embed="rId1"/>
          <a:stretch/>
        </p:blipFill>
        <p:spPr>
          <a:xfrm>
            <a:off x="1542960" y="1841400"/>
            <a:ext cx="2133720" cy="1603440"/>
          </a:xfrm>
          <a:prstGeom prst="rect">
            <a:avLst/>
          </a:prstGeom>
          <a:ln w="0">
            <a:noFill/>
          </a:ln>
        </p:spPr>
      </p:pic>
      <p:sp>
        <p:nvSpPr>
          <p:cNvPr id="614" name="AutoShape 2"/>
          <p:cNvSpPr/>
          <p:nvPr/>
        </p:nvSpPr>
        <p:spPr>
          <a:xfrm>
            <a:off x="155520" y="-914400"/>
            <a:ext cx="2286000" cy="19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5" name="Picture 4" descr="http://t1.gstatic.com/images?q=tbn:ANd9GcTZalVXGlcMnYDo0oal4UOnzeEN6Pw-DwrTifW9tQgcd0SxZAnI6OjIBNjZ"/>
          <p:cNvPicPr/>
          <p:nvPr/>
        </p:nvPicPr>
        <p:blipFill>
          <a:blip r:embed="rId2"/>
          <a:stretch/>
        </p:blipFill>
        <p:spPr>
          <a:xfrm>
            <a:off x="3627360" y="3852720"/>
            <a:ext cx="2718000" cy="170676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6" descr="http://t2.gstatic.com/images?q=tbn:ANd9GcT-_8up2MBUTbTggjdHyWM91dWuRtU6Olf44Zdvi4k6vwErJh26yiSOFqUUiw"/>
          <p:cNvPicPr/>
          <p:nvPr/>
        </p:nvPicPr>
        <p:blipFill>
          <a:blip r:embed="rId3"/>
          <a:stretch/>
        </p:blipFill>
        <p:spPr>
          <a:xfrm>
            <a:off x="2048040" y="3565440"/>
            <a:ext cx="1536480" cy="103032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8" descr="http://t2.gstatic.com/images?q=tbn:ANd9GcT_2j5At0KxZaY_KUCDimgepl9NqWtgJ2PWemLvB4cXgUsBZaVc"/>
          <p:cNvPicPr/>
          <p:nvPr/>
        </p:nvPicPr>
        <p:blipFill>
          <a:blip r:embed="rId4"/>
          <a:stretch/>
        </p:blipFill>
        <p:spPr>
          <a:xfrm>
            <a:off x="3846600" y="1981080"/>
            <a:ext cx="2408040" cy="1816200"/>
          </a:xfrm>
          <a:prstGeom prst="rect">
            <a:avLst/>
          </a:prstGeom>
          <a:ln w="0">
            <a:noFill/>
          </a:ln>
        </p:spPr>
      </p:pic>
      <p:pic>
        <p:nvPicPr>
          <p:cNvPr id="618" name="Picture 10" descr="http://www.que.es/archivos/201003/2997261w-365xXx80.jpg"/>
          <p:cNvPicPr/>
          <p:nvPr/>
        </p:nvPicPr>
        <p:blipFill>
          <a:blip r:embed="rId5"/>
          <a:stretch/>
        </p:blipFill>
        <p:spPr>
          <a:xfrm>
            <a:off x="2114640" y="4645080"/>
            <a:ext cx="1457280" cy="104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300" spc="-1" strike="noStrike">
                <a:solidFill>
                  <a:srgbClr val="7030a0"/>
                </a:solidFill>
                <a:latin typeface="Berlin Sans FB Demi"/>
              </a:rPr>
              <a:t>Causas de la piratería</a:t>
            </a:r>
            <a:endParaRPr b="0" lang="en-US" sz="4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7030a0"/>
                </a:solidFill>
                <a:latin typeface="Berlin Sans FB Demi"/>
              </a:rPr>
              <a:t>El alto costo de material original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7030a0"/>
                </a:solidFill>
                <a:latin typeface="Berlin Sans FB Demi"/>
              </a:rPr>
              <a:t>La falta de recursos para comprar algo original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7030a0"/>
                </a:solidFill>
                <a:latin typeface="Berlin Sans FB Demi"/>
              </a:rPr>
              <a:t>El trabajo que en algunas ocasiones cuestan hacer las cosas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900" spc="-1" strike="noStrike">
                <a:solidFill>
                  <a:srgbClr val="7030a0"/>
                </a:solidFill>
                <a:latin typeface="Berlin Sans FB Demi"/>
              </a:rPr>
              <a:t>Piratería informática</a:t>
            </a:r>
            <a:endParaRPr b="0" lang="en-US" sz="49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7030a0"/>
                </a:solidFill>
                <a:latin typeface="Berlin Sans FB Demi"/>
              </a:rPr>
              <a:t>    </a:t>
            </a:r>
            <a:r>
              <a:rPr b="0" lang="es-MX" sz="2700" spc="-1" strike="noStrike">
                <a:solidFill>
                  <a:srgbClr val="7030a0"/>
                </a:solidFill>
                <a:latin typeface="Berlin Sans FB Demi"/>
              </a:rPr>
              <a:t>La piratería informática consiste en la distribución y/o reproducción ilegales de software. Comprar software significa en realidad comprar una licencia para usar el software, y esta licencia especifica la forma legal de usar dicho software. Cualquier uso que se haga del software más allá de lo estipulado en la licencia constituye una violación de ésta y posiblemente, de las leyes que amparan los derechos de propiedad intelectual. La piratería informática es ilegal y sancionable según la ley, tanto si es deliberada como si no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3" name="Picture 2" descr="http://www.acercadeinternet.com/wp-content/uploads/2008/10/xp-pirata.jpg"/>
          <p:cNvPicPr/>
          <p:nvPr/>
        </p:nvPicPr>
        <p:blipFill>
          <a:blip r:embed="rId1"/>
          <a:stretch/>
        </p:blipFill>
        <p:spPr>
          <a:xfrm>
            <a:off x="2346480" y="433440"/>
            <a:ext cx="4340160" cy="1037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7030a0"/>
                </a:solidFill>
                <a:latin typeface="Berlin Sans FB Demi"/>
              </a:rPr>
              <a:t>Medidas para evitar la piratería </a:t>
            </a:r>
            <a:endParaRPr b="0" lang="en-US" sz="36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7030a0"/>
                </a:solidFill>
                <a:latin typeface="Berlin Sans FB Demi"/>
              </a:rPr>
              <a:t>En primero seria no comprándola, pues si la seguimos comprando esta se sigue reproduciendo en todos los aspectos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7030a0"/>
                </a:solidFill>
                <a:latin typeface="Berlin Sans FB Demi"/>
              </a:rPr>
              <a:t>Denunciar a los que la reproducen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000000"/>
                </a:solidFill>
                <a:latin typeface="Georgia"/>
              </a:rPr>
              <a:t> 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7030a0"/>
                </a:solidFill>
                <a:latin typeface="Berlin Sans FB Demi"/>
              </a:rPr>
              <a:t>Soto Madrigal Karen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6T15:20:32Z</dcterms:created>
  <dc:creator>Macrosala</dc:creator>
  <dc:description/>
  <dc:language>en-US</dc:language>
  <cp:lastModifiedBy>Karen</cp:lastModifiedBy>
  <dcterms:modified xsi:type="dcterms:W3CDTF">2010-11-30T00:25:28Z</dcterms:modified>
  <cp:revision>10</cp:revision>
  <dc:subject/>
  <dc:title>Piratería</dc:title>
</cp:coreProperties>
</file>