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0B93-4CD7-487C-80A4-9222D40B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4D3B-22D4-4579-B614-74ACDDCC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3714-7D7B-4228-8CF2-51980B7F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B30D-5D12-4E8F-8995-88449FC3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9476-2E51-443F-9E85-2B7F6203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AA66-6D03-4347-8EB5-D8D9A325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4480-28EA-40AD-B9EB-9CF56881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FCC2-B48C-44E2-952B-D2FE9B74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C2B8-B9CF-4495-AF41-5C18150D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78B3-83E5-4F4C-A10D-7B253B82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EF49-0158-4E4B-ABE9-71C35B24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39F4-8425-46D6-B4F6-3C8ACD93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D639-0F1C-4E69-8927-A02D1E41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7235-76E3-4AFC-9F24-942CEF72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790E-1061-41E3-B4D8-B59F3FCC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F522-3C8E-4E5D-94C0-B23563F2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5ABC-DB5F-4243-A964-2307A87E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0C47-89E2-4EA8-989E-9F678316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ECD3-8A37-449E-894F-A8E8A4F4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2C8D-CEC0-47B9-9317-88EBCEAF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CBAB-4226-4982-A8BC-E76F0C40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6272-35CC-4C0B-9D35-8FBE6F4A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05F4-8EBC-4999-A7D4-983746D2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587E-94A2-4830-A70A-7AC623E6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B1EA89-CCF3-4DD2-B95B-6B0929165C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367A6-9A74-40D9-B991-99AEAE56218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9900"/>
                </a:solidFill>
                <a:uFillTx/>
                <a:latin typeface="Arial"/>
              </a:rPr>
              <a:t>Cerita tentang katak kecil</a:t>
            </a: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ff"/>
                </a:solidFill>
                <a:uFillTx/>
                <a:latin typeface="Verdana"/>
              </a:rPr>
              <a:t>Pelajaran hidup No. 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505320" y="2133720"/>
            <a:ext cx="2449440" cy="3133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Karena itu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900" spc="-1" strike="noStrike">
                <a:solidFill>
                  <a:srgbClr val="ff3300"/>
                </a:solidFill>
                <a:latin typeface="Verdana"/>
              </a:rPr>
              <a:t>Tetaplah selalu...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US" sz="2900" spc="-1" strike="noStrike" u="sng">
                <a:solidFill>
                  <a:srgbClr val="0033cc"/>
                </a:solidFill>
                <a:uFillTx/>
                <a:latin typeface="Verdana"/>
              </a:rPr>
              <a:t>POSITIVE THINKING!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an yang terpenting:           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111800" cy="37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Verdana"/>
              </a:rPr>
              <a:t>Berlakulah TULI jika orang berkata kepadamu bahwa KAMU tidak bisa menggapai cita-citamu!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100" spc="-1" strike="noStrike">
                <a:solidFill>
                  <a:srgbClr val="ff3300"/>
                </a:solidFill>
                <a:latin typeface="Verdana"/>
              </a:rPr>
              <a:t>Selalu berpikirlah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3000" spc="-1" strike="noStrike" u="sng">
                <a:solidFill>
                  <a:srgbClr val="0033cc"/>
                </a:solidFill>
                <a:uFillTx/>
                <a:latin typeface="Verdana"/>
              </a:rPr>
              <a:t>I can do this!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Verdana"/>
              </a:rPr>
              <a:t>Kirim pesan ini kepada minimal 5 temanmu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Verdana"/>
              </a:rPr>
              <a:t>Berikan mereka motivasi!!!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1500" spc="-1" strike="noStrike">
                <a:solidFill>
                  <a:srgbClr val="009900"/>
                </a:solidFill>
                <a:latin typeface="Verdana"/>
              </a:rPr>
              <a:t>Karena teman yang baik adalah teman yang bisa saling memberi motivasi satu sama lain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477120" y="457200"/>
            <a:ext cx="1238040" cy="7048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290840" y="612720"/>
            <a:ext cx="562320" cy="466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70160" y="1827360"/>
            <a:ext cx="72468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Verdana"/>
              </a:rPr>
              <a:t>Pada suatu hari ada segerombol katak-katak kecil..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Verdana"/>
              </a:rPr>
              <a:t>… </a:t>
            </a:r>
            <a:r>
              <a:rPr b="1" lang="en-US" sz="2500" spc="-1" strike="noStrike">
                <a:solidFill>
                  <a:srgbClr val="0000ff"/>
                </a:solidFill>
                <a:latin typeface="Verdana"/>
              </a:rPr>
              <a:t>yang menggelar lomba lari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Tujuannya adalah mencapai puncak sebuah menara yang sangat tinggi.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76920" y="609480"/>
            <a:ext cx="561960" cy="466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581280" y="609480"/>
            <a:ext cx="561960" cy="466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486400" y="609480"/>
            <a:ext cx="561960" cy="466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895480" y="609480"/>
            <a:ext cx="561960" cy="466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6172200" y="609480"/>
            <a:ext cx="561960" cy="466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2286000" y="609480"/>
            <a:ext cx="561960" cy="466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6781680" y="609480"/>
            <a:ext cx="561960" cy="466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1752480" y="609480"/>
            <a:ext cx="561960" cy="466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3657600" y="4038480"/>
            <a:ext cx="952560" cy="23878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267080" y="457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Penonton berkumpul bersama  mengelilingi menara untuk menyaksikan  perlombaan dan memberi semangat kepada para peserta..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Perlombaan dimulai..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362320" y="457200"/>
            <a:ext cx="608040" cy="608040"/>
            <a:chOff x="2362320" y="457200"/>
            <a:chExt cx="608040" cy="60804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2362320" y="457200"/>
              <a:ext cx="60804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362320" y="457200"/>
              <a:ext cx="6080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7772400" y="533520"/>
            <a:ext cx="608040" cy="608040"/>
            <a:chOff x="7772400" y="533520"/>
            <a:chExt cx="608040" cy="608040"/>
          </a:xfrm>
        </p:grpSpPr>
        <p:pic>
          <p:nvPicPr>
            <p:cNvPr id="110" name="" descr=""/>
            <p:cNvPicPr/>
            <p:nvPr/>
          </p:nvPicPr>
          <p:blipFill>
            <a:blip r:embed="rId3"/>
            <a:stretch/>
          </p:blipFill>
          <p:spPr>
            <a:xfrm>
              <a:off x="7772400" y="533520"/>
              <a:ext cx="60804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7772400" y="533520"/>
              <a:ext cx="6080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09480" y="457200"/>
            <a:ext cx="608040" cy="608040"/>
            <a:chOff x="609480" y="457200"/>
            <a:chExt cx="608040" cy="608040"/>
          </a:xfrm>
        </p:grpSpPr>
        <p:pic>
          <p:nvPicPr>
            <p:cNvPr id="113" name="" descr=""/>
            <p:cNvPicPr/>
            <p:nvPr/>
          </p:nvPicPr>
          <p:blipFill>
            <a:blip r:embed="rId4"/>
            <a:stretch/>
          </p:blipFill>
          <p:spPr>
            <a:xfrm>
              <a:off x="609480" y="457200"/>
              <a:ext cx="60804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609480" y="457200"/>
              <a:ext cx="6080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172200" y="533520"/>
            <a:ext cx="608040" cy="608040"/>
            <a:chOff x="6172200" y="533520"/>
            <a:chExt cx="608040" cy="608040"/>
          </a:xfrm>
        </p:grpSpPr>
        <p:pic>
          <p:nvPicPr>
            <p:cNvPr id="116" name="" descr=""/>
            <p:cNvPicPr/>
            <p:nvPr/>
          </p:nvPicPr>
          <p:blipFill>
            <a:blip r:embed="rId5"/>
            <a:stretch/>
          </p:blipFill>
          <p:spPr>
            <a:xfrm>
              <a:off x="6172200" y="533520"/>
              <a:ext cx="60804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172200" y="533520"/>
              <a:ext cx="6080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2895480" y="4191120"/>
            <a:ext cx="390600" cy="323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1676520" y="4800600"/>
            <a:ext cx="390240" cy="324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1828800" y="4419720"/>
            <a:ext cx="390600" cy="323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2362320" y="4343400"/>
            <a:ext cx="390240" cy="324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2590920" y="4724280"/>
            <a:ext cx="390240" cy="324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3581280" y="4038480"/>
            <a:ext cx="390600" cy="324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>
            <a:off x="3657600" y="4495680"/>
            <a:ext cx="390600" cy="324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>
            <a:off x="1143000" y="4724280"/>
            <a:ext cx="390600" cy="324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4"/>
          <a:stretch/>
        </p:blipFill>
        <p:spPr>
          <a:xfrm>
            <a:off x="3124080" y="4495680"/>
            <a:ext cx="390600" cy="324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3301920"/>
            <a:ext cx="91440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5"/>
          <a:stretch/>
        </p:blipFill>
        <p:spPr>
          <a:xfrm>
            <a:off x="3124080" y="4876920"/>
            <a:ext cx="390600" cy="3236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cara jujur: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Tak satupun penonton benar2 percaya bahwa katak2 kecil akan bisa mencapai puncak menara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Terdengar suara: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Verdana"/>
              </a:rPr>
              <a:t>"Oh, jalannya terlalu sulitttt!!</a:t>
            </a:r>
            <a:r>
              <a:rPr b="0" lang="en-US" sz="25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i="1" lang="en-US" sz="2500" spc="-1" strike="noStrike">
                <a:solidFill>
                  <a:srgbClr val="0000ff"/>
                </a:solidFill>
                <a:latin typeface="Verdana"/>
              </a:rPr>
              <a:t>Mereka  TIDAK AKAN PERNAH sampai ke puncak."</a:t>
            </a:r>
            <a:r>
              <a:rPr b="0" lang="en-US" sz="25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Verdana"/>
              </a:rPr>
              <a:t>"Tidak ada kesempatan untuk berhasil...Menaranya terlalu tinggi...!!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191120" y="5105520"/>
            <a:ext cx="885600" cy="5428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370160" y="1827360"/>
            <a:ext cx="72468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Katak2 kecil mulai berjatuhan. Satu persatu..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Verdana"/>
              </a:rPr>
              <a:t>... Kecuali mereka  yang tetap semangat menaiki menara perlahan- lahan semakin tinggi...dan semakin tinggi..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Penonton terus bersora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100" spc="-1" strike="noStrike">
                <a:solidFill>
                  <a:srgbClr val="0000ff"/>
                </a:solidFill>
                <a:latin typeface="Verdana"/>
              </a:rPr>
              <a:t>"Terlalu sulit!!! Tak satupun akan berhasil!"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71600" y="3200400"/>
            <a:ext cx="561960" cy="466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828800" y="3429000"/>
            <a:ext cx="561960" cy="466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562720" y="3124080"/>
            <a:ext cx="393480" cy="330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191120" y="2971800"/>
            <a:ext cx="393480" cy="330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3276720" y="3429000"/>
            <a:ext cx="393480" cy="330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2133720" y="2971800"/>
            <a:ext cx="393480" cy="3301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410080" y="6094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370160" y="1827360"/>
            <a:ext cx="72468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ebih banyak lagi katak kecil lelah dan menyerah..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...Tapi ada  SATU yang melanjutkan hingga semakin tinggi dan tinggi..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Verdana"/>
              </a:rPr>
              <a:t>Dia tak akan menyerah!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267080" y="4114800"/>
            <a:ext cx="561960" cy="466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477120" y="6094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419720" y="6094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3352680" y="609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2362320" y="6094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343400" y="617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370160" y="1827360"/>
            <a:ext cx="72468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Akhirnya yang lain telah menyerah untuk menaiki menara. Kecuali  satu katak kecil yang telah berusaha keras  menjadi  satu-satunya yang berhasil mencapai puncak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100" spc="-1" strike="noStrike">
                <a:solidFill>
                  <a:srgbClr val="0033cc"/>
                </a:solidFill>
                <a:latin typeface="Verdana"/>
              </a:rPr>
              <a:t>SEMUA katak kecil yang lain ingin tahu bagaimana katak ini bisa melakukannya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33cc"/>
                </a:solidFill>
                <a:latin typeface="Verdana"/>
              </a:rPr>
              <a:t>Seorang peserta bertanya bagaimana cara katak yang berhasil menemukan kekuatan untuk mencapai tujuan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257800" y="5486400"/>
            <a:ext cx="762120" cy="6094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ernyata...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500" spc="-1" strike="noStrike" u="sng">
                <a:solidFill>
                  <a:srgbClr val="ff3300"/>
                </a:solidFill>
                <a:uFillTx/>
                <a:latin typeface="Verdana"/>
              </a:rPr>
              <a:t>Katak yang menjadi pemenang itu TULI!!!!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500" spc="-1" strike="noStrike">
                <a:solidFill>
                  <a:srgbClr val="009900"/>
                </a:solidFill>
                <a:latin typeface="Verdana"/>
              </a:rPr>
              <a:t>Pesan-pesan dari cerita ini adalah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038480" y="2362320"/>
            <a:ext cx="1228680" cy="1085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419720" y="4876920"/>
            <a:ext cx="761760" cy="761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Verdana"/>
              </a:rPr>
              <a:t>Jangan pernah mendengar orang lain yang mempunyai kecenderungan negatif ataupun pesimis.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900" spc="-1" strike="noStrike">
                <a:solidFill>
                  <a:srgbClr val="ff3300"/>
                </a:solidFill>
                <a:latin typeface="Verdana"/>
              </a:rPr>
              <a:t>…</a:t>
            </a:r>
            <a:r>
              <a:rPr b="1" lang="en-US" sz="2900" spc="-1" strike="noStrike">
                <a:solidFill>
                  <a:srgbClr val="ff3300"/>
                </a:solidFill>
                <a:latin typeface="Verdana"/>
              </a:rPr>
              <a:t>karena mereka mengambil sebagian besar mimpimu dan menjauhkannya darimu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elalu pikirkan kata2 bertuah yang ada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Karena segala sesuatu yang kau dengar dan kau baca bisa mempengaruhi perilakumu!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udent20</dc:creator>
  <dc:description/>
  <dc:language>en-US</dc:language>
  <cp:lastModifiedBy>RRRR</cp:lastModifiedBy>
  <dcterms:modified xsi:type="dcterms:W3CDTF">2009-08-03T09:23:09Z</dcterms:modified>
  <cp:revision>1</cp:revision>
  <dc:subject/>
  <dc:title>Cerita tentang katak kecil </dc:title>
</cp:coreProperties>
</file>