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0CCA-B7E1-40FA-B79B-E5A23D1C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0BFC-C46F-4D0C-8813-2BE9A1A2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94B4-3132-403C-939D-0E74804F5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EBF3-FBB9-45C6-9C6D-B34FC865D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B5B1-9979-4645-8361-963FCC3E4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614C2-7F02-4788-B9B4-4CB7E598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5547-4A96-47A5-A9A3-DBAB1CEC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5990-2926-4CD3-8D30-F3B02088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E722-614B-4358-A8C3-5433EA1A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CBF0-839F-4BE5-8A83-754CE8E6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6424-1C1F-4AA8-A047-FAB18BCC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8A79-D9E9-4B04-8C03-E66B8EAC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E8A8-EBD2-4FB4-BE88-8F8C6735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DDB9-D085-4423-A1E8-4FD2A0BD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28D2-81B2-4768-BD7C-769FD4D1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DD86-0FBC-4982-84C6-6A0C044A8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10B1-C1AD-4175-9D5C-4FB1783B3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5CCF-7B60-4270-A1EA-32D02773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BB9D-03DB-4B6C-9B6C-F5C3FBC1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256C-A9BA-4FF6-8C2A-883C6DC2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11B0-0E98-449E-92CA-85FCDA85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C693-EC23-4612-BBC2-A9B272B5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B61B-5EA9-406B-A930-AE6EB7CE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94D1-D387-4354-9BDD-D1979F09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011399-31DE-4621-B176-5D4671EF070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2FADEE-96C2-4441-935D-EA533EC2AC3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9900"/>
                </a:solidFill>
                <a:uFillTx/>
                <a:latin typeface="Arial"/>
              </a:rPr>
              <a:t>Cerita tentang katak kecil</a:t>
            </a: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ff"/>
                </a:solidFill>
                <a:uFillTx/>
                <a:latin typeface="Verdana"/>
              </a:rPr>
              <a:t>Pelajaran hidup No. 1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505320" y="2133720"/>
            <a:ext cx="2449440" cy="31334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Karena itu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52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900" spc="-1" strike="noStrike">
                <a:solidFill>
                  <a:srgbClr val="ff3300"/>
                </a:solidFill>
                <a:latin typeface="Verdana"/>
              </a:rPr>
              <a:t>Tetaplah selalu....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US" sz="2900" spc="-1" strike="noStrike" u="sng">
                <a:solidFill>
                  <a:srgbClr val="0033cc"/>
                </a:solidFill>
                <a:uFillTx/>
                <a:latin typeface="Verdana"/>
              </a:rPr>
              <a:t>POSITIVE THINKING!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Dan yang terpenting:           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111800" cy="37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Verdana"/>
              </a:rPr>
              <a:t>Berlakulah TULI jika orang berkata kepadamu bahwa KAMU tidak bisa menggapai cita-citamu!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100" spc="-1" strike="noStrike">
                <a:solidFill>
                  <a:srgbClr val="ff3300"/>
                </a:solidFill>
                <a:latin typeface="Verdana"/>
              </a:rPr>
              <a:t>Selalu berpikirlah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3000" spc="-1" strike="noStrike" u="sng">
                <a:solidFill>
                  <a:srgbClr val="0033cc"/>
                </a:solidFill>
                <a:uFillTx/>
                <a:latin typeface="Verdana"/>
              </a:rPr>
              <a:t>I can do this!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1500" spc="-1" strike="noStrike">
                <a:solidFill>
                  <a:srgbClr val="009900"/>
                </a:solidFill>
                <a:latin typeface="Verdana"/>
              </a:rPr>
              <a:t>Kirim pesan ini kepada minimal 5 temanmu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1500" spc="-1" strike="noStrike">
                <a:solidFill>
                  <a:srgbClr val="009900"/>
                </a:solidFill>
                <a:latin typeface="Verdana"/>
              </a:rPr>
              <a:t>Berikan mereka motivasi!!!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1500" spc="-1" strike="noStrike">
                <a:solidFill>
                  <a:srgbClr val="009900"/>
                </a:solidFill>
                <a:latin typeface="Verdana"/>
              </a:rPr>
              <a:t>Karena teman yang baik adalah teman yang bisa saling memberi motivasi satu sama lain.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477120" y="457200"/>
            <a:ext cx="1238040" cy="7048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290840" y="612720"/>
            <a:ext cx="562320" cy="466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70160" y="1827360"/>
            <a:ext cx="72468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Verdana"/>
              </a:rPr>
              <a:t>Pada suatu hari ada segerombol katak-katak kecil..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Verdana"/>
              </a:rPr>
              <a:t>… </a:t>
            </a:r>
            <a:r>
              <a:rPr b="1" lang="en-US" sz="2500" spc="-1" strike="noStrike">
                <a:solidFill>
                  <a:srgbClr val="0000ff"/>
                </a:solidFill>
                <a:latin typeface="Verdana"/>
              </a:rPr>
              <a:t>yang menggelar lomba lari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Tujuannya adalah mencapai puncak sebuah menara yang sangat tinggi.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876920" y="609480"/>
            <a:ext cx="561960" cy="466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581280" y="609480"/>
            <a:ext cx="561960" cy="466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5486400" y="609480"/>
            <a:ext cx="561960" cy="466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2895480" y="609480"/>
            <a:ext cx="561960" cy="466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6172200" y="609480"/>
            <a:ext cx="561960" cy="466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2286000" y="609480"/>
            <a:ext cx="561960" cy="466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6781680" y="609480"/>
            <a:ext cx="561960" cy="466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9"/>
          <a:stretch/>
        </p:blipFill>
        <p:spPr>
          <a:xfrm>
            <a:off x="1752480" y="609480"/>
            <a:ext cx="561960" cy="466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0"/>
          <a:stretch/>
        </p:blipFill>
        <p:spPr>
          <a:xfrm>
            <a:off x="3657600" y="4038480"/>
            <a:ext cx="952560" cy="23878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267080" y="457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370160" y="1827360"/>
            <a:ext cx="73152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Penonton berkumpul bersama  mengelilingi menara untuk menyaksikan  perlombaan dan memberi semangat kepada para peserta...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Perlombaan dimulai...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362320" y="457200"/>
            <a:ext cx="608040" cy="608040"/>
            <a:chOff x="2362320" y="457200"/>
            <a:chExt cx="608040" cy="608040"/>
          </a:xfrm>
        </p:grpSpPr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2362320" y="457200"/>
              <a:ext cx="60804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362320" y="457200"/>
              <a:ext cx="6080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7772400" y="533520"/>
            <a:ext cx="608040" cy="608040"/>
            <a:chOff x="7772400" y="533520"/>
            <a:chExt cx="608040" cy="608040"/>
          </a:xfrm>
        </p:grpSpPr>
        <p:pic>
          <p:nvPicPr>
            <p:cNvPr id="110" name="" descr=""/>
            <p:cNvPicPr/>
            <p:nvPr/>
          </p:nvPicPr>
          <p:blipFill>
            <a:blip r:embed="rId3"/>
            <a:stretch/>
          </p:blipFill>
          <p:spPr>
            <a:xfrm>
              <a:off x="7772400" y="533520"/>
              <a:ext cx="60804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7772400" y="533520"/>
              <a:ext cx="6080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09480" y="457200"/>
            <a:ext cx="608040" cy="608040"/>
            <a:chOff x="609480" y="457200"/>
            <a:chExt cx="608040" cy="608040"/>
          </a:xfrm>
        </p:grpSpPr>
        <p:pic>
          <p:nvPicPr>
            <p:cNvPr id="113" name="" descr=""/>
            <p:cNvPicPr/>
            <p:nvPr/>
          </p:nvPicPr>
          <p:blipFill>
            <a:blip r:embed="rId4"/>
            <a:stretch/>
          </p:blipFill>
          <p:spPr>
            <a:xfrm>
              <a:off x="609480" y="457200"/>
              <a:ext cx="60804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609480" y="457200"/>
              <a:ext cx="6080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172200" y="533520"/>
            <a:ext cx="608040" cy="608040"/>
            <a:chOff x="6172200" y="533520"/>
            <a:chExt cx="608040" cy="608040"/>
          </a:xfrm>
        </p:grpSpPr>
        <p:pic>
          <p:nvPicPr>
            <p:cNvPr id="116" name="" descr=""/>
            <p:cNvPicPr/>
            <p:nvPr/>
          </p:nvPicPr>
          <p:blipFill>
            <a:blip r:embed="rId5"/>
            <a:stretch/>
          </p:blipFill>
          <p:spPr>
            <a:xfrm>
              <a:off x="6172200" y="533520"/>
              <a:ext cx="60804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6172200" y="533520"/>
              <a:ext cx="6080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2895480" y="4191120"/>
            <a:ext cx="390600" cy="323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1676520" y="4800600"/>
            <a:ext cx="390240" cy="324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1828800" y="4419720"/>
            <a:ext cx="390600" cy="323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9"/>
          <a:stretch/>
        </p:blipFill>
        <p:spPr>
          <a:xfrm>
            <a:off x="2362320" y="4343400"/>
            <a:ext cx="390240" cy="324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0"/>
          <a:stretch/>
        </p:blipFill>
        <p:spPr>
          <a:xfrm>
            <a:off x="2590920" y="4724280"/>
            <a:ext cx="390240" cy="324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1"/>
          <a:stretch/>
        </p:blipFill>
        <p:spPr>
          <a:xfrm>
            <a:off x="3581280" y="4038480"/>
            <a:ext cx="390600" cy="324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2"/>
          <a:stretch/>
        </p:blipFill>
        <p:spPr>
          <a:xfrm>
            <a:off x="3657600" y="4495680"/>
            <a:ext cx="390600" cy="324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3"/>
          <a:stretch/>
        </p:blipFill>
        <p:spPr>
          <a:xfrm>
            <a:off x="1143000" y="4724280"/>
            <a:ext cx="390600" cy="324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4"/>
          <a:stretch/>
        </p:blipFill>
        <p:spPr>
          <a:xfrm>
            <a:off x="3124080" y="4495680"/>
            <a:ext cx="390600" cy="324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3301920"/>
            <a:ext cx="91440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5"/>
          <a:stretch/>
        </p:blipFill>
        <p:spPr>
          <a:xfrm>
            <a:off x="3124080" y="4876920"/>
            <a:ext cx="390600" cy="3236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cara jujur: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52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Tak satupun penonton benar2 percaya bahwa katak2 kecil akan bisa mencapai puncak menara.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Terdengar suara: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US" sz="2500" spc="-1" strike="noStrike">
                <a:solidFill>
                  <a:srgbClr val="0000ff"/>
                </a:solidFill>
                <a:latin typeface="Verdana"/>
              </a:rPr>
              <a:t>"Oh, jalannya terlalu sulitttt!!</a:t>
            </a:r>
            <a:r>
              <a:rPr b="0" lang="en-US" sz="25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i="1" lang="en-US" sz="2500" spc="-1" strike="noStrike">
                <a:solidFill>
                  <a:srgbClr val="0000ff"/>
                </a:solidFill>
                <a:latin typeface="Verdana"/>
              </a:rPr>
              <a:t>Mereka  TIDAK AKAN PERNAH sampai ke puncak."</a:t>
            </a:r>
            <a:r>
              <a:rPr b="0" lang="en-US" sz="25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US" sz="2500" spc="-1" strike="noStrike">
                <a:solidFill>
                  <a:srgbClr val="0000ff"/>
                </a:solidFill>
                <a:latin typeface="Verdana"/>
              </a:rPr>
              <a:t>"Tidak ada kesempatan untuk berhasil...Menaranya terlalu tinggi...!!”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191120" y="5105520"/>
            <a:ext cx="885600" cy="5428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370160" y="1827360"/>
            <a:ext cx="72468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Katak2 kecil mulai berjatuhan. Satu persatu...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Verdana"/>
              </a:rPr>
              <a:t>... Kecuali mereka  yang tetap semangat menaiki menara perlahan- lahan semakin tinggi...dan semakin tinggi..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Penonton terus bersora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100" spc="-1" strike="noStrike">
                <a:solidFill>
                  <a:srgbClr val="0000ff"/>
                </a:solidFill>
                <a:latin typeface="Verdana"/>
              </a:rPr>
              <a:t>"Terlalu sulit!!! Tak satupun akan berhasil!"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371600" y="3200400"/>
            <a:ext cx="561960" cy="466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828800" y="3429000"/>
            <a:ext cx="561960" cy="466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562720" y="3124080"/>
            <a:ext cx="393480" cy="3304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4191120" y="2971800"/>
            <a:ext cx="393480" cy="330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3276720" y="3429000"/>
            <a:ext cx="393480" cy="330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2133720" y="2971800"/>
            <a:ext cx="393480" cy="3301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410080" y="6094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370160" y="1827360"/>
            <a:ext cx="72468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Lebih banyak lagi katak kecil lelah dan menyerah..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...Tapi ada  SATU yang melanjutkan hingga semakin tinggi dan tinggi...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Verdana"/>
              </a:rPr>
              <a:t>Dia tak akan menyerah!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267080" y="4114800"/>
            <a:ext cx="561960" cy="4665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477120" y="6094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419720" y="6094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3352680" y="609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2362320" y="6094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343400" y="6174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370160" y="1827360"/>
            <a:ext cx="72468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Akhirnya yang lain telah menyerah untuk menaiki menara. Kecuali  satu katak kecil yang telah berusaha keras  menjadi  satu-satunya yang berhasil mencapai puncak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100" spc="-1" strike="noStrike">
                <a:solidFill>
                  <a:srgbClr val="0033cc"/>
                </a:solidFill>
                <a:latin typeface="Verdana"/>
              </a:rPr>
              <a:t>SEMUA katak kecil yang lain ingin tahu bagaimana katak ini bisa melakukannya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33cc"/>
                </a:solidFill>
                <a:latin typeface="Verdana"/>
              </a:rPr>
              <a:t>Seorang peserta bertanya bagaimana cara katak yang berhasil menemukan kekuatan untuk mencapai tujuan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257800" y="5486400"/>
            <a:ext cx="762120" cy="6094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ernyata...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52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500" spc="-1" strike="noStrike" u="sng">
                <a:solidFill>
                  <a:srgbClr val="ff3300"/>
                </a:solidFill>
                <a:uFillTx/>
                <a:latin typeface="Verdana"/>
              </a:rPr>
              <a:t>Katak yang menjadi pemenang itu TULI!!!!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500" spc="-1" strike="noStrike">
                <a:solidFill>
                  <a:srgbClr val="009900"/>
                </a:solidFill>
                <a:latin typeface="Verdana"/>
              </a:rPr>
              <a:t>Pesan-pesan dari cerita ini adalah: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038480" y="2362320"/>
            <a:ext cx="1228680" cy="10857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419720" y="4876920"/>
            <a:ext cx="761760" cy="7617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Verdana"/>
              </a:rPr>
              <a:t>Jangan pernah mendengar orang lain yang mempunyai kecenderungan negatif ataupun pesimis..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900" spc="-1" strike="noStrike">
                <a:solidFill>
                  <a:srgbClr val="ff3300"/>
                </a:solidFill>
                <a:latin typeface="Verdana"/>
              </a:rPr>
              <a:t>…</a:t>
            </a:r>
            <a:r>
              <a:rPr b="1" lang="en-US" sz="2900" spc="-1" strike="noStrike">
                <a:solidFill>
                  <a:srgbClr val="ff3300"/>
                </a:solidFill>
                <a:latin typeface="Verdana"/>
              </a:rPr>
              <a:t>karena mereka mengambil sebagian besar mimpimu dan menjauhkannya darimu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elalu pikirkan kata2 bertuah yang ada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Karena segala sesuatu yang kau dengar dan kau baca bisa mempengaruhi perilakumu!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udent20</dc:creator>
  <dc:description/>
  <dc:language>en-US</dc:language>
  <cp:lastModifiedBy>RRRR</cp:lastModifiedBy>
  <dcterms:modified xsi:type="dcterms:W3CDTF">2009-08-03T09:23:09Z</dcterms:modified>
  <cp:revision>1</cp:revision>
  <dc:subject/>
  <dc:title>Cerita tentang katak kecil </dc:title>
</cp:coreProperties>
</file>