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5841720"/>
            <a:ext cx="1046484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1130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2" marL="2260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3" marL="3394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4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5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6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7010280" y="4951440"/>
            <a:ext cx="5699160" cy="463212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6859440" y="146160"/>
            <a:ext cx="5666040" cy="46069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395280" y="4952880"/>
            <a:ext cx="5692680" cy="46292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32000" y="1370160"/>
            <a:ext cx="357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Light"/>
              </a:rPr>
              <a:t>To:____________________________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2" name=""/>
          <p:cNvSpPr/>
          <p:nvPr/>
        </p:nvSpPr>
        <p:spPr>
          <a:xfrm>
            <a:off x="7902720" y="1370160"/>
            <a:ext cx="3579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Light"/>
              </a:rPr>
              <a:t>To:____________________________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"/>
          <p:cNvSpPr/>
          <p:nvPr/>
        </p:nvSpPr>
        <p:spPr>
          <a:xfrm>
            <a:off x="1452600" y="6053040"/>
            <a:ext cx="357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Light"/>
              </a:rPr>
              <a:t>To:____________________________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"/>
          <p:cNvSpPr/>
          <p:nvPr/>
        </p:nvSpPr>
        <p:spPr>
          <a:xfrm>
            <a:off x="7902720" y="6053040"/>
            <a:ext cx="357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Light"/>
              </a:rPr>
              <a:t>To:____________________________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"/>
          <p:cNvSpPr/>
          <p:nvPr/>
        </p:nvSpPr>
        <p:spPr>
          <a:xfrm>
            <a:off x="1916280" y="44460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duster"/>
                <a:ea typeface="Chalkduster"/>
              </a:rPr>
              <a:t>Say Something Nice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"/>
          <p:cNvSpPr/>
          <p:nvPr/>
        </p:nvSpPr>
        <p:spPr>
          <a:xfrm>
            <a:off x="8250120" y="44460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duster"/>
                <a:ea typeface="Chalkduster"/>
              </a:rPr>
              <a:t>Say Something Nice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"/>
          <p:cNvSpPr/>
          <p:nvPr/>
        </p:nvSpPr>
        <p:spPr>
          <a:xfrm>
            <a:off x="1916280" y="521028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duster"/>
                <a:ea typeface="Chalkduster"/>
              </a:rPr>
              <a:t>Say Something Nice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"/>
          <p:cNvSpPr/>
          <p:nvPr/>
        </p:nvSpPr>
        <p:spPr>
          <a:xfrm>
            <a:off x="8542440" y="531648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duster"/>
                <a:ea typeface="Chalkduster"/>
              </a:rPr>
              <a:t>Say Something Nice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"/>
          <p:cNvSpPr/>
          <p:nvPr/>
        </p:nvSpPr>
        <p:spPr>
          <a:xfrm>
            <a:off x="8415360" y="4138560"/>
            <a:ext cx="2554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Light"/>
              </a:rPr>
              <a:t>From: ________________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"/>
          <p:cNvSpPr/>
          <p:nvPr/>
        </p:nvSpPr>
        <p:spPr>
          <a:xfrm>
            <a:off x="1963800" y="8918640"/>
            <a:ext cx="2555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Light"/>
              </a:rPr>
              <a:t>From: ________________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"/>
          <p:cNvSpPr/>
          <p:nvPr/>
        </p:nvSpPr>
        <p:spPr>
          <a:xfrm>
            <a:off x="8709120" y="8918640"/>
            <a:ext cx="2554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Light"/>
              </a:rPr>
              <a:t>From: ________________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"/>
          <p:cNvSpPr/>
          <p:nvPr/>
        </p:nvSpPr>
        <p:spPr>
          <a:xfrm>
            <a:off x="1963800" y="4275000"/>
            <a:ext cx="2555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Light"/>
              </a:rPr>
              <a:t>From: ________________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