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73533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794376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5841720"/>
            <a:ext cx="1046484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79437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735336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794376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735336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3000"/>
          </a:bodyPr>
          <a:p>
            <a:pPr indent="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1" marL="11304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2" marL="2260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3" marL="33948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4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5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  <a:p>
            <a:pPr lvl="6" marL="452520" algn="ctr">
              <a:buClr>
                <a:srgbClr val="000000"/>
              </a:buClr>
              <a:buFont typeface="Helvetica Light"/>
              <a:buChar char="•"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5841720"/>
            <a:ext cx="104648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880920" y="1268280"/>
          <a:ext cx="11450520" cy="7992720"/>
        </p:xfrm>
        <a:graphic>
          <a:graphicData uri="http://schemas.openxmlformats.org/drawingml/2006/table">
            <a:tbl>
              <a:tblPr/>
              <a:tblGrid>
                <a:gridCol w="2862720"/>
                <a:gridCol w="2862360"/>
                <a:gridCol w="2862720"/>
                <a:gridCol w="2862720"/>
              </a:tblGrid>
              <a:tr h="13316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2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2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2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20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323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Y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50760" marR="5076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" name=""/>
          <p:cNvSpPr/>
          <p:nvPr/>
        </p:nvSpPr>
        <p:spPr>
          <a:xfrm>
            <a:off x="4780080" y="246240"/>
            <a:ext cx="3443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BC organizer</a:t>
            </a: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