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8424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670560"/>
            <a:ext cx="8424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204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53600" y="152100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2280" y="152100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67056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53600" y="367056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2280" y="367056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21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76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4214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521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76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204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70560"/>
            <a:ext cx="8424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8424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70560"/>
            <a:ext cx="8424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204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53600" y="152100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2280" y="152100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7056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53600" y="367056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2280" y="3670560"/>
            <a:ext cx="271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4214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2040" y="367056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2040" y="1521000"/>
            <a:ext cx="4111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670560"/>
            <a:ext cx="8424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1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Bef>
                <a:spcPts val="876"/>
              </a:spcBef>
              <a:buClr>
                <a:srgbClr val="ff6623"/>
              </a:buClr>
              <a:buSzPct val="125000"/>
              <a:buFont typeface="Symbol" charset="2"/>
              <a:buChar char="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29196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8400" indent="-281160">
              <a:spcBef>
                <a:spcPts val="876"/>
              </a:spcBef>
              <a:buClr>
                <a:srgbClr val="ff6623"/>
              </a:buClr>
              <a:buFont typeface="Symbol" charset="2"/>
              <a:buChar char="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1440" indent="-28260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93840" indent="-284040">
              <a:spcBef>
                <a:spcPts val="876"/>
              </a:spcBef>
              <a:buClr>
                <a:srgbClr val="ff6623"/>
              </a:buClr>
              <a:buFont typeface="Symbol" charset="2"/>
              <a:buChar char="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93840" indent="-284040">
              <a:spcBef>
                <a:spcPts val="876"/>
              </a:spcBef>
              <a:buClr>
                <a:srgbClr val="ffffff"/>
              </a:buClr>
              <a:buFont typeface="Symbol" charset="2"/>
              <a:buChar char="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93840" indent="-284040">
              <a:spcBef>
                <a:spcPts val="876"/>
              </a:spcBef>
              <a:buClr>
                <a:srgbClr val="ffffff"/>
              </a:buClr>
              <a:buFont typeface="Symbol" charset="2"/>
              <a:buChar char="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24600"/>
            <a:ext cx="9144000" cy="83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0" b="23265"/>
          <a:stretch/>
        </p:blipFill>
        <p:spPr>
          <a:xfrm>
            <a:off x="6939000" y="6113520"/>
            <a:ext cx="16002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55840" y="2741760"/>
            <a:ext cx="63993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876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42840" algn="ctr">
              <a:spcBef>
                <a:spcPts val="876"/>
              </a:spcBef>
              <a:buClr>
                <a:srgbClr val="ff6623"/>
              </a:buClr>
              <a:buFont typeface="Symbol" charset="2"/>
              <a:buChar char=""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57240" algn="ctr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81000" algn="ctr">
              <a:spcBef>
                <a:spcPts val="876"/>
              </a:spcBef>
              <a:buClr>
                <a:srgbClr val="ff6623"/>
              </a:buClr>
              <a:buFont typeface="Symbol" charset="2"/>
              <a:buChar char=""/>
              <a:tabLst>
                <a:tab algn="l" pos="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810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810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55840" y="2741760"/>
            <a:ext cx="63993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MACIÓN DE PONEN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5680" y="2820960"/>
            <a:ext cx="63975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CÓMO ORGANIZAR LA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H="1" flipV="1" rot="10800000">
            <a:off x="1681560" y="3854520"/>
            <a:ext cx="2111400" cy="1930320"/>
          </a:xfrm>
          <a:custGeom>
            <a:avLst/>
            <a:gdLst>
              <a:gd name="textAreaLeft" fmla="*/ 464040 w 2111400"/>
              <a:gd name="textAreaRight" fmla="*/ 1647360 w 2111400"/>
              <a:gd name="textAreaTop" fmla="*/ 424440 h 1930320"/>
              <a:gd name="textAreaBottom" fmla="*/ 1505880 h 193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82640" y="1910520"/>
            <a:ext cx="2111400" cy="1930680"/>
          </a:xfrm>
          <a:custGeom>
            <a:avLst/>
            <a:gdLst>
              <a:gd name="textAreaLeft" fmla="*/ 464040 w 2111400"/>
              <a:gd name="textAreaRight" fmla="*/ 1647360 w 2111400"/>
              <a:gd name="textAreaTop" fmla="*/ 424440 h 1930680"/>
              <a:gd name="textAreaBottom" fmla="*/ 1506240 h 193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 rot="10800000">
            <a:off x="5577480" y="3854520"/>
            <a:ext cx="2111400" cy="1930320"/>
          </a:xfrm>
          <a:custGeom>
            <a:avLst/>
            <a:gdLst>
              <a:gd name="textAreaLeft" fmla="*/ 464040 w 2111400"/>
              <a:gd name="textAreaRight" fmla="*/ 1647360 w 2111400"/>
              <a:gd name="textAreaTop" fmla="*/ 424440 h 1930320"/>
              <a:gd name="textAreaBottom" fmla="*/ 1505880 h 193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78560" y="1910520"/>
            <a:ext cx="2111400" cy="1930680"/>
          </a:xfrm>
          <a:custGeom>
            <a:avLst/>
            <a:gdLst>
              <a:gd name="textAreaLeft" fmla="*/ 464040 w 2111400"/>
              <a:gd name="textAreaRight" fmla="*/ 1647360 w 2111400"/>
              <a:gd name="textAreaTop" fmla="*/ 424440 h 1930680"/>
              <a:gd name="textAreaBottom" fmla="*/ 1506240 h 193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20960" y="687240"/>
            <a:ext cx="3578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fa Rotis Semisans"/>
              </a:rPr>
              <a:t>HABLAR EN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68560" y="2287440"/>
            <a:ext cx="1368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TA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3360" y="3087720"/>
            <a:ext cx="1958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Saber callarse y escuch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7240" y="2287440"/>
            <a:ext cx="155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EL 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64120" y="3068640"/>
            <a:ext cx="1501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Saber qué de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6560" y="3887640"/>
            <a:ext cx="182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LA ACTIT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5160" y="4954680"/>
            <a:ext cx="1501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Atreverse a deci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30920" y="3887640"/>
            <a:ext cx="1596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LA FO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5040" y="4973760"/>
            <a:ext cx="1444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Decirlo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52560" y="26733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86640" y="26733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3498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349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20760" y="2897280"/>
            <a:ext cx="68547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PARAR, CONSTRUIR Y DESARROLLAR UNA PRESENTACIÓN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gfa Rotis Semisans"/>
              </a:rPr>
              <a:t>EL FO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7360" y="235080"/>
            <a:ext cx="4711680" cy="1358640"/>
          </a:xfrm>
          <a:prstGeom prst="rightArrow">
            <a:avLst>
              <a:gd name="adj1" fmla="val 50000"/>
              <a:gd name="adj2" fmla="val 40572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EL 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560" y="609480"/>
            <a:ext cx="3070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 u="sng">
                <a:solidFill>
                  <a:srgbClr val="fafd00"/>
                </a:solidFill>
                <a:uFillTx/>
                <a:latin typeface="Agfa Rotis Semisans"/>
              </a:rPr>
              <a:t>PLAN DE DESARROLLO </a:t>
            </a:r>
            <a:br>
              <a:rPr sz="2000"/>
            </a:br>
            <a:r>
              <a:rPr b="1" lang="es-ES_tradnl" sz="2000" spc="-1" strike="noStrike" u="sng">
                <a:solidFill>
                  <a:srgbClr val="fafd00"/>
                </a:solidFill>
                <a:uFillTx/>
                <a:latin typeface="Agfa Rotis Semisans"/>
              </a:rPr>
              <a:t>DE LA INTER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Motiv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Obje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DESARRO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Atra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Adap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CONCLU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Resu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Remotiv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Agrade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8360" y="3805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UIÓN DE LA CHAR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2280" y="1220760"/>
            <a:ext cx="51786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Una vez tengamos clar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3873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el objetivo de nuestra charl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3873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el plan de desarrollo de la intervenció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3873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el diseño del guió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19160" y="3495600"/>
            <a:ext cx="407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PLANNING DE LOS 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4421160"/>
            <a:ext cx="491004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88800" indent="-3873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Es el camino a desarrollar para llegar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a nuestro objetivo predefinido ya en la preparació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3873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Nos dice todo lo que debemos hacer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gfa Rotis Semisans"/>
              </a:rPr>
              <a:t>y en qué moment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753920" y="3047760"/>
            <a:ext cx="2514600" cy="2156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753920" y="4114800"/>
            <a:ext cx="2514600" cy="2160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7680" y="2820960"/>
            <a:ext cx="2663640" cy="20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afd00"/>
                </a:solidFill>
                <a:latin typeface="Agfa Rotis Semisans"/>
              </a:rPr>
              <a:t>Tener en cuen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gfa Rotis Semisans"/>
              </a:rPr>
              <a:t>duración de la char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gfa Rotis Semisans"/>
              </a:rPr>
              <a:t>intermedios, brea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gfa Rotis Semisans"/>
              </a:rPr>
              <a:t>medios audiovis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gfa Rotis Semisans"/>
              </a:rPr>
              <a:t>cuándo/para qué temas /qué vamos a utiliz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589200"/>
            <a:ext cx="1066680" cy="228600"/>
          </a:xfrm>
          <a:prstGeom prst="rightArrow">
            <a:avLst>
              <a:gd name="adj1" fmla="val 50000"/>
              <a:gd name="adj2" fmla="val 4793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1295280"/>
            <a:ext cx="4953240" cy="76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36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GU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93920" y="1449360"/>
            <a:ext cx="4986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GUIÓN BASADO EN EL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2287440"/>
            <a:ext cx="5102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Nos dan una información permanente de lo que debemos hacer en cada mom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6600" y="3125880"/>
            <a:ext cx="414828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Se basa 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2743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l tiemp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2743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la activ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88800" indent="-2743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los medios a utiliz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4883040"/>
            <a:ext cx="10540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HO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9160" y="4883040"/>
            <a:ext cx="17398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ACTIV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2880" y="4883040"/>
            <a:ext cx="10540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MED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9160" y="5416560"/>
            <a:ext cx="1739880" cy="97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8360" y="3805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GU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990720"/>
            <a:ext cx="4648320" cy="5331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1033560"/>
            <a:ext cx="4319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GUIÓN BASADO EN EL OBJE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7080" y="1601640"/>
            <a:ext cx="685476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825"/>
              </a:spcBef>
              <a:buClr>
                <a:srgbClr val="fafd00"/>
              </a:buClr>
              <a:buFont typeface="Agfa Rotis Semisans"/>
              <a:buChar char="•"/>
              <a:tabLst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fafd00"/>
                </a:solidFill>
                <a:latin typeface="Agfa Rotis Semisans"/>
              </a:rPr>
              <a:t>Hacer referencia al objetivo de la exposición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563400" indent="-156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introducción: objetivo formal de la charl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563400" indent="-156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desarrollo: desarrollo del mism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563400" indent="-156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conclusión: resumir: “objetivo material”</a:t>
            </a:r>
            <a:br>
              <a:rPr sz="1900"/>
            </a:b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Mensaje que pretendemos que se lleve una vez 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terminada la sesió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825"/>
              </a:spcBef>
              <a:buClr>
                <a:srgbClr val="fafd00"/>
              </a:buClr>
              <a:buFont typeface="Agfa Rotis Semisans"/>
              <a:buChar char="•"/>
              <a:tabLst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fafd00"/>
                </a:solidFill>
                <a:latin typeface="Agfa Rotis Semisans"/>
              </a:rPr>
              <a:t>Un Objetivo, siempre se puede desmenuzar en subobjetivos, necesarios para poder entenderl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563400" indent="-156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gfa Rotis Semisans"/>
              </a:rPr>
              <a:t>Subtemas: desmenuzados en diferentes argumen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7080" y="5486400"/>
            <a:ext cx="220644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gfa Rotis Semisans"/>
              </a:rPr>
              <a:t>OBJETIVO-TEM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9040" y="4802040"/>
            <a:ext cx="3654720" cy="1808280"/>
            <a:chOff x="3659040" y="4802040"/>
            <a:chExt cx="3654720" cy="1808280"/>
          </a:xfrm>
        </p:grpSpPr>
        <p:sp>
          <p:nvSpPr>
            <p:cNvPr id="155" name=""/>
            <p:cNvSpPr/>
            <p:nvPr/>
          </p:nvSpPr>
          <p:spPr>
            <a:xfrm>
              <a:off x="3659040" y="4878360"/>
              <a:ext cx="2206800" cy="16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5000"/>
                </a:lnSpc>
                <a:spcBef>
                  <a:spcPts val="1312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100" spc="-1" strike="noStrike">
                  <a:solidFill>
                    <a:srgbClr val="fafd00"/>
                  </a:solidFill>
                  <a:latin typeface="Agfa Rotis Semisans"/>
                </a:rPr>
                <a:t>Subtema 1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312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100" spc="-1" strike="noStrike">
                  <a:solidFill>
                    <a:srgbClr val="fafd00"/>
                  </a:solidFill>
                  <a:latin typeface="Agfa Rotis Semisans"/>
                </a:rPr>
                <a:t>Subtema 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312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100" spc="-1" strike="noStrike">
                  <a:solidFill>
                    <a:srgbClr val="fafd00"/>
                  </a:solidFill>
                  <a:latin typeface="Agfa Rotis Semisans"/>
                </a:rPr>
                <a:t>Subtema 3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6960" y="4802040"/>
              <a:ext cx="2206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1</a:t>
              </a:r>
              <a:br>
                <a:rPr sz="1200"/>
              </a:b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2</a:t>
              </a:r>
              <a:br>
                <a:rPr sz="1200"/>
              </a:b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6960" y="5411880"/>
              <a:ext cx="2206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1</a:t>
              </a:r>
              <a:br>
                <a:rPr sz="1200"/>
              </a:b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2</a:t>
              </a:r>
              <a:br>
                <a:rPr sz="1200"/>
              </a:b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06960" y="5973840"/>
              <a:ext cx="2206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1</a:t>
              </a:r>
              <a:br>
                <a:rPr sz="1200"/>
              </a:b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2</a:t>
              </a:r>
              <a:br>
                <a:rPr sz="1200"/>
              </a:br>
              <a:r>
                <a:rPr b="0" lang="en-US" sz="1200" spc="-1" strike="noStrike">
                  <a:solidFill>
                    <a:srgbClr val="fafd00"/>
                  </a:solidFill>
                  <a:latin typeface="Agfa Rotis Semisans"/>
                </a:rPr>
                <a:t>Argumento 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29200" y="4933800"/>
              <a:ext cx="146160" cy="381240"/>
              <a:chOff x="5029200" y="4933800"/>
              <a:chExt cx="146160" cy="381240"/>
            </a:xfrm>
          </p:grpSpPr>
          <p:sp>
            <p:nvSpPr>
              <p:cNvPr id="160" name=""/>
              <p:cNvSpPr/>
              <p:nvPr/>
            </p:nvSpPr>
            <p:spPr>
              <a:xfrm>
                <a:off x="5029200" y="4940280"/>
                <a:ext cx="0" cy="36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35680" y="493380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35680" y="531504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029200" y="5543640"/>
              <a:ext cx="146160" cy="380880"/>
              <a:chOff x="5029200" y="5543640"/>
              <a:chExt cx="14616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5029200" y="5549760"/>
                <a:ext cx="0" cy="36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35680" y="554364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35680" y="592452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029200" y="6105600"/>
              <a:ext cx="146160" cy="380880"/>
              <a:chOff x="5029200" y="6105600"/>
              <a:chExt cx="146160" cy="380880"/>
            </a:xfrm>
          </p:grpSpPr>
          <p:sp>
            <p:nvSpPr>
              <p:cNvPr id="168" name=""/>
              <p:cNvSpPr/>
              <p:nvPr/>
            </p:nvSpPr>
            <p:spPr>
              <a:xfrm>
                <a:off x="5029200" y="6111720"/>
                <a:ext cx="0" cy="36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35680" y="610560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35680" y="648648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921200" y="5114880"/>
              <a:ext cx="21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21200" y="5724360"/>
              <a:ext cx="21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21200" y="6286680"/>
              <a:ext cx="21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05320" y="5143680"/>
            <a:ext cx="145800" cy="1143000"/>
            <a:chOff x="3505320" y="5143680"/>
            <a:chExt cx="145800" cy="1143000"/>
          </a:xfrm>
        </p:grpSpPr>
        <p:sp>
          <p:nvSpPr>
            <p:cNvPr id="175" name=""/>
            <p:cNvSpPr/>
            <p:nvPr/>
          </p:nvSpPr>
          <p:spPr>
            <a:xfrm>
              <a:off x="3505320" y="5149800"/>
              <a:ext cx="0" cy="113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11440" y="51436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11440" y="62866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435480" y="571500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2040" y="45684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A S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0760" y="1068480"/>
            <a:ext cx="70088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gfa Rotis Semisans"/>
              <a:buChar char="•"/>
              <a:tabLst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fa Rotis Semisans"/>
              </a:rPr>
              <a:t>Es un sistema de ordenación de las diferentes partes del objetivo ini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gfa Rotis Semisans"/>
              <a:buChar char="•"/>
              <a:tabLst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fa Rotis Semisans"/>
              </a:rPr>
              <a:t>En una sola hoja se puede tener la planificación de la exposición, independientemente del tiempo que dure é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9680" y="3130560"/>
            <a:ext cx="3187440" cy="977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OBJETIVO INICI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7339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2680" y="3408480"/>
            <a:ext cx="2054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DEA FUERZA 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8560" y="3408480"/>
            <a:ext cx="213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DEA FUERZA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0440" y="4726080"/>
            <a:ext cx="1901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DEA FUERZA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30440" y="2058840"/>
            <a:ext cx="1978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DEA FUERZA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97240" y="2432160"/>
            <a:ext cx="292320" cy="622080"/>
            <a:chOff x="4197240" y="2432160"/>
            <a:chExt cx="292320" cy="622080"/>
          </a:xfrm>
        </p:grpSpPr>
        <p:sp>
          <p:nvSpPr>
            <p:cNvPr id="188" name=""/>
            <p:cNvSpPr/>
            <p:nvPr/>
          </p:nvSpPr>
          <p:spPr>
            <a:xfrm flipV="1">
              <a:off x="4343400" y="2432160"/>
              <a:ext cx="0" cy="62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7240" y="2771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7240" y="30481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9880" y="28954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573440" y="2697120"/>
            <a:ext cx="1978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Línea argum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26040" y="361944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203200" y="36194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41972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7080" y="5106960"/>
            <a:ext cx="6854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337"/>
              </a:spcBef>
              <a:buClr>
                <a:srgbClr val="fafd00"/>
              </a:buClr>
              <a:buFont typeface="Agfa Rotis Semisans"/>
              <a:buChar char="•"/>
              <a:tabLst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fa Rotis Semisans"/>
              </a:rPr>
              <a:t>Los “argumentos” explican cada idea fuer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337"/>
              </a:spcBef>
              <a:buClr>
                <a:srgbClr val="fafd00"/>
              </a:buClr>
              <a:buFont typeface="Agfa Rotis Semisans"/>
              <a:buChar char="•"/>
              <a:tabLst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gfa Rotis Semisans"/>
              </a:rPr>
              <a:t>A cada línea Argumental le asignamos “ un tiempo de exposición” segú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563400" indent="-26964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la importancia de ese sistema para la char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563400" indent="-26964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17683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el tiempo total de la expos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204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LINTERNA MÁGICA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754280"/>
            <a:ext cx="8226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nterrogarse sobre cada uno de los polos y su relación al preparar nuestro dis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5840" y="2706840"/>
            <a:ext cx="159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AUDI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9760" y="2706840"/>
            <a:ext cx="1444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EL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354480"/>
            <a:ext cx="2894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862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Quiénes son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354480"/>
            <a:ext cx="3579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862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Está de actualidad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6840" y="3124080"/>
            <a:ext cx="265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54440" y="31240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9280" y="4800600"/>
            <a:ext cx="333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Cómo me perciben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2800" y="4267080"/>
            <a:ext cx="2427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Expectativa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" y="3809880"/>
            <a:ext cx="2545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spcBef>
                <a:spcPts val="862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Nivel cultural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4267080"/>
            <a:ext cx="3657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33360" indent="-33192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Qué conoce el auditorio de dicho tema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9560" y="3809880"/>
            <a:ext cx="5122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Cuál es mi nivel de competencia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204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LINTERNA MÁGICA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5840" y="2021040"/>
            <a:ext cx="1978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EL CON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9760" y="202104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U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5840" y="2592360"/>
            <a:ext cx="296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2013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En qué disposición estará el auditorio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2592360"/>
            <a:ext cx="395928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2013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Cuál es mi grado de implicación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6840" y="2438280"/>
            <a:ext cx="265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54440" y="2438280"/>
            <a:ext cx="349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5600" y="3505320"/>
            <a:ext cx="327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Cuál es mi postura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61400" y="4662360"/>
            <a:ext cx="4415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Cómo percibo a mi público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6840" y="4114800"/>
            <a:ext cx="3274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Qué puedo perder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64720" y="3505320"/>
            <a:ext cx="297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afd00"/>
                </a:solidFill>
                <a:latin typeface="Agfa Rotis Semisans"/>
              </a:rPr>
              <a:t>¿Qué voy a ganar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658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MIEDO INICIAL: Cómo superar el “Trac”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6960" y="1366920"/>
            <a:ext cx="7095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ÓMO APROVECHAR EL TRAC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281320"/>
            <a:ext cx="503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08080" indent="-20664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epararse el fondo y la for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2507400" y="5263560"/>
            <a:ext cx="1379520" cy="1332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4320" y="4702320"/>
            <a:ext cx="4505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Condición física, vestimenta cómoda, conocimiento de la sala, probar medios audiovisu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81200" y="51465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06280" indent="-2048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Ulti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92920" y="3886200"/>
            <a:ext cx="37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 indent="-18900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Visualizar la pres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94000" y="3322800"/>
            <a:ext cx="38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06280" indent="-2048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Utilizar la auto persuas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4680" y="2757600"/>
            <a:ext cx="180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 indent="-18900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trenar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2040" y="837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PORTES VERBALES PARA LA EXPOSI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8680" y="2058840"/>
            <a:ext cx="296856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Explicación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Comparación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Ilustración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Estadística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Opinión Exp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416560" y="4883040"/>
            <a:ext cx="3340080" cy="1130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2040" y="837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PORTES VERBALES PARA LA EXPOSI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8640" y="2058840"/>
            <a:ext cx="4264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XPLIC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Describir la relación que existe entre determinados pu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larifica la definición de un término o palab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mparte instrucciones sobre cómo hacer algo o sobre cómo llegar a alguna par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1880" y="2058840"/>
            <a:ext cx="327348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RECUERDE; DEBE S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Específica, pero bre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Utilizada sólo a efectos de clarificación, no de justific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6026040" y="4425840"/>
            <a:ext cx="204480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7840" y="4954680"/>
            <a:ext cx="3349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Si se utilizan con demasiada frecuencia, las presentaciones pueden carecer de inter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641480" y="1835280"/>
            <a:ext cx="469800" cy="425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2040" y="837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9880" y="1752480"/>
            <a:ext cx="7235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Se utiliza para demostrar las semejanzas o diferencias entre alg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7168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que los oyentes sab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7168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que no sab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9880" y="3505320"/>
            <a:ext cx="723564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Hay dos tipos de comparacione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43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LITERALES: semejanzas o diferencias entre dos o más elementos de la misma clase o categoría</a:t>
            </a:r>
            <a:br>
              <a:rPr sz="2200"/>
            </a:b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Ej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317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2 Estilos de dire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317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Venta de 2 Empresas riv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3175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2 Campañas de public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43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2040" y="837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9880" y="1830240"/>
            <a:ext cx="723564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55404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FIGURATIVAS: semejanzas o diferencias entre dos o más elementos pertenecientes a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clases o categorías diferentes</a:t>
            </a:r>
            <a:br>
              <a:rPr sz="2200"/>
            </a:b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Ej: empuje competitivo de un vendedor</a:t>
            </a:r>
            <a:br>
              <a:rPr sz="2200"/>
            </a:b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empuje de un animal hambri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RECUER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deben relacionar algo que la audiencia no conoce o comprende con algo que conoce o compren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deben adaptarse al marco de referencia de una audiencia en particul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medio útil para añadir interé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se utilizan para clarific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953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2040" y="837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USTRACIÓN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8480" y="1830240"/>
            <a:ext cx="723564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 una narración o historia que se cuenta con detalles tan vividos que es equiparable a una imagen para el oyent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ueden s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FACTUALES: narración pormenorizada relativa 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296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ui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296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296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ún acontecimiento que haya tenido lug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HIPOTÉTICAS: narración pormenorizada sobr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296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uien que podría exist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876240" indent="-296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ún acontecimiento que podría suce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8480" y="1830240"/>
            <a:ext cx="723564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 crear o inventar algo que se adapte a una situación concret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upongan.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¿Qué haría usted....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CUERD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ben s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ormenorizadas y vivid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040" indent="-26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scribir una imagen a la audien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e utilizan en las introducciones para llamar la atención y conseguir que la audiencia se involucre personalm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06080" y="86508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PORTES VERBALES PARA LA EXPOS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9760" y="76176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5680" y="2058840"/>
            <a:ext cx="69310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Son breves</a:t>
            </a:r>
            <a:br>
              <a:rPr sz="2200"/>
            </a:b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Se utilizan a efectos de clarificación y justificación si se utilizan varios</a:t>
            </a:r>
            <a:br>
              <a:rPr sz="2200"/>
            </a:b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047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Se suelen utilizar después de una ilustración factual, con el fin de añadir justificación adicional a la ilustr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7840" y="761760"/>
            <a:ext cx="7791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ADÍST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7080" y="2744640"/>
            <a:ext cx="6626160" cy="25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on números que se utilizan para mostrar las relaciones que existen entre element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Utilizadas correctamente pueden clasifica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Utilizadas incorrectamente pueden confundir y aburr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7840" y="761760"/>
            <a:ext cx="7791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TADÍSTICAS (Cont.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7080" y="2135160"/>
            <a:ext cx="662616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glas de utiliz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Que sean significativas: relacionarlas con los marcos de referencia de los oyentes (algo familiar), es decir, añadir una o más aclara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limine cualquier estadística que no sea absolutamente necesa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dondee las estadísticas a un nº que los oyentes puedan recordar con facil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muestre credibilidad, citando fu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7840" y="761760"/>
            <a:ext cx="7791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INIÓN EXPER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754280"/>
            <a:ext cx="761688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Ideas de otra persona (un experto en la materia), bien sea “parafraseadas” o citadas directamente por el presentad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 un medio de clarificar y justificar su pres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GL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ite el nombre del Exper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scriba brevemente las cualificaciones del experto (si los oyentes las desconoce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ite brevemente dónde y cuándo el experto facilitó esa inform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ítese como si el experto estuviese hablando, no leerse con voz aburrida o monóto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658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MIEDO INICIAL: Cómo superar el “Trac”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66960" y="1366920"/>
            <a:ext cx="7095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ÓMO NOS PONEMOS ANSIOS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2000" y="2281320"/>
            <a:ext cx="7248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svalorizando mi capacidad de resolver proble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Viendo una situación anterior estresante, y pensando que la próxima será igu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senganchándome de la situación presente, no teniendo los pies en el sue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3040" y="3354480"/>
            <a:ext cx="6321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gfa Rotis Semisans"/>
              </a:rPr>
              <a:t>PRESENTACIONES INFORMATI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7960" y="763560"/>
            <a:ext cx="5711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SENTACIONES INFORMA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8480" y="1982880"/>
            <a:ext cx="7083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30348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6094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Su objetivo es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: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 </a:t>
            </a:r>
            <a:r>
              <a:rPr b="0" i="1" lang="en-US" sz="2200" spc="-1" strike="noStrike">
                <a:solidFill>
                  <a:srgbClr val="fafd00"/>
                </a:solidFill>
                <a:latin typeface="Agfa Rotis Semisans"/>
              </a:rPr>
              <a:t>aumentar la compresión y NO modificar una actitud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094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gfa Rotis Semisans"/>
              </a:rPr>
              <a:t>(1)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omunicar ideas y propuestas en sentido ascendente a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os superiores y en sentido horizontal a los compañer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094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gfa Rotis Semisans"/>
              </a:rPr>
              <a:t>(2)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esentar información o demostrar el uso de un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oducto a  los cli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6094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a mayoría son de índole inform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8480" y="763560"/>
            <a:ext cx="715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Agfa Rotis Semisans"/>
              </a:rPr>
              <a:t>PRESENTACIONES INFORMATIVAS (Cont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830240"/>
            <a:ext cx="33494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TIPOS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unión informativa oral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l informe o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4840" y="1754280"/>
            <a:ext cx="434052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Presenta un resumen de 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hechos en poco tiempo (15 ss. o 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men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Dirigida a 1 individuo/gru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Muchas son informales (poner al 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corr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Las “formales” (situación de un 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proyecto concre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4840" y="4649760"/>
            <a:ext cx="4111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Presenta detalles completos 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(superior a 15 ss.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9536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de investig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9536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analí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9536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afd00"/>
                </a:solidFill>
                <a:latin typeface="Agfa Rotis Semisans"/>
              </a:rPr>
              <a:t>demo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14800" y="1962000"/>
            <a:ext cx="146160" cy="2057400"/>
            <a:chOff x="4114800" y="1962000"/>
            <a:chExt cx="146160" cy="2057400"/>
          </a:xfrm>
        </p:grpSpPr>
        <p:sp>
          <p:nvSpPr>
            <p:cNvPr id="255" name=""/>
            <p:cNvSpPr/>
            <p:nvPr/>
          </p:nvSpPr>
          <p:spPr>
            <a:xfrm>
              <a:off x="4114800" y="1968480"/>
              <a:ext cx="0" cy="204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21280" y="19620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21280" y="401940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114800" y="4857840"/>
            <a:ext cx="146160" cy="1403280"/>
            <a:chOff x="4114800" y="4857840"/>
            <a:chExt cx="146160" cy="1403280"/>
          </a:xfrm>
        </p:grpSpPr>
        <p:sp>
          <p:nvSpPr>
            <p:cNvPr id="259" name=""/>
            <p:cNvSpPr/>
            <p:nvPr/>
          </p:nvSpPr>
          <p:spPr>
            <a:xfrm>
              <a:off x="4114800" y="4863960"/>
              <a:ext cx="0" cy="139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21280" y="48578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1280" y="626112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892680" y="30862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92680" y="558180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77960" y="611280"/>
            <a:ext cx="57117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CARACTERÍSTICAS DE LAS PRESENTACIONES INFORMA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560" y="1905120"/>
            <a:ext cx="79218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PRECISIÓN: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Informar sobre la situación tal como es o f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BJETIVIDAD: Informar sobre los hechos de la situación, y no sobre los propios sentimientos en relación con los hech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OMPLETA: Hechos pertin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5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ELECTIVA: Sólo hechos pertin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IMPARCIALIDAD: Informar sobre todas las facetas de los hech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5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INTERPRETACIÓN: Proporcionar al lector (u oyente) significado básico para su comprensión. Sacar conclusiones, demostrar “a dónde queremos llega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16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6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LARIDAD: Explic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677960" y="687240"/>
            <a:ext cx="57117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PARACIÓN PRESENTACIONES INFORMA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8480" y="2287440"/>
            <a:ext cx="616896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SEIS PASOS A SEGUIR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Determine el tema gen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Analice a sus oyentes potencial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Plasme por escrito su propósito en una frase clara y sencilla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4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Planifique el núcleo de la pres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1360" y="4573440"/>
            <a:ext cx="25113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Punto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Ideas de apo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Soportes verbal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y visu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31000" y="4743360"/>
            <a:ext cx="129960" cy="933480"/>
            <a:chOff x="5931000" y="4743360"/>
            <a:chExt cx="129960" cy="933480"/>
          </a:xfrm>
        </p:grpSpPr>
        <p:sp>
          <p:nvSpPr>
            <p:cNvPr id="270" name=""/>
            <p:cNvSpPr/>
            <p:nvPr/>
          </p:nvSpPr>
          <p:spPr>
            <a:xfrm>
              <a:off x="5931000" y="4749840"/>
              <a:ext cx="0" cy="9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37120" y="4743360"/>
              <a:ext cx="12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37120" y="5676840"/>
              <a:ext cx="12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797440" y="52005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7960" y="687240"/>
            <a:ext cx="57117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Agfa Rotis Semisans"/>
              </a:rPr>
              <a:t>PREPARACIÓN PRESENTACIONES INFORMATIVAS (Cont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4080" y="1754280"/>
            <a:ext cx="85312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SEIS PASOS A SEGUIR</a:t>
            </a: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5.</a:t>
            </a: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Prepare la introducción y la conclu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gfa Rotis Semisans"/>
              </a:rPr>
              <a:t>Introducción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gfa Rotis Semisans"/>
              </a:rPr>
              <a:t>Conclu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462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gfa Rotis Semisans"/>
              <a:buChar char="•"/>
              <a:tabLst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Captar la atención de los oyentes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Resu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462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gfa Rotis Semisans"/>
              <a:buChar char="•"/>
              <a:tabLst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Motivarlos: beneficio que les aportará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Reflexión final o desafío: m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462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gfa Rotis Semisans"/>
              <a:buChar char="•"/>
              <a:tabLst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Convencerles de su cual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462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gfa Rotis Semisans"/>
              <a:buChar char="•"/>
              <a:tabLst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xplicar el propósito de la presentació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Practique con sus notas y ayudas audiovisu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462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gfa Rotis Semisans"/>
              <a:buChar char="•"/>
              <a:tabLst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Si es posible grabe su presentación en cassette o en víd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462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gfa Rotis Semisans"/>
              <a:buChar char="•"/>
              <a:tabLst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Prevea los tipos de preguntas que su audiencia pudiera plant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77960" y="534960"/>
            <a:ext cx="5711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¿CÓMO SE CAPTA LA ATENCIÓN DEL OYEN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60" y="1600200"/>
            <a:ext cx="86076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3334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l propósito es desviar la atención de las preocupaciones y pensamientos individuales, hacia su presentació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6360" y="5743440"/>
            <a:ext cx="78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7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Demuestre brevemente el punto o habilidad que tiene previsto tratar en su pres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720360" y="5286240"/>
            <a:ext cx="1062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6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ite o parafrasee una publicación o a un experto de reconocido prestig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698040" y="4799160"/>
            <a:ext cx="104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5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Haga referencia a una ocasión específica o al motivo de su pres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640800" y="4341960"/>
            <a:ext cx="987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4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Haga un recuento detallado de un acontecimiento real o hipotét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612000" y="3884760"/>
            <a:ext cx="942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uente un chiste o historia humorística relacionada con el te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1359720" y="2970360"/>
            <a:ext cx="11882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Formule: 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una pregunta retórica (hacer pensar más que responde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7600" indent="-103032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una pregunta real (para que conteste un oyente entre el grup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426600" y="2436840"/>
            <a:ext cx="636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4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Revele uno o más hechos sorprend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8760" y="2216160"/>
            <a:ext cx="8826480" cy="4102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4440" y="382680"/>
            <a:ext cx="7159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STRATEGIAS PARA ABORDAR CON ACIERTO DIFERENTES TIPOS DE AUDI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60" y="1544760"/>
            <a:ext cx="5330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strategias para abordar con acierto los cuatro tipos de aud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0040" y="2363760"/>
            <a:ext cx="2283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Tipos de aud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8680" y="2363760"/>
            <a:ext cx="1673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26080" y="2363760"/>
            <a:ext cx="1673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Pres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30840" y="2363760"/>
            <a:ext cx="235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Material de so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0040" y="2973240"/>
            <a:ext cx="220680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gfa Rotis Semisans"/>
              </a:rPr>
              <a:t>“</a:t>
            </a:r>
            <a:r>
              <a:rPr b="0" lang="en-US" sz="1600" spc="-1" strike="noStrike">
                <a:solidFill>
                  <a:srgbClr val="fafd00"/>
                </a:solidFill>
                <a:latin typeface="Agfa Rotis Semisans"/>
              </a:rPr>
              <a:t>Le quiere”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(amistosa, predispuesta a que les guste y su tem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“Piensa que es imparcial”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(se consideran sosegados y racionales: ya han decidido, pero piensan que son objetiv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6040" y="2973240"/>
            <a:ext cx="220680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Cualquier patrón; trate algo nuevo; pida la participación de la audiencia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Presente ambas facetas de la cuestión; patrones de pros y contras o de solución de problemas. Prevea tiempo para responder las preguntas de la audi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6080" y="2973240"/>
            <a:ext cx="19778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Cálida, amistosa, franca; buena dosis de contacto visual, sonrisas, gestos y variedad voca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Controlada, apacible, nada “vistosa”, segura, gestos med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3480" y="2973240"/>
            <a:ext cx="228276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Humor, ejemplos, experiencias personal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Hechos, estadísticas, opinión experta, comparación y contraste. Evite el humor, las historias personales y las ilustr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8760" y="2743200"/>
            <a:ext cx="8826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216160"/>
            <a:ext cx="0" cy="4102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216160"/>
            <a:ext cx="0" cy="4102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48480" y="2216160"/>
            <a:ext cx="0" cy="4102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21360" y="1849320"/>
            <a:ext cx="1368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strate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8760" y="2139840"/>
            <a:ext cx="8826480" cy="440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5840" y="611280"/>
            <a:ext cx="74646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Agfa Rotis Semisans"/>
              </a:rPr>
              <a:t>ESTRATEGIAS PARA ABORDAR CON ACIERTO DIFERENTES TIPOS DE AUDIENCIA (Cont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0040" y="2135160"/>
            <a:ext cx="2283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Tipos de aud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8680" y="2135160"/>
            <a:ext cx="1673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6080" y="2135160"/>
            <a:ext cx="1673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Pres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30840" y="2135160"/>
            <a:ext cx="235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gfa Rotis Semisans"/>
              </a:rPr>
              <a:t>Material de so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4080" y="2516040"/>
            <a:ext cx="228276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No podría ser más indiferente” (atención de corta duración, presentes contra su voluntad”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“No la quiere” (buscan oportunidades de interrumpir al presentador o ridiculizarlo, emo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82840" y="2516040"/>
            <a:ext cx="234000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Breve- no más de tres puntos: evite patrones temáticos o de pros y contras, que son logro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en opinión de la audiencia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Patrón no polémico, como temático, cronológico o geográf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11600" y="2516040"/>
            <a:ext cx="211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Dinámica y entretenida, circule, grandes gestos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Sosegada y controlada. Hable lenta y apaciblem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83480" y="2516040"/>
            <a:ext cx="2282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gfa Rotis Semisans"/>
              </a:rPr>
              <a:t>Humor, viñetas, ilustraciones animadas, citas impactantes, estadísticas sorpren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gfa Rotis Semisans"/>
              </a:rPr>
              <a:t>Datos objetivos y opinión experta. Evite anécdotas y chis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81400" y="2139840"/>
            <a:ext cx="0" cy="4407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648320" y="2139840"/>
            <a:ext cx="2000160" cy="1816200"/>
            <a:chOff x="4648320" y="2139840"/>
            <a:chExt cx="2000160" cy="1816200"/>
          </a:xfrm>
        </p:grpSpPr>
        <p:sp>
          <p:nvSpPr>
            <p:cNvPr id="314" name=""/>
            <p:cNvSpPr/>
            <p:nvPr/>
          </p:nvSpPr>
          <p:spPr>
            <a:xfrm>
              <a:off x="4648320" y="2139840"/>
              <a:ext cx="0" cy="181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48480" y="2139840"/>
              <a:ext cx="0" cy="181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021360" y="1773360"/>
            <a:ext cx="1368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strate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48320" y="4883040"/>
            <a:ext cx="2000160" cy="1663920"/>
            <a:chOff x="4648320" y="4883040"/>
            <a:chExt cx="2000160" cy="1663920"/>
          </a:xfrm>
        </p:grpSpPr>
        <p:sp>
          <p:nvSpPr>
            <p:cNvPr id="318" name=""/>
            <p:cNvSpPr/>
            <p:nvPr/>
          </p:nvSpPr>
          <p:spPr>
            <a:xfrm>
              <a:off x="4648320" y="4883040"/>
              <a:ext cx="0" cy="166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48480" y="4883040"/>
              <a:ext cx="0" cy="166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347920" y="4038480"/>
            <a:ext cx="6642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fa Rotis Semisans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: Oscurezca la habitación permanezca inmóvil detrás del estrado, distribuya material entre los participantes, no espere que la audiencia partici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4440" y="3962520"/>
            <a:ext cx="4330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54440" y="4876920"/>
            <a:ext cx="4330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3680" y="1682640"/>
            <a:ext cx="4559040" cy="478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2160" y="1816200"/>
            <a:ext cx="273996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STILO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Natu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Frases concis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ers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VITAR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edanter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bstr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enguaje parási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35680" y="768240"/>
            <a:ext cx="3568680" cy="577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afd00"/>
                </a:solidFill>
                <a:uFillTx/>
                <a:latin typeface="Agfa Rotis Semisans"/>
              </a:rPr>
              <a:t>EL LENGUAJE VER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Cla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F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RE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VOCABUL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Preci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Vi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Adap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3680" y="235080"/>
            <a:ext cx="4330440" cy="1358640"/>
          </a:xfrm>
          <a:prstGeom prst="rightArrow">
            <a:avLst>
              <a:gd name="adj1" fmla="val 50000"/>
              <a:gd name="adj2" fmla="val 3728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LA FO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658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MIEDO INICIAL: Cómo superar el “Trac” (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366920"/>
            <a:ext cx="7095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ÓMO MOVILIZAMOS NUESTRA “ENERGÍ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281320"/>
            <a:ext cx="693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umerar mis recuerdos y capacidades: Puntos fuer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352440" y="4800600"/>
            <a:ext cx="86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6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Reapropiarme de mi propio poder: “valorar mi autoridad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28440" y="4267080"/>
            <a:ext cx="44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5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Relativizar: desdramatiz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62520" y="3763800"/>
            <a:ext cx="87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33360" indent="-331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gancharme al mundo actual: “tener los pies en la tierra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403560" y="3276720"/>
            <a:ext cx="913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spirar tres veces de modo profundo: “Relajar los músculo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00880" y="2743200"/>
            <a:ext cx="65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01680" indent="-300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Buscar un recuerdo agradable: Mis éxi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3680" y="1682640"/>
            <a:ext cx="4559040" cy="486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3720" y="1816200"/>
            <a:ext cx="479772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L LENGUAJE CORPORAL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“El animador es el primer audiovisual”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17520" indent="-3160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vitar gestos parásito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17520" indent="-3160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enguaje del cuerpo como apoy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77880" indent="-358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a mir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77880" indent="-358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a postu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77880" indent="-358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os gestos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17520" indent="-31608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ómo hacer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77880" indent="-358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comodar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77880" indent="-358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Mirar al público en conju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77880" indent="-3589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ctitud natu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5680" y="768240"/>
            <a:ext cx="3568680" cy="577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afd00"/>
                </a:solidFill>
                <a:uFillTx/>
                <a:latin typeface="Agfa Rotis Semisans"/>
              </a:rPr>
              <a:t>EL MIEDO A HABLAR EN PÚBLICO: “EL TRAC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Saber por qué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Luchar contra el mied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Miedos a evit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Falta de prepa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Desconocimiento 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técnicas de comun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xperiencias neg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Miedos a guard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Respons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Temor a aburrir y can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592200" indent="-185760">
              <a:lnSpc>
                <a:spcPct val="100000"/>
              </a:lnSpc>
              <a:tabLst>
                <a:tab algn="l" pos="0"/>
                <a:tab algn="l" pos="487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Tomar la palab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235080"/>
            <a:ext cx="4330440" cy="1358640"/>
          </a:xfrm>
          <a:prstGeom prst="rightArrow">
            <a:avLst>
              <a:gd name="adj1" fmla="val 50000"/>
              <a:gd name="adj2" fmla="val 3728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LA ACTIT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63680" y="1682640"/>
            <a:ext cx="4559040" cy="486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360" y="1968480"/>
            <a:ext cx="35370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fa Rotis Semisans"/>
              </a:rPr>
              <a:t>SABER CALLARS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17520" indent="-2030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El tiempo no es nuestr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17520" indent="-2030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Mayor disponibilidad del que escuch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17520" indent="-20304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Efecto del cansan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35680" y="768240"/>
            <a:ext cx="3568680" cy="577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fafd00"/>
                </a:solidFill>
                <a:uFillTx/>
                <a:latin typeface="Agfa Rotis Semisans"/>
              </a:rPr>
              <a:t>TALANTE PEDAG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HUIR DEL MONÓLOGO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Concentrarse en la relación con el aud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Saber improvi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Ser creativo y utilizar su personalida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200" indent="-212760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HABLAR BUSCANDO RESPUEST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De comprensió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y asimi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614520" indent="-195480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04640" indent="-188640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De convencimient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y acep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614520" indent="-195480">
              <a:lnSpc>
                <a:spcPct val="100000"/>
              </a:lnSpc>
              <a:tabLst>
                <a:tab algn="l" pos="0"/>
                <a:tab algn="l" pos="677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3680" y="235080"/>
            <a:ext cx="4330440" cy="1358640"/>
          </a:xfrm>
          <a:prstGeom prst="rightArrow">
            <a:avLst>
              <a:gd name="adj1" fmla="val 50000"/>
              <a:gd name="adj2" fmla="val 3728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EL TA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73040" y="2363760"/>
            <a:ext cx="6321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gfa Rotis Semisans"/>
              </a:rPr>
              <a:t>CÓMO AFIRMARSE, CONVENCER Y PERSUAD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2895480" y="3809880"/>
            <a:ext cx="3276720" cy="15264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37000" y="4235400"/>
            <a:ext cx="19936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35892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LA FO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LA ACTIT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EL TA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73040" y="2744640"/>
            <a:ext cx="6321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gfa Rotis Semisans"/>
              </a:rPr>
              <a:t>CÓMO MEJORAR EL MODO DE EXPRES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73040" y="687240"/>
            <a:ext cx="6626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LENGUAJE CORPORAL NO VERBAL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1373040"/>
            <a:ext cx="7692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970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A. EL LENGUAJE DEL CUERPO COMO BARRERA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PARA LA COMUNIC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297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l animador es el primer audiovisual: no sólo se le oye, también se le 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297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unos gestos “parásitos” (que no refuerzan o ayudan a percibir lo que se dic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3583080"/>
            <a:ext cx="987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DE P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2160" y="4040280"/>
            <a:ext cx="5864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Manos en bolsil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Manos en las cader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Bascular de un pie a otr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Movimientos de los pies in sit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Desplazamiento de un lado a otr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Apoyarse en la silla, en la m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918040" y="3273480"/>
          <a:ext cx="1754280" cy="30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18040" y="3273480"/>
                    <a:ext cx="17542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73040" y="687240"/>
            <a:ext cx="6778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LENGUAJE CORPORAL NO VERBAL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1297080"/>
            <a:ext cx="1293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SENT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2160" y="1754280"/>
            <a:ext cx="45687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abeza apoyada en una ma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Brazos debajo de la m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Balanceo de hombr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Balancearse de adelante hacia atrá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3811680"/>
            <a:ext cx="2739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N AMBOS CA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2160" y="4268880"/>
            <a:ext cx="50259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redar con el bolígrafo las notas, las llaves, las gafas, el relo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ascarse la cabeza, frotarse la nari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Manos delante de la bo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Morderse los lab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245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Mirar el relo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220760" y="687240"/>
            <a:ext cx="6854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LENGUAJE CORPORAL NO VERBAL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1373040"/>
            <a:ext cx="7692840" cy="21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970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B. EL LENGUAJE DEL CUERPO COMO APOYO Y COMPLEM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297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Nuestra imagen es también un med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297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e trata de establecer y conservar el contacto con el audito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3125880"/>
            <a:ext cx="1901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245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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LA MIR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2160" y="3583080"/>
            <a:ext cx="632160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l contacto visual debe establecerse antes que el auditiv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Repartir la mirada por todo el grupo antes de empezar a hablar y durante todo el desarrollo de mi comunicació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Ello supon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mirar a todos, al menos alguna ve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percibir la reacción de cada u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20760" y="687240"/>
            <a:ext cx="6931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LENGUAJE CORPORAL NO VERBAL (I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2160" y="1677960"/>
            <a:ext cx="213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245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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LA POSTU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3040" y="2287440"/>
            <a:ext cx="670248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35892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La forma de estar y presentarse debe estar de acuerdo, con lo que queremos deci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Debe ser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digna (respeto ante el grupo y papel que desempeñamo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variab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natural (la naturalidad abre las puertas de la comunicación, serena y relaja los ánimo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373040" y="611280"/>
            <a:ext cx="6702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LENGUAJE CORPORAL NO VERBAL (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8640" y="1373040"/>
            <a:ext cx="213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245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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1" lang="en-US" sz="2200" spc="-1" strike="noStrike">
                <a:solidFill>
                  <a:srgbClr val="ffffff"/>
                </a:solidFill>
                <a:latin typeface="Agfa Rotis Semisans"/>
              </a:rPr>
              <a:t>LOS GES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560" y="1982880"/>
            <a:ext cx="784548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60360" indent="-35892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Son “la sal del lenguaje”. Sin gestos la expresión no es human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Expresamos con todo nuestro cuerpo, pero fundamentalmente con: manos, rostro, brazos, movimientos de cabeza y hombr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358920">
              <a:lnSpc>
                <a:spcPct val="100000"/>
              </a:lnSpc>
              <a:spcBef>
                <a:spcPts val="862"/>
              </a:spcBef>
              <a:buClr>
                <a:srgbClr val="ffffff"/>
              </a:buClr>
              <a:buFont typeface="Agfa Rotis Semisans"/>
              <a:buChar char="•"/>
              <a:tabLst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Deben ser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Visibles: no esbozad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Amplios: estamos  ante un grupo y es necesario que se perciban con toda cla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400320"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6392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gfa Rotis Semisans"/>
              </a:rPr>
              <a:t>Selectivos: empleados con mesura. El exceso de gestos satura al auditorio, distraen e irrita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606680" y="5264280"/>
            <a:ext cx="6311880" cy="901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7080" y="611280"/>
            <a:ext cx="67784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LENGUAJE CORPORAL NO VERBAL (V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28600" y="1851120"/>
            <a:ext cx="70232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C. ¿CÓMO LOGRARLO EN LA PRÁCTIC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655560" indent="-268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Acomodarse Ud. debidam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655560" indent="-268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Mire al público en su conju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655560" indent="-268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Haga que el auditorio esté a gus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655560" indent="-268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4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Elimine todo lo que pueda distraer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655560" indent="-268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5.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rta de una actitud sencilla y acepte los movimientos espontáne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7960" y="5335560"/>
            <a:ext cx="63975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“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Piense más en el “tono”, de acuerdo con la idea que expresa, que en el gesto que hay que hace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658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CONTROL DE LOS NERV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66920" y="1434960"/>
            <a:ext cx="702000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CONSEJOS PREV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Olvídate de la memoria y de la le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Son muy importantes los dos primeros segu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s muy importante la “conclusión” de la char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Prepara bien la presentación (practícala bien antes varias veces en otro espacio o habitació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ALGUNOS CRITERI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Intenta tener sentido de hum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Tú eres capaz d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Asegúrate de que estás transmitiendo un mens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0880" y="163836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0880" y="419112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20760" y="763560"/>
            <a:ext cx="677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EL CONTROL DE LOS NERV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5840" y="1677960"/>
            <a:ext cx="754092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tar nervioso es algo muy normal. Sin embargo; ¿cómo evitarlo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379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unos consejos previos a tener en cuent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lvídate de la memoria y de la lectu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on muy importantes los dos primeros segund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 muy importante la “conclusión” de la char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epare bien la pres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3794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gunos criteri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Intenta tener sentido del hum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Tú eres capaz de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segúrate de que estás trasmitiendo un mensaj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20760" y="611280"/>
            <a:ext cx="6778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Agfa Rotis Semisans"/>
              </a:rPr>
              <a:t>EL CONTROL DE LOS NERVIOS (Cont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4960" y="1449360"/>
            <a:ext cx="79218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80880" indent="-379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Cosas que hacer en una presentación para ayudar a controlar los nervios y alcanzar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La materia y el contenido deben estar defin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Analiza la audienc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5256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Quien va a estar all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5256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Cuántas perso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5256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5256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Sexo, status, educación, exper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5256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¿Cómo ve la audiencia el problem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5256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·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¿Cuáles pueden ser las líneas de actua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Investi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Objetivo princip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5360" y="5460840"/>
            <a:ext cx="34257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¿Informar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¿Persuadir a tomar una acción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¿Persuadir a no tomar una acción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¿Mantener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568680" y="5607000"/>
            <a:ext cx="130320" cy="933480"/>
            <a:chOff x="3568680" y="5607000"/>
            <a:chExt cx="130320" cy="933480"/>
          </a:xfrm>
        </p:grpSpPr>
        <p:sp>
          <p:nvSpPr>
            <p:cNvPr id="370" name=""/>
            <p:cNvSpPr/>
            <p:nvPr/>
          </p:nvSpPr>
          <p:spPr>
            <a:xfrm>
              <a:off x="3568680" y="5613480"/>
              <a:ext cx="0" cy="9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5160" y="5607000"/>
              <a:ext cx="12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75160" y="6540480"/>
              <a:ext cx="12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435480" y="606420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20760" y="839880"/>
            <a:ext cx="6778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Agfa Rotis Semisans"/>
              </a:rPr>
              <a:t>EL CONTROL DE LOS NERVIOS (Cont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4440" y="2744640"/>
            <a:ext cx="7083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762120" indent="-37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Hacer un listado de los puntos principales de la char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Hacer un listado de los puntos menos importa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rganizar la inform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eparar una introdu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62120" indent="-37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eparar la conclus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373040" y="3201840"/>
            <a:ext cx="632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gfa Rotis Semisans"/>
              </a:rPr>
              <a:t>CÓMO VENDER SUS ID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63680" y="2444760"/>
            <a:ext cx="292320" cy="291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4440" y="763560"/>
            <a:ext cx="6321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CÓMO VENDER SUS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5160" y="2363760"/>
            <a:ext cx="555948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80880" indent="-266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A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Construya su argumenta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B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Conserve el control en los intercambios de idea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C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La opción ideal: “de entrada estoy de acuerd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3680" y="3340080"/>
            <a:ext cx="292320" cy="291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73400" y="4621320"/>
            <a:ext cx="291960" cy="291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09480" y="291456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60520" y="1015920"/>
            <a:ext cx="368280" cy="36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6600" y="946080"/>
            <a:ext cx="7304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380880" indent="-2664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gfa Rotis Semisans"/>
              </a:rPr>
              <a:t>A</a:t>
            </a:r>
            <a:r>
              <a:rPr b="0" lang="en-US" sz="3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STRUYA SU ARGUMENT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8640" y="2859120"/>
            <a:ext cx="4264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264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1.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ADOPTAR OBJETIVOS PRECI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3280" y="2135160"/>
            <a:ext cx="33494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3034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hacer que se tome una 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provocar un 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provocar una comp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hacerse recono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etc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8640" y="4497480"/>
            <a:ext cx="5483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264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714680"/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Formúlelo: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 –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on un verbo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264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714680"/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 –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oncre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264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714680"/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 –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preci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711680" y="2330280"/>
            <a:ext cx="358920" cy="1632240"/>
            <a:chOff x="4711680" y="2330280"/>
            <a:chExt cx="358920" cy="1632240"/>
          </a:xfrm>
        </p:grpSpPr>
        <p:grpSp>
          <p:nvGrpSpPr>
            <p:cNvPr id="389" name=""/>
            <p:cNvGrpSpPr/>
            <p:nvPr/>
          </p:nvGrpSpPr>
          <p:grpSpPr>
            <a:xfrm>
              <a:off x="4940280" y="2330280"/>
              <a:ext cx="130320" cy="1632240"/>
              <a:chOff x="4940280" y="2330280"/>
              <a:chExt cx="130320" cy="1632240"/>
            </a:xfrm>
          </p:grpSpPr>
          <p:sp>
            <p:nvSpPr>
              <p:cNvPr id="390" name=""/>
              <p:cNvSpPr/>
              <p:nvPr/>
            </p:nvSpPr>
            <p:spPr>
              <a:xfrm>
                <a:off x="4940280" y="2336760"/>
                <a:ext cx="0" cy="1619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946760" y="2330280"/>
                <a:ext cx="12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46760" y="3962520"/>
                <a:ext cx="12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711680" y="3067200"/>
              <a:ext cx="21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193680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77480" y="946080"/>
            <a:ext cx="6847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STRUYA SU ARGUMENTACIÓN (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4960" y="1868400"/>
            <a:ext cx="4264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264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2.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TENER EN CUENTA AL PÚBL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4960" y="3354480"/>
            <a:ext cx="334980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19044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Quienes son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Qué saben del tema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 qué disposición se encuentr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44840" y="3354480"/>
            <a:ext cx="44164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Tipo de argumentos que se van a utilizar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Tipo de vocabulario. Naturaleza de los datos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Tono. Modo de argum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8440" y="3562200"/>
            <a:ext cx="1968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6880" y="461016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9160" y="5657760"/>
            <a:ext cx="977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4960" y="2592360"/>
            <a:ext cx="700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8140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Saber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PERMITE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Eleg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90680" y="2743200"/>
            <a:ext cx="1498680" cy="152280"/>
          </a:xfrm>
          <a:prstGeom prst="rightArrow">
            <a:avLst>
              <a:gd name="adj1" fmla="val 50000"/>
              <a:gd name="adj2" fmla="val 14981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7240" y="2743200"/>
            <a:ext cx="1498680" cy="152280"/>
          </a:xfrm>
          <a:prstGeom prst="rightArrow">
            <a:avLst>
              <a:gd name="adj1" fmla="val 50000"/>
              <a:gd name="adj2" fmla="val 14981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41520" y="169560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86040" y="793800"/>
            <a:ext cx="6976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STRUYA SU ARGUMENTACIÓN (I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4960" y="1639800"/>
            <a:ext cx="7693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264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3.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ENUMERAR LOS ARGUMENTOS E IDENTIFICAR SU REGISTR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4960" y="3430440"/>
            <a:ext cx="411156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Mantener un discurso lógic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Demostrar precisión, claridad, seguridad, realism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Mostrar que estás documentad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Apoyarse en las reglas tradicional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Señalar las contradiccio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5880" y="2135160"/>
            <a:ext cx="2892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8140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¿Cómo convencer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8360" y="3430440"/>
            <a:ext cx="4111560" cy="38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Hablar en imágenes, metáfor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Dar una visión de conjunt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Citar referencias, cit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Sonreír, implicar, crear complicida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Conmover (persuadir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19044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gfa Rotis Semisans"/>
              </a:rPr>
              <a:t>Sorprender, provocar, exagera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2705040"/>
            <a:ext cx="35812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Hemisferio izquier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2705040"/>
            <a:ext cx="35812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Hemisferio der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0560" y="641520"/>
            <a:ext cx="7106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STRUYA SU ARGUMENTACIÓN (II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36760"/>
            <a:ext cx="259092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4280" y="218916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4960" y="2133720"/>
            <a:ext cx="7693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37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4.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ANTICIPAR LAS OBJE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8480" y="2849400"/>
            <a:ext cx="1825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38140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Mi argum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3236760"/>
            <a:ext cx="259092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19920" y="3236760"/>
            <a:ext cx="259056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3080" y="2849400"/>
            <a:ext cx="213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38140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bjeción posi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93040" y="2849400"/>
            <a:ext cx="1444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381400"/>
                <a:tab algn="l" pos="51436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fu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71680" y="16318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86400" y="641520"/>
            <a:ext cx="7076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STRUYA SU ARGUMENTACIÓN (IV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4960" y="1563840"/>
            <a:ext cx="510228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37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6.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ELEGIR EL PLAN EN FUNCIÓN DEL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1200" indent="-4003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bjetiv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1200" indent="-4003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gfa Rotis Semisan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úbl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5840" y="3164040"/>
            <a:ext cx="76168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3780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ALGUNOS CONSEJ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3780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l principio anuncie la tesis que mantie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3780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uide los puntos de partida y de llegada de la argum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3780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sarrolle los argumentos que sean puntos fuertes de principio a f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3780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Repita los argumentos cla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79440" indent="-3780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Utilice palabras de enlace para señalizar su exposición: por tanto, en fin, en consecuencia, no obstante,..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AS QUE HACER EN UNA PRESENTACIÓN PARA AYUDAR A CONTROLAR LOS NERVIOS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2098800"/>
            <a:ext cx="754056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La materia (contenido), deben estar bien definid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naliza la audien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Investiga (materia, presentaciones anteriores, expertos..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bjetivo princip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58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¿Informa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58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¿Persuadir a tomar una acció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58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¿Persuadir a no tomar una acció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58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¿Entretene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76240" y="157464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711360"/>
            <a:ext cx="368280" cy="36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4560" y="641520"/>
            <a:ext cx="865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380880" indent="-3794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Agfa Rotis Semisans"/>
              </a:rPr>
              <a:t>B</a:t>
            </a:r>
            <a:r>
              <a:rPr b="0" lang="en-US" sz="30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TROL EN EL INTERCAMBIO DE 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9880" y="1487520"/>
            <a:ext cx="4263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37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1.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gfa Rotis Semisans"/>
              </a:rPr>
              <a:t>PREPARAR SU REFU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3040" y="1982880"/>
            <a:ext cx="731232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3034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Escuchar atentamente y tomar n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Identificar la naturaleza de la objeció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¿Se refiere al fondo o a la form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¿Es racional (técnica, económica) o irracional (afectiva, ideológ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Señalar los argumentos fala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ataque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pruebas no vál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impos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equívo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etc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Reformular brevemente la tesis del contradi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35040" y="157464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4760" y="641520"/>
            <a:ext cx="8100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TROL EN EL INTERCAMBIO DE IDEAS (I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1487520"/>
            <a:ext cx="822636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79440" indent="-3780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3815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2.</a:t>
            </a: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ELEGIR SU MODO DE REFUTACIÓN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indent="-47628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3815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2.1</a:t>
            </a: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DEFENSA ACTIV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62080" indent="-303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43815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Refutación frontal: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no, porque...”,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su argumento es simplista.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62080" indent="-303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43815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Refutación directa, parcial: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eso podrá ser aceptable, pero”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este punto de usted es 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demasiado 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reduccionista, deben considerarse 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otros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62080" indent="-303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43815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Aquiescencia parcial: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desde cierto punto de vista, tiene 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razón, pero.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62080" indent="-303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43815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Contraposición o regate: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consideremos mejor.. y si hablamos 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de... le propongo.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8920" y="641520"/>
            <a:ext cx="8229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fa Rotis Semisans"/>
              </a:rPr>
              <a:t>CONTROL EN EL INTERCAMBIO DE IDEAS (II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0" y="1563840"/>
            <a:ext cx="525492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68440" indent="-56700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66720"/>
                <a:tab algn="l" pos="46674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2.1</a:t>
            </a: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s-ES_tradnl" sz="2200" spc="-1" strike="noStrike">
                <a:solidFill>
                  <a:srgbClr val="fafd00"/>
                </a:solidFill>
                <a:latin typeface="Agfa Rotis Semisans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Agfa Rotis Semisans"/>
              </a:rPr>
              <a:t>DEFENSA PASIV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6634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666720"/>
                <a:tab algn="l" pos="46674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Ausencia de respuesta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6634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666720"/>
                <a:tab algn="l" pos="46674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Cara mullida frente a la agresión: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6634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666720"/>
                <a:tab algn="l" pos="46674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Disco rayado o respuesta repetitiva para disuadir al otro de que no continúe: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6634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666720"/>
                <a:tab algn="l" pos="46674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El reencuadre: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6634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gfa Rotis Semisans"/>
              <a:buChar char="•"/>
              <a:tabLst>
                <a:tab algn="l" pos="666720"/>
                <a:tab algn="l" pos="46674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El compromiso o aquiesc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62520" y="4051440"/>
            <a:ext cx="405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(he anunciado que) no abordaría ese punto.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47160" y="5060880"/>
            <a:ext cx="427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sa es otra cuestión, otro debat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01440" y="2717640"/>
            <a:ext cx="495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Vd. ve esto así... si es su punto de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133720" y="685800"/>
            <a:ext cx="4647960" cy="838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gfa Rotis Semisans"/>
              </a:rPr>
              <a:t>COSAS QUE HAY QUE EV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7080" y="1906560"/>
            <a:ext cx="654984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Atacar a la persona y no a la objeció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65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Vd. no lo comprende/no sabe nada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65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Vd. no tiene suficiente experiencia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65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Vd. no siempre ha afirmado eso.. actúa de mala fe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Moraliz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65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Hay que.. no hay que... se debe.. no se debería.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85840" indent="-284400">
              <a:lnSpc>
                <a:spcPct val="100000"/>
              </a:lnSpc>
              <a:spcBef>
                <a:spcPts val="1375"/>
              </a:spcBef>
              <a:buClr>
                <a:srgbClr val="fafd00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afd00"/>
                </a:solidFill>
                <a:latin typeface="Agfa Rotis Semisans"/>
              </a:rPr>
              <a:t>Pujar más que el otr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52600" indent="-265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“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Seguro que estoy equivocado, yo siempre estoy equivocado y Vd. siempre tiene razón.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806560" y="844560"/>
            <a:ext cx="368280" cy="368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5440" y="793800"/>
            <a:ext cx="75564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80880" indent="-3794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gfa Rotis Semisans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Agfa Rotis Semisans"/>
              </a:rPr>
              <a:t>LA OPCIÓN IDEAL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gfa Rotis Semisans"/>
              </a:rPr>
              <a:t>UTILIZAR EL “EN PRINCIPIO ESTOY DE ACUERD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20760" y="2287440"/>
            <a:ext cx="7311960" cy="37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304920" indent="-3034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Cuando se quiere reprender con utilidad y mostrar a otra persona que se equivoca hay que observar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e qué lado enfoca el tema (ya que probablemente esté en lo cierto desde ese lad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indent="-37944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y otorgarle esa veracidad, pero descubriéndole el lado en que es falsa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4920" indent="-30348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Hacerle ver al otro que no se equivoca, sino que no conocía todos los aspectos del te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373040" y="3201840"/>
            <a:ext cx="6321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gfa Rotis Semisans"/>
              </a:rPr>
              <a:t>PRESENTACIONES PERSUASI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3560" y="2516040"/>
            <a:ext cx="76932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19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Agfa Rotis Semisans"/>
              </a:rPr>
              <a:t>“</a:t>
            </a:r>
            <a:r>
              <a:rPr b="0" lang="es-ES_tradnl" sz="2800" spc="-1" strike="noStrike">
                <a:solidFill>
                  <a:srgbClr val="fafd00"/>
                </a:solidFill>
                <a:latin typeface="Agfa Rotis Semisans"/>
              </a:rPr>
              <a:t>Ninguna otra habilidad es más importante para el éxito empresarial, que una BUENA COMUNICACIÓ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3619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gfa Rotis Semisans"/>
              </a:rPr>
              <a:t>(en especial, el deseo de persuadir y la capacidad para hacerlo, que es una habilidad de comunicación verbal)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3619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19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gfa Rotis Semisans"/>
              </a:rPr>
              <a:t>Fuente: Estudio Universidad Stan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373040" y="534960"/>
            <a:ext cx="6321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SENTACIONES PERSUASIVAS: </a:t>
            </a:r>
            <a:r>
              <a:rPr b="0" lang="en-US" sz="3200" spc="-1" strike="noStrike">
                <a:solidFill>
                  <a:srgbClr val="ffffff"/>
                </a:solidFill>
                <a:latin typeface="Agfa Rotis Semisans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2160" y="1906560"/>
            <a:ext cx="1521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Persua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4480" y="1906560"/>
            <a:ext cx="1901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información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co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54480" y="2820960"/>
            <a:ext cx="4721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gfa Rotis Semisans"/>
              </a:rPr>
              <a:t>la comunicación destinada a influir en la elección, pero no equivale a co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92160" y="2820960"/>
            <a:ext cx="1521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fa Rotis Semisans"/>
              </a:rPr>
              <a:t>Persua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6800" y="4116240"/>
            <a:ext cx="190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COAC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800000">
            <a:off x="609120" y="4800240"/>
            <a:ext cx="1676520" cy="1522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64040" y="4116240"/>
            <a:ext cx="1596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INFOR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0800000">
            <a:off x="3123720" y="4800240"/>
            <a:ext cx="1676520" cy="1522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0040" y="5030640"/>
            <a:ext cx="2435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Eliminar opcion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o excluir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7440" y="5030640"/>
            <a:ext cx="3349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Incrementar el nº d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opciones o posibilidad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de 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25960" y="4116240"/>
            <a:ext cx="171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gfa Rotis Semisans"/>
              </a:rPr>
              <a:t>PERSUA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5943240" y="4800240"/>
            <a:ext cx="1676520" cy="1522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6960" y="5030640"/>
            <a:ext cx="3349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fa Rotis Semisans"/>
              </a:rPr>
              <a:t>Limitar las opciones que se perciben como acep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3840" y="3849840"/>
            <a:ext cx="1292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sin fuer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3840" y="4383000"/>
            <a:ext cx="1292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gfa Rotis Semisans"/>
              </a:rPr>
              <a:t>sin eng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473960" y="4032360"/>
            <a:ext cx="36828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73960" y="4425840"/>
            <a:ext cx="368280" cy="21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44760" y="21337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44760" y="30481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373040" y="534960"/>
            <a:ext cx="6321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SENTACIONES PERSUAS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11240" y="1301760"/>
            <a:ext cx="5245200" cy="501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16080" y="2041560"/>
            <a:ext cx="3187800" cy="3460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12800" y="2768400"/>
            <a:ext cx="2381400" cy="1994040"/>
            <a:chOff x="3412800" y="2768400"/>
            <a:chExt cx="2381400" cy="1994040"/>
          </a:xfrm>
        </p:grpSpPr>
        <p:sp>
          <p:nvSpPr>
            <p:cNvPr id="470" name=""/>
            <p:cNvSpPr/>
            <p:nvPr/>
          </p:nvSpPr>
          <p:spPr>
            <a:xfrm>
              <a:off x="3425760" y="2781360"/>
              <a:ext cx="2368440" cy="1981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51200" y="3168720"/>
              <a:ext cx="1741680" cy="12063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505480" y="2768400"/>
              <a:ext cx="288720" cy="3999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5480" y="4387680"/>
              <a:ext cx="288720" cy="3747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417840" y="4387680"/>
              <a:ext cx="333360" cy="3747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3412800" y="2768400"/>
              <a:ext cx="338040" cy="39996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54080" y="1754280"/>
            <a:ext cx="2359080" cy="25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66760" indent="-26532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Ser digno de confian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26532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Competente en l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26532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Dinámico, entusiasta, convers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26532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Objetividad: ser imparcial, mente abier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4080" y="4421160"/>
            <a:ext cx="26636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66760" indent="-26532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En casi todos los grupos hay una persona clave, o personas en las que se busca conse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26532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Para persuadir al Grupo primero hay que persuadir a este pequeño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8560" y="1373040"/>
            <a:ext cx="2587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Adaptar tus argumentos a las necesidades personales de los oy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40680" y="4954680"/>
            <a:ext cx="1292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del mens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83280" y="5335560"/>
            <a:ext cx="1292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Evidencias lóg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82760" y="5468760"/>
            <a:ext cx="129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Opiniones de otros oy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44880" y="3452760"/>
            <a:ext cx="1368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PERSONA PERSUAD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21240" y="2820960"/>
            <a:ext cx="201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Marco de refer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11680" y="4421160"/>
            <a:ext cx="163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fa Rotis Semisans"/>
              </a:rPr>
              <a:t>de un individu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6040" y="1601640"/>
            <a:ext cx="1673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Credibilidad del present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30680" y="1506600"/>
            <a:ext cx="1673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fa Rotis Semisans"/>
              </a:rPr>
              <a:t>Necesidades de los oy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9240000">
            <a:off x="5456160" y="631800"/>
            <a:ext cx="2551680" cy="172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0800000">
            <a:off x="1005120" y="928800"/>
            <a:ext cx="2120760" cy="242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48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4854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0800000">
            <a:off x="4510080" y="1595520"/>
            <a:ext cx="5965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3627720" y="1767240"/>
            <a:ext cx="74844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543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5433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9360000">
            <a:off x="3170880" y="4860000"/>
            <a:ext cx="1526400" cy="79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715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7155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800000">
            <a:off x="4891320" y="4952880"/>
            <a:ext cx="105372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480000">
            <a:off x="6295320" y="4885200"/>
            <a:ext cx="227340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99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8320" y="3206520"/>
            <a:ext cx="196776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0800000">
            <a:off x="4495680" y="4662360"/>
            <a:ext cx="59616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13040" y="3511800"/>
            <a:ext cx="227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4343400" y="1295280"/>
            <a:ext cx="443880" cy="15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373040" y="534960"/>
            <a:ext cx="6321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SENTACIONES PERSUAS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59120" y="1144440"/>
            <a:ext cx="3349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fa Rotis Semisans"/>
              </a:rPr>
              <a:t>Pasos de Prepa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5840" y="2438280"/>
            <a:ext cx="746460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1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Determine qué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 reacción espera Vd. producir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exactamente en los oy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2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Analice detenidamente a sus 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oyentes y sus 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neces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3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Determine de qué tipo de 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credibilidad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 goza Vd.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entre los oy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4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Investigue a fondo 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su tema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y decida, cuál es el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mejor método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 para presentar la lógica y evalu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8960" y="266544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58960" y="350352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758960" y="434196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58960" y="521820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AS QUE HACER EN UNA PRESENTACIÓN PARA AYUDAR A CONTROLAR LOS NERVIOS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9360" y="2013120"/>
            <a:ext cx="662616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5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umera los puntos principales de la char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6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numera los puntos menos importante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(sólo en caso de tener tiemp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7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Organiza la inform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8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Prepara una introdu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9. La conclusión (con los 5 puntos principal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91960" indent="-290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0.Medios audiovisu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373040" y="534960"/>
            <a:ext cx="6321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gfa Rotis Semisans"/>
              </a:rPr>
              <a:t>PRESENTACIONES PERSUAS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59120" y="1144440"/>
            <a:ext cx="3349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fa Rotis Semisans"/>
              </a:rPr>
              <a:t>Pasos de Prepa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15840" y="2440080"/>
            <a:ext cx="74646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5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Decide 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cómo organizar su presentación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a fin de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conseguir el mayor efecto. Prepara un breve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esque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6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lanifique los </a:t>
            </a:r>
            <a:r>
              <a:rPr b="0" i="1" lang="es-ES_tradnl" sz="2200" spc="-1" strike="noStrike">
                <a:solidFill>
                  <a:srgbClr val="ffffff"/>
                </a:solidFill>
                <a:latin typeface="Agfa Rotis Semisans"/>
              </a:rPr>
              <a:t>soportes verbales y visuales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de cada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u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7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Responde a esta pregunta: “Después de haber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completado los pasos anteriores; ¿ha conseguido Vd. 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una presentación ética?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aso 8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gfa Rotis Semisans"/>
              </a:rPr>
              <a:t>Practique la presentación hasta que se sienta segur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78040" y="266688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78040" y="382896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78040" y="466740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78040" y="584820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1320" y="3051000"/>
            <a:ext cx="76932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19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Agfa Rotis Semisans"/>
              </a:rPr>
              <a:t>No vemos la realidad, sino que interpretamos lo que vemos y lo llamamos re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43040" y="761760"/>
            <a:ext cx="7657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ARTE DE HABLAR EN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ARTE DE HABLAR EN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1795320"/>
            <a:ext cx="60958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na vez le pregunté a un principiante si no sentía miedo cuando le tocaba hablar en públic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200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¡De ninguna manera Sra.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200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 lo que la Sra. Bernardt replicó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200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es no te preocupes que te llegará junto con el tal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200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rnard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Actriz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DISCURSO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8480" y="1982880"/>
            <a:ext cx="7311960" cy="41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ISCURSO INCIDENTAL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 el discurso “pronunciado” por el que habla, sin que lo quiera ni lo se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 todo aquello que el emisor expone sin ningún 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Generalmente, contradice el discurso instrumental e impide que éste sea más efica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A menudo, adquiere más fuerza, al estar el emisor más centrado en él, olvidándose incluso hasta del audito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8640" y="6091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DISCURSO (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8480" y="2211480"/>
            <a:ext cx="73119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291960" indent="-29052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DISCURSO INSTRUMENTAL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Su fin es transmitir cierta cantidad de informaciones para: mandar, aconsejar, instruir, informar, for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stá al servicio del recep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582480" indent="-28872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gfa Rotis Semi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gfa Rotis Semisans"/>
              </a:rPr>
              <a:t>El emisor se centra más bien sobre el “auditorio” y sobre la relación instrumental que establece con los otros, y no sobre el discurso en s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9:56:00Z</dcterms:created>
  <dc:creator>Carlos Hinchado</dc:creator>
  <dc:description/>
  <dc:language>en-US</dc:language>
  <cp:lastModifiedBy>chl30871</cp:lastModifiedBy>
  <cp:lastPrinted>2002-11-22T11:27:54Z</cp:lastPrinted>
  <dcterms:modified xsi:type="dcterms:W3CDTF">2003-03-11T22:54:33Z</dcterms:modified>
  <cp:revision>113</cp:revision>
  <dc:subject/>
  <dc:title>EL ARTE DE HABLAR EN PÚBLICO</dc:title>
</cp:coreProperties>
</file>