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89FE4-CD8D-4051-8B11-FBFF6A8C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245C-7D4C-4502-B9AC-72E7ECB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DDC9C-3B04-490B-B004-2ADDB6C1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30B29-B818-4BDA-80A9-1297D981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B30D3-7244-4E8C-9CC3-C3601828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AB5A0A-0659-4EE4-85E9-994F331F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52E65-ED94-4CA1-9E25-BAE31FEA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C5375-5DBC-437C-BE7F-23725965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47EA07-BEE2-42D1-8A2F-A03E9624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5482D-9825-40F3-B47C-ED196700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C41D0-D6D3-4DF6-8BF5-6B7A108E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DCD8EB-A517-402D-9344-CBAF5D8C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B992-FC1F-4C48-916F-8FCEC77E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E7DDB-094E-4808-B4CD-C9D0FAD8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9A0DA-19B4-4271-BDB4-C07F482F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D02DD-4D5A-4CAF-8A22-5FB0CB0B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4F1C39-C5B4-4993-86EC-7F144C9A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30A5A7-344F-42D5-B776-0007B356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F322E-205E-4164-8768-41079E9A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96CE8-38F2-4693-88A5-DA118CF6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502A1-1F73-4D98-BF0D-AA0D85DC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2F321-C0CC-4FC9-B75E-802D4A07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0C839E-68D4-4FE7-B2AF-22574AD2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92AF-DACD-4F98-B82B-14C61BE9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A0844B-EE58-4C4A-BF41-910DEFC7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E8366D-F9F5-4846-AE1D-A5A9CB9A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E55D07-E075-4C02-B94B-B7FD1711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3BA865-AA3C-4379-9618-B98D4DED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A839A7-C8AD-4BBA-A673-599CE6F8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258249-6587-4424-A859-6CCB17B3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2355F0-2F7D-4D51-ACC1-6FD89412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23DFEA-B5CD-45FE-A92F-3AA04DCB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BC4E5E-617B-47B2-9654-8F3CFBA4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2E5495-A7F3-4820-B699-0EE6828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5E4AC7-F104-4ABB-9BF7-1AA9D796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4C0274-D7E2-4432-AB22-FE16CCFB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D3D327-CCC5-47C2-B5D5-7ADA9BFA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2ADE4-EF44-4CBC-AD15-A86DB145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12C4AE-9E1A-4E31-AD52-2721F20C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C28769-FDD8-4FEC-974F-E9EED5D6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CAA4E-815B-4635-BFF5-E3AEF468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949790-E754-4428-95EC-D5DFDB7D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D2333-6809-4B4A-8CE2-9762D98B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51B418-681D-4AAB-B0C4-F3F9CFB2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F6411-8303-4810-8A3F-DAF29915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150D4-59D2-4BE8-B2BB-E16D4BFB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238A3-69D9-4815-8B48-58B9EAE1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00CF2-4D84-43B8-A003-A31A4325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6B279-8B6D-44BC-9928-DE611F5B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78733B-DDFA-4407-8D89-347766AD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FE1359-FB69-44BD-8612-0B41A4E9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8274CD-D3ED-4216-95E9-625AA019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1B691A8-CF59-479C-9F87-7C9DD0E6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3B6BD8-FF32-4481-9C53-A22518B9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13E64E-866B-4D42-B5D5-50C8DE3C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05743A-BFF0-4ECA-81B2-E83C4EA3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2E9E0D-82BF-4CDC-9DF4-CFB8C30F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52AA11-6985-407F-B477-BB6E12AB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1F45D5-1690-4739-B7E3-697F3264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281D9C-E986-48FD-A17C-7C3D119C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A9EC54-57F3-4669-9A89-7E09131B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B516E3-509D-442C-ACAE-731C84A8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064C82-0F74-424B-BA4F-BD8DFB25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BD3731-D77D-4D83-BD1D-9BCF176D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FF8E4E-9E8A-4F35-992E-8BF3EE02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47913F-9D2F-42CA-B960-2301B01D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88BF04-640D-4C2F-9415-E12702F6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108C50-A513-4B1B-8420-5B9B3A04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92334E0-B64F-4266-890F-DE3429F4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248A4B-BD2B-4B7F-A37E-396EC65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13E3C0-3998-432F-902E-A7126AC6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809B7A-CEC1-47EE-97A9-B61E32C1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DFD24D-82C2-46D2-B2CC-9410648C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FEB2-BDA2-411A-A8CB-E99D7B9E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8BFDF-9CBA-43B9-A8FC-F33FE725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636D0-A5B4-4A70-BAA2-2B970889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77F76-EA84-4D19-B547-711B5ED9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2367E-5239-41EF-AF09-AA48F3B9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146F0-E51F-4F03-9ABC-A24043BB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C11D-59EB-4976-88F1-A045CB67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F1A07-FCC2-4685-84A5-BDDB1375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A313A-EB01-4F96-8149-4A6CADB1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DDE833-B58A-4362-90D0-8B43941A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E00C1-576C-43C6-9ACA-F1763D90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32939-3839-4EE5-BAC4-0C425F89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AEB79-5170-4CC2-B140-F29078E8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25A16-5775-4B27-B4A0-F51D4806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2674-04A9-4278-9518-BE900E23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142E4A-4626-469C-A233-A68BFC51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E6FF-7ED3-4D6C-9016-E05BB972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D3C426-6C6A-447F-B8C8-FA58B828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48BA13-2196-4E3B-9E69-A3CF2CFC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CDBD9B-36C1-4CB3-9D4A-94FCF96B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CE5FE8-5A92-43AB-AE6D-DC661F01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0FCEB5-69A8-4ABE-81B8-360B0186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CC2A4B-52E9-47DE-BF4E-A2B2411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C34E9F-CBF0-411F-959A-167EA9AD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88C2E7-BEBE-4A01-AB7F-0656C9EF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161E50-5586-48D2-B5B1-2F4697A4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AD0D86-CF72-4AB3-BBD8-74B212CD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9117F-FE09-4BCF-91F3-DBB9AEC5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5D2BD0-8D1F-4A91-A83A-32148EAC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7D468F-40DF-492C-868D-8089F9DE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C1EDCC-05D5-4FB4-B273-1007A46F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1E99F3-5D12-442D-9462-85031F64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149B5C-E571-4A14-A355-D2E550D1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7304C3-9AD9-4A18-95BA-404A1125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31D4F7-6123-4E19-B7D5-AE306068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C39C08-2DFA-4941-B248-5F1807ED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64F772-987C-472E-ABF3-30F02E0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8DB44B-B25E-4B65-8B19-12A7E3C8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6949-94FA-4156-B346-81474D3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EF40CE-14BE-43EF-9857-309B05CA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1787EA-224F-4A90-8F5F-BAB9B58D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9C66E0-6C0B-4E8B-AE65-85C3D10F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99F5CF-DCC1-4785-9888-7898B524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2B5CCE-847D-4A68-A8BD-682E42C2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12A6E3-6385-4AA8-8B2B-3B3F7D6E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1A7A70-87CA-4701-95AB-3042885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835DCF-9131-4815-8873-8A96EA9A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8BA415-08AE-44CC-85C0-1B8CA5FB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AC6015-F214-4328-8035-E5CAEDCD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62BB-36D6-4CDE-A85F-7EEB9E18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9333C3-8AC0-4C9B-A474-5D734642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E2C23A-6472-4269-88FE-75709EF9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082433-03AB-4E6A-92AC-264F74E4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185325-D120-44D5-8253-D34ADD3E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CE5241-F4E6-4E8F-8216-7A59B671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213219-F770-4B89-AA33-043B1D61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075DBF-F821-4F2C-B254-2BC8639F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830A4C-0A31-4D3A-8670-757F858B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124AD3-F74E-4FB2-AA76-AAF45761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A91477-2EA3-40D0-8042-5B7DBE8E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D1A71-7C80-41A2-9542-8909864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792000" y="39240"/>
            <a:ext cx="75708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AC1C06-8BE8-4A3D-9206-CD4EE66C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16FF59-D2DE-4C65-AF7F-C0920A65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21A548-8910-4BA2-822C-D50A90E5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4738FD-F094-4611-89D8-5C1D8654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792000" y="4002480"/>
            <a:ext cx="757080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51D995-CDF3-46FD-9E7B-19C50220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360" y="176184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79200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1360" y="4002480"/>
            <a:ext cx="369432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3130A1-9D76-450B-9C15-1BA06C74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3519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11560" y="176184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79200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3519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11560" y="4002480"/>
            <a:ext cx="2437560" cy="20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2AB52C-1C80-497E-B6F3-A305EFE0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33A9A-A658-48CC-A676-C3F18908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9BD4AA-F5AF-40B8-AF1C-9BF7512A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8FD7D-9DFD-4081-BD1E-08876E43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B08BA-72C2-45BE-B325-D8B81D3C74C2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26E9E-4C54-4A04-A852-F584B29AD9BF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11"/>
          <p:cNvGrpSpPr/>
          <p:nvPr/>
        </p:nvGrpSpPr>
        <p:grpSpPr>
          <a:xfrm>
            <a:off x="4267080" y="0"/>
            <a:ext cx="4876920" cy="6858000"/>
            <a:chOff x="4267080" y="0"/>
            <a:chExt cx="4876920" cy="6858000"/>
          </a:xfrm>
        </p:grpSpPr>
        <p:pic>
          <p:nvPicPr>
            <p:cNvPr id="404" name="Picture 7" descr="Overlay-Blank.jpg"/>
            <p:cNvPicPr/>
            <p:nvPr/>
          </p:nvPicPr>
          <p:blipFill>
            <a:blip r:embed="rId3"/>
            <a:srcRect l="4300" t="0" r="46876" b="0"/>
            <a:stretch/>
          </p:blipFill>
          <p:spPr>
            <a:xfrm>
              <a:off x="449568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8" descr="Overlay-VerticalBridge.jpg"/>
            <p:cNvPicPr/>
            <p:nvPr/>
          </p:nvPicPr>
          <p:blipFill>
            <a:blip r:embed="rId4"/>
            <a:stretch/>
          </p:blipFill>
          <p:spPr>
            <a:xfrm flipH="1">
              <a:off x="42670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6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46EFF-3BB1-4D7E-968B-AE171FA4EEF5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7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39467-86EF-44FA-91EF-D093F1B67ED8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Overlay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29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19478-E1E1-4845-AB93-36DBF4617FCE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0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EEB14-164D-4DF0-80AC-76E273077188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8"/>
          <p:cNvGrpSpPr/>
          <p:nvPr/>
        </p:nvGrpSpPr>
        <p:grpSpPr>
          <a:xfrm>
            <a:off x="4267080" y="0"/>
            <a:ext cx="4876920" cy="6858000"/>
            <a:chOff x="4267080" y="0"/>
            <a:chExt cx="4876920" cy="6858000"/>
          </a:xfrm>
        </p:grpSpPr>
        <p:pic>
          <p:nvPicPr>
            <p:cNvPr id="490" name="Picture 7" descr="Overlay-Blank.jpg"/>
            <p:cNvPicPr/>
            <p:nvPr/>
          </p:nvPicPr>
          <p:blipFill>
            <a:blip r:embed="rId3"/>
            <a:srcRect l="4300" t="0" r="46876" b="0"/>
            <a:stretch/>
          </p:blipFill>
          <p:spPr>
            <a:xfrm>
              <a:off x="449568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icture 8" descr="Overlay-VerticalBridge.jpg"/>
            <p:cNvPicPr/>
            <p:nvPr/>
          </p:nvPicPr>
          <p:blipFill>
            <a:blip r:embed="rId4"/>
            <a:stretch/>
          </p:blipFill>
          <p:spPr>
            <a:xfrm flipH="1">
              <a:off x="42670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2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FDE1F-3374-4EEF-A495-03F38B759436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3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C2D69-0660-4A67-A6CE-D209DA7E88FD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534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5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0EFE0-BED3-46C6-BDF7-3D4BF5CE45D5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6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AF71D-100A-4A0B-9D25-C371A4099AFB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10"/>
          <p:cNvGrpSpPr/>
          <p:nvPr/>
        </p:nvGrpSpPr>
        <p:grpSpPr>
          <a:xfrm>
            <a:off x="0" y="0"/>
            <a:ext cx="7696080" cy="6858000"/>
            <a:chOff x="0" y="0"/>
            <a:chExt cx="7696080" cy="6858000"/>
          </a:xfrm>
        </p:grpSpPr>
        <p:pic>
          <p:nvPicPr>
            <p:cNvPr id="578" name="Picture 7" descr="Overlay-Blank.jpg"/>
            <p:cNvPicPr/>
            <p:nvPr/>
          </p:nvPicPr>
          <p:blipFill>
            <a:blip r:embed="rId3"/>
            <a:srcRect l="1473" t="0" r="16864" b="0"/>
            <a:stretch/>
          </p:blipFill>
          <p:spPr>
            <a:xfrm>
              <a:off x="0" y="0"/>
              <a:ext cx="74674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742824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8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2E80E-0DF8-410D-AC26-17665D1A3FCD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9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0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BB860-E722-4094-A765-26F5D23D16AC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5"/>
          <p:cNvGrpSpPr/>
          <p:nvPr/>
        </p:nvGrpSpPr>
        <p:grpSpPr>
          <a:xfrm>
            <a:off x="0" y="0"/>
            <a:ext cx="1581120" cy="6858000"/>
            <a:chOff x="0" y="0"/>
            <a:chExt cx="1581120" cy="6858000"/>
          </a:xfrm>
        </p:grpSpPr>
        <p:pic>
          <p:nvPicPr>
            <p:cNvPr id="42" name="Picture 7" descr="Overlay-Blank.jpg"/>
            <p:cNvPicPr/>
            <p:nvPr/>
          </p:nvPicPr>
          <p:blipFill>
            <a:blip r:embed="rId3"/>
            <a:srcRect l="1473" t="0" r="83678" b="0"/>
            <a:stretch/>
          </p:blipFill>
          <p:spPr>
            <a:xfrm>
              <a:off x="0" y="0"/>
              <a:ext cx="1358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13132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" name="Group 16"/>
          <p:cNvGrpSpPr/>
          <p:nvPr/>
        </p:nvGrpSpPr>
        <p:grpSpPr>
          <a:xfrm>
            <a:off x="7546680" y="0"/>
            <a:ext cx="1597320" cy="6858000"/>
            <a:chOff x="7546680" y="0"/>
            <a:chExt cx="1597320" cy="6858000"/>
          </a:xfrm>
        </p:grpSpPr>
        <p:pic>
          <p:nvPicPr>
            <p:cNvPr id="45" name="Picture 10" descr="Overlay-Blank.jpg"/>
            <p:cNvPicPr/>
            <p:nvPr/>
          </p:nvPicPr>
          <p:blipFill>
            <a:blip r:embed="rId5"/>
            <a:srcRect l="0" t="0" r="85129" b="0"/>
            <a:stretch/>
          </p:blipFill>
          <p:spPr>
            <a:xfrm>
              <a:off x="7784280" y="0"/>
              <a:ext cx="13597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1" descr="Overlay-VerticalBridge.jpg"/>
            <p:cNvPicPr/>
            <p:nvPr/>
          </p:nvPicPr>
          <p:blipFill>
            <a:blip r:embed="rId6"/>
            <a:stretch/>
          </p:blipFill>
          <p:spPr>
            <a:xfrm flipH="1">
              <a:off x="7546680" y="0"/>
              <a:ext cx="2674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12" descr="HR-Color.png"/>
          <p:cNvPicPr/>
          <p:nvPr/>
        </p:nvPicPr>
        <p:blipFill>
          <a:blip r:embed="rId7"/>
          <a:stretch/>
        </p:blipFill>
        <p:spPr>
          <a:xfrm>
            <a:off x="1554120" y="4842000"/>
            <a:ext cx="6035760" cy="33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257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C193E-8C08-48B7-B090-DDF604B7FCFC}" type="datetime">
              <a:rPr b="1" lang="en-US" sz="1200" spc="-1" strike="noStrike">
                <a:solidFill>
                  <a:srgbClr val="2f1f58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752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89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6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4CE40-F2BE-4FF3-85CD-5F1CA79AD0D9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7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8664B-8A85-4E8A-96E5-2D7FF36320F0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15"/>
          <p:cNvGrpSpPr/>
          <p:nvPr/>
        </p:nvGrpSpPr>
        <p:grpSpPr>
          <a:xfrm>
            <a:off x="0" y="0"/>
            <a:ext cx="1581120" cy="6858000"/>
            <a:chOff x="0" y="0"/>
            <a:chExt cx="1581120" cy="6858000"/>
          </a:xfrm>
        </p:grpSpPr>
        <p:pic>
          <p:nvPicPr>
            <p:cNvPr id="133" name="Picture 7" descr="Overlay-Blank.jpg"/>
            <p:cNvPicPr/>
            <p:nvPr/>
          </p:nvPicPr>
          <p:blipFill>
            <a:blip r:embed="rId3"/>
            <a:srcRect l="1473" t="0" r="83678" b="0"/>
            <a:stretch/>
          </p:blipFill>
          <p:spPr>
            <a:xfrm>
              <a:off x="0" y="0"/>
              <a:ext cx="13582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8" descr="Overlay-VerticalBridge.jpg"/>
            <p:cNvPicPr/>
            <p:nvPr/>
          </p:nvPicPr>
          <p:blipFill>
            <a:blip r:embed="rId4"/>
            <a:stretch/>
          </p:blipFill>
          <p:spPr>
            <a:xfrm>
              <a:off x="1313280" y="0"/>
              <a:ext cx="2678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oup 16"/>
          <p:cNvGrpSpPr/>
          <p:nvPr/>
        </p:nvGrpSpPr>
        <p:grpSpPr>
          <a:xfrm>
            <a:off x="7546680" y="0"/>
            <a:ext cx="1597320" cy="6858000"/>
            <a:chOff x="7546680" y="0"/>
            <a:chExt cx="1597320" cy="6858000"/>
          </a:xfrm>
        </p:grpSpPr>
        <p:pic>
          <p:nvPicPr>
            <p:cNvPr id="136" name="Picture 10" descr="Overlay-Blank.jpg"/>
            <p:cNvPicPr/>
            <p:nvPr/>
          </p:nvPicPr>
          <p:blipFill>
            <a:blip r:embed="rId5"/>
            <a:srcRect l="0" t="0" r="85129" b="0"/>
            <a:stretch/>
          </p:blipFill>
          <p:spPr>
            <a:xfrm>
              <a:off x="7784280" y="0"/>
              <a:ext cx="13597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1" descr="Overlay-VerticalBridge.jpg"/>
            <p:cNvPicPr/>
            <p:nvPr/>
          </p:nvPicPr>
          <p:blipFill>
            <a:blip r:embed="rId6"/>
            <a:stretch/>
          </p:blipFill>
          <p:spPr>
            <a:xfrm flipH="1">
              <a:off x="7546680" y="0"/>
              <a:ext cx="26748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Picture 12" descr="HR-Color.png"/>
          <p:cNvPicPr/>
          <p:nvPr/>
        </p:nvPicPr>
        <p:blipFill>
          <a:blip r:embed="rId7"/>
          <a:stretch/>
        </p:blipFill>
        <p:spPr>
          <a:xfrm>
            <a:off x="1554120" y="4842000"/>
            <a:ext cx="6035760" cy="339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9"/>
          </p:nvPr>
        </p:nvSpPr>
        <p:spPr>
          <a:xfrm>
            <a:off x="52574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2f1f5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F90D9-4F05-4908-B98C-A94053D3CB06}" type="datetime">
              <a:rPr b="1" lang="en-US" sz="1200" spc="-1" strike="noStrike">
                <a:solidFill>
                  <a:srgbClr val="2f1f58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0"/>
          </p:nvPr>
        </p:nvSpPr>
        <p:spPr>
          <a:xfrm>
            <a:off x="1752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9"/>
          <p:cNvGrpSpPr/>
          <p:nvPr/>
        </p:nvGrpSpPr>
        <p:grpSpPr>
          <a:xfrm>
            <a:off x="0" y="0"/>
            <a:ext cx="9144000" cy="1190160"/>
            <a:chOff x="0" y="0"/>
            <a:chExt cx="9144000" cy="1190160"/>
          </a:xfrm>
        </p:grpSpPr>
        <p:pic>
          <p:nvPicPr>
            <p:cNvPr id="180" name="Picture 7" descr="Overlay-Blank.jpg"/>
            <p:cNvPicPr/>
            <p:nvPr/>
          </p:nvPicPr>
          <p:blipFill>
            <a:blip r:embed="rId3"/>
            <a:srcRect l="0" t="0" r="0" b="85561"/>
            <a:stretch/>
          </p:blipFill>
          <p:spPr>
            <a:xfrm>
              <a:off x="0" y="0"/>
              <a:ext cx="914400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8" descr="Overlay-HorizontalBridge.jpg"/>
            <p:cNvPicPr/>
            <p:nvPr/>
          </p:nvPicPr>
          <p:blipFill>
            <a:blip r:embed="rId4"/>
            <a:stretch/>
          </p:blipFill>
          <p:spPr>
            <a:xfrm flipH="1" rot="10800000">
              <a:off x="0" y="922320"/>
              <a:ext cx="9144000" cy="26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0"/>
          <p:cNvGrpSpPr/>
          <p:nvPr/>
        </p:nvGrpSpPr>
        <p:grpSpPr>
          <a:xfrm>
            <a:off x="0" y="5667480"/>
            <a:ext cx="9144000" cy="1190160"/>
            <a:chOff x="0" y="5667480"/>
            <a:chExt cx="9144000" cy="1190160"/>
          </a:xfrm>
        </p:grpSpPr>
        <p:pic>
          <p:nvPicPr>
            <p:cNvPr id="183" name="Picture 10" descr="Overlay-Blank.jpg"/>
            <p:cNvPicPr/>
            <p:nvPr/>
          </p:nvPicPr>
          <p:blipFill>
            <a:blip r:embed="rId5"/>
            <a:srcRect l="0" t="0" r="0" b="85561"/>
            <a:stretch/>
          </p:blipFill>
          <p:spPr>
            <a:xfrm flipH="1" rot="10800000">
              <a:off x="0" y="5867280"/>
              <a:ext cx="9144000" cy="99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1" descr="Overlay-HorizontalBridge.jpg"/>
            <p:cNvPicPr/>
            <p:nvPr/>
          </p:nvPicPr>
          <p:blipFill>
            <a:blip r:embed="rId6"/>
            <a:stretch/>
          </p:blipFill>
          <p:spPr>
            <a:xfrm>
              <a:off x="0" y="5667480"/>
              <a:ext cx="9144000" cy="26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5" name="Picture 12" descr="HR-Color.png"/>
          <p:cNvPicPr/>
          <p:nvPr/>
        </p:nvPicPr>
        <p:blipFill>
          <a:blip r:embed="rId7"/>
          <a:stretch/>
        </p:blipFill>
        <p:spPr>
          <a:xfrm>
            <a:off x="1554120" y="3259080"/>
            <a:ext cx="6035760" cy="3398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3F702-0B8F-4FC2-A7ED-37FA62CCCBD1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2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7AB1A-C381-4A5F-8C3E-AF43D24820E2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228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B81E6-5BE6-460A-8885-3E470E74B0F4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5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46648-8737-486D-A832-44A84063A685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272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4" name="Picture 9" descr="Overlay-HorizontalBridge.jpg"/>
          <p:cNvPicPr/>
          <p:nvPr/>
        </p:nvPicPr>
        <p:blipFill>
          <a:blip r:embed="rId5"/>
          <a:srcRect l="0" t="23426" r="61034" b="39798"/>
          <a:stretch/>
        </p:blipFill>
        <p:spPr>
          <a:xfrm>
            <a:off x="4765680" y="2460600"/>
            <a:ext cx="3564000" cy="98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Overlay-HorizontalBridge.jpg"/>
          <p:cNvPicPr/>
          <p:nvPr/>
        </p:nvPicPr>
        <p:blipFill>
          <a:blip r:embed="rId6"/>
          <a:srcRect l="0" t="23426" r="61034" b="39798"/>
          <a:stretch/>
        </p:blipFill>
        <p:spPr>
          <a:xfrm>
            <a:off x="779400" y="2460600"/>
            <a:ext cx="3564000" cy="982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7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82141-6315-4FB0-B491-F6C179714090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8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21554-A351-4F65-AD0E-DCFBFE6B746A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6"/>
          <p:cNvGrpSpPr/>
          <p:nvPr/>
        </p:nvGrpSpPr>
        <p:grpSpPr>
          <a:xfrm>
            <a:off x="0" y="1373040"/>
            <a:ext cx="9144000" cy="5484960"/>
            <a:chOff x="0" y="1373040"/>
            <a:chExt cx="9144000" cy="5484960"/>
          </a:xfrm>
        </p:grpSpPr>
        <p:pic>
          <p:nvPicPr>
            <p:cNvPr id="318" name="Picture 7" descr="Overlay-Blank.jpg"/>
            <p:cNvPicPr/>
            <p:nvPr/>
          </p:nvPicPr>
          <p:blipFill>
            <a:blip r:embed="rId3"/>
            <a:srcRect l="0" t="23337" r="0" b="0"/>
            <a:stretch/>
          </p:blipFill>
          <p:spPr>
            <a:xfrm>
              <a:off x="0" y="1600560"/>
              <a:ext cx="9144000" cy="52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Picture 8" descr="Overlay-HorizontalBridge.jpg"/>
            <p:cNvPicPr/>
            <p:nvPr/>
          </p:nvPicPr>
          <p:blipFill>
            <a:blip r:embed="rId4"/>
            <a:stretch/>
          </p:blipFill>
          <p:spPr>
            <a:xfrm>
              <a:off x="0" y="1373040"/>
              <a:ext cx="9144000" cy="26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0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1797D-0C73-497B-98A5-295CE69B25F8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1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764D3-92AF-4C95-957D-706DFF6E39DD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6" descr="Overlay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lick to edit the title text format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Click to edit the outline text format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1" marL="59652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con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2" marL="90036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Third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3" marL="1193040" indent="-292680">
              <a:spcBef>
                <a:spcPts val="2401"/>
              </a:spcBef>
              <a:buClr>
                <a:srgbClr val="2f1f58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our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4" marL="1496880" indent="-303480"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Fif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5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ix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  <a:p>
            <a:pPr lvl="6" marL="1496880" indent="-303480">
              <a:spcBef>
                <a:spcPts val="24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f58"/>
                </a:solidFill>
                <a:latin typeface="Candara"/>
              </a:rPr>
              <a:t>Seventh Outline Level</a:t>
            </a:r>
            <a:endParaRPr b="0" lang="en-US" sz="28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3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1CDDD-A1BF-4FDA-A619-01B6228492F0}" type="datetime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4"/>
          </p:nvPr>
        </p:nvSpPr>
        <p:spPr>
          <a:xfrm>
            <a:off x="371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a08bd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2C3FD-125D-4FEC-86C8-46A20BF09D9C}" type="slidenum">
              <a:rPr b="1" lang="en-US" sz="1200" spc="-1" strike="noStrike">
                <a:solidFill>
                  <a:srgbClr val="a08bd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854000" y="3693960"/>
            <a:ext cx="54464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7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7152c2"/>
                </a:solidFill>
                <a:latin typeface="Mistral"/>
              </a:rPr>
              <a:t>Wangari Maathai </a:t>
            </a:r>
            <a:endParaRPr b="0" lang="en-US" sz="70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676520" y="5203440"/>
            <a:ext cx="5827680" cy="112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andara"/>
              </a:rPr>
              <a:t>Nobel Peace Prize Winner</a:t>
            </a:r>
            <a:endParaRPr b="0" lang="en-US" sz="24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92000" y="39240"/>
            <a:ext cx="75708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f58"/>
                </a:solidFill>
                <a:latin typeface="Candara"/>
              </a:rPr>
              <a:t>Childhood</a:t>
            </a:r>
            <a:endParaRPr b="0" lang="en-US" sz="5400" spc="-1" strike="noStrike">
              <a:solidFill>
                <a:srgbClr val="2f1f58"/>
              </a:solidFill>
              <a:latin typeface="Candar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792000" y="1761840"/>
            <a:ext cx="7570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baabe3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1f58"/>
                </a:solidFill>
                <a:latin typeface="Apple Casual"/>
                <a:ea typeface="Apple Casual"/>
              </a:rPr>
              <a:t>Wangari Maathai  was born on April 1, 1940. She was the first African women who got the Nobel Peace Prize. She was educated at  </a:t>
            </a:r>
            <a:endParaRPr b="0" lang="en-US" sz="1900" spc="-1" strike="noStrike">
              <a:solidFill>
                <a:srgbClr val="2f1f58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1:48:24Z</dcterms:created>
  <dc:creator>Student</dc:creator>
  <dc:description/>
  <dc:language>en-US</dc:language>
  <cp:lastModifiedBy>Student</cp:lastModifiedBy>
  <dcterms:modified xsi:type="dcterms:W3CDTF">2009-10-05T02:01:12Z</dcterms:modified>
  <cp:revision>1</cp:revision>
  <dc:subject/>
  <dc:title>Wangari Maathai </dc:title>
</cp:coreProperties>
</file>