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0C7C-0350-410C-9DF4-9D49013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1F3C-D624-4A02-A4DE-1801887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F49FA-24B0-4B4C-80D3-4A8A620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E571F-ADCB-48E8-9E50-33AD8D54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29C0D-D8C0-4B8F-8F8F-A049558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A6E7E-3557-47B2-AD8E-692E3DA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C6200-FB5E-414C-9921-A7CF275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FF75A-D7C6-424B-9DBA-92AB42E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80101-C8B4-4F75-B29D-69971E0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32C53-A677-4C6D-A373-43591D5F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B4807-A1CB-42F1-A92C-902BD6CC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BA89C-6BFE-4C6A-8606-842CFE50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FD47-3217-44EC-83B5-8A84371D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DC002-E7C3-46FC-B16E-3CBCBB6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E1796-4C09-4905-AA6D-AC584AB2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FA8AA-54A3-4163-8537-E801E6F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36276-12B5-41A2-9852-2DFB6A40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AF9B6-C48B-452A-8C15-1B7DF54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6B058-EB86-4507-A2BD-65A3B02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BB8CC-7936-4819-94FB-6C58686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07B2E-4676-45C1-B538-5FEBBB2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1E1B2-4B98-44E5-AA09-17A6072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7460F-8CFD-4334-8B00-9921DAB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C7CF-FCE1-46FF-A0C3-66E85A60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2BBD4-F032-4E90-810E-5F55241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35D03E-2B1D-4105-A4A8-DB7048B6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034456-1D36-43B5-A62F-693A5C12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BAB456-1D9D-4C2B-BA81-C617A2E4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FCA381-789D-4C31-B41C-02AFE4B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0C2B79-368C-4CD4-92B7-DE1443E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7A7470-F132-45A6-AF7B-AC9163F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DD32FE-F55F-4A43-8422-B780FD9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BEF266-F3BC-4C95-ACE3-C389B21C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1968D2-6AFA-4C85-AD45-5C57325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C6465B-C257-4136-A486-7172540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8D2A0-AA3B-4E45-9D3D-DD1AB8B8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4CA244-46C1-4D09-B72B-C24E1526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6526C-3337-4800-97C7-245D2106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001B0-7D3F-4C93-8BCD-206327E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EA999-0EB9-43E5-B6AC-6EB01125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C8424-4768-4845-A9C1-332EEB09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4B1E7-2902-413A-B10B-0FDCF61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FCA56-3E58-4EB3-9649-F8AC2C1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ECE4B-9EE9-4AA6-9D57-802907B1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C9127-B3C5-42DA-A14C-7C8B00AB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7BA4E-1A74-40CC-ABC7-F18FCA5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CC0E1-275A-48CC-844B-B65FA41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38063-84A8-4B49-B93A-8D1E384A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6CDED-8479-43A4-A028-9C0A3C88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0EC2DF-A4CC-4438-A2E5-A162D484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1DCC71-0491-4303-8437-4FB0C87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F997A3-D711-4E27-8213-9EB516A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58BF15-F9E2-404A-8E60-5D6911F1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88DF51-43F6-41E8-8BE5-372BB6E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E45215-4811-4DE5-A77C-CEF067B4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F0ADB8-3BDB-4782-997E-D8D9BAC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F9CBD1-ADBD-4842-AE95-31EF4EB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01054-7974-4B28-9EF7-6A013A5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CECF92-2107-4291-9841-170FBBD4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A26791-7F63-4DB1-9E82-1A4C3076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95718D-FD07-4C42-8A82-9DAC9D2C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3592F1-D71B-42DE-A287-FAD413E6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1E06F1-F833-4AD5-AA6D-3AD2277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01E19D-17C0-4DC2-90BF-9542EE39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FECF5C-68D4-4B6D-885E-BE071A7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36E602-DA19-4A2F-B8E2-6F3810B1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56845A-4313-452C-A62B-486145EA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AA2DB3-79A9-4457-8AC0-7972243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2738F4-2B05-41D3-BF2A-25A2AF4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B24097-28AD-4F3C-80ED-E7DA57C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75BC0A-37B0-4692-8F38-417FC52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76BA8B-8A67-4B24-9F70-B927B0A2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AC1E81-FD29-49F2-94F7-4E0B3B9B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220A-C22A-41D4-A98B-A581CC6E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AE9BC-8A7C-457F-9EEC-5357CFF0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F12F3-4DF2-4D95-BBD1-D039B13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843C4-72B3-41ED-9782-437C198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EE70D-8938-4053-8287-554035F3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AD416-5662-4EA8-B47A-A59C450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E68C-9C61-4089-8C3E-DEC6616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44E7C-BA8E-4271-8852-3921C654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95100-27AC-4232-A6BE-E9162A6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BE79-00A0-4D42-875A-8161B5C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F7A96-FC94-4567-B31E-1D7586D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E5CDF-CA92-4E20-BD89-1E1252A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1ABCD-545C-4385-932D-E31A87B5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DBD9F-E31C-4B85-AED6-1C0B1774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28B3-030D-461C-9FD4-A454B04C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45530-5BFF-4AF4-88D4-6AFCA72D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1ECB-547A-4488-8341-9422EE3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F9035-12EA-44AC-A76E-433C1B3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87414-06F0-4B2B-B766-D700366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ADEC3-A18A-483E-81BF-7F53B46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0E3F8-E4ED-4097-83AD-C5644B7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A7425-A182-4CE9-96AC-D3C7CCC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79179-CD28-4915-9ABE-5213AA4E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79079-BCCB-44FB-929B-B189011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965915-94DA-443E-AF89-4ECFC31F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70399-908D-46FB-A363-980945E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19EF12-09DB-4EFC-85BB-50312796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83DB-36B7-4A45-979E-554236F2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0324F-4B84-4483-B073-10A04A15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BF619-03DF-4A8C-B7AD-860FDCD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F54D0-F21B-414E-8728-EF92474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000324-4D96-4AC7-B63A-2D6C3BF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B030B-94BB-44D8-AD07-CBF7F822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6D75E-8E6E-4A0D-B2B1-DA70901B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36F2D1-495D-4405-A8BD-D4B2B52C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8821A-8EC9-4342-A5F0-766EBEF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B02D9-269C-4744-BF2C-83B2A11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DE208-85D4-4202-ACA4-0090757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E627-8D54-4284-9146-E8DD16A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C6F6D-A31C-43C3-9C57-F2C6813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B1A41-E372-4E07-AC75-DD267C4B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E04D3-771E-4DFA-A0F6-D742AB4F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F1DC4-F604-4018-A731-8A307F4D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D68A7B-FEBF-4A71-B0F7-49D1A2E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928FBC-A1AA-439D-8B4E-FAF2B3F0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5C01EA-8263-4D0B-9CAD-74D4FD74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F63B8-09C3-4F70-9507-189794D8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B1ACC4-524A-4CC2-9D6F-727AB532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FEA38-347D-44CF-BCCD-36CA3C0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AEC2-5F27-4BE1-B3B5-89989EB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017FD-FBE3-4600-A784-5B5AD0A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58EB7F-4E6D-49BA-B85A-4186977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01E79-A543-44AC-8397-3C8C972F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51D06-D4CA-43CD-A411-63581197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8DE88-5E39-4BF8-BF0C-C8A9A91B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1555F8-BB7E-4B53-8A5D-1BC4984C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3B1EFC-0042-400E-AE94-03966028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AC3F4-B491-4A86-8694-D8BCBD0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BA58D9-46D8-45AF-A026-B3C08EE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859C0-E1F2-43F2-BF0B-70449E72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D4EA-035F-4A17-B5F5-7A08EB7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361C9-9B20-48CE-BFA5-3AEA5282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2D16D-0427-4FED-B520-F42F9CA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EB8677-B5AD-43FA-9030-19FF353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93980-A641-4B41-94AB-374BAD0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B9719-CB18-4153-9F32-2E1D47F7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7D0A5-4017-4C06-A3FA-15904C31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6B1C70-B844-4433-9DDA-D47C173E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D4430-6719-4A72-A6BE-049F9F58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926AF-B0C3-4121-8552-1795BE3E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FC666-7C6B-45B7-BC7E-62232BE0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A27C8-52CD-48CD-B03F-771C9746607E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495EA-EF53-4F8E-8A1D-DA7BBC60F3A3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1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04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524FC-E70B-4EBF-A307-F3331BEB7974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36CA0-B503-4F1D-ADB8-AC89CF8B6DFF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AC635-C2DB-4687-8C85-8CE0BF314DC9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3A7FC-93BD-4286-ABF5-C470977E7A85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8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90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2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D7267-AA33-4F4D-878F-41290A5ED167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4ECC8-F6E5-451B-A5E0-D78BC73A1E5D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534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5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27A68-3486-4C44-BEE6-A7DF4C5380C9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6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30A8F-26C1-483E-AF93-15030DBF6EB4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0"/>
          <p:cNvGrpSpPr/>
          <p:nvPr/>
        </p:nvGrpSpPr>
        <p:grpSpPr>
          <a:xfrm>
            <a:off x="0" y="0"/>
            <a:ext cx="7696080" cy="6858000"/>
            <a:chOff x="0" y="0"/>
            <a:chExt cx="7696080" cy="6858000"/>
          </a:xfrm>
        </p:grpSpPr>
        <p:pic>
          <p:nvPicPr>
            <p:cNvPr id="578" name="Picture 7" descr="Overlay-Blank.jpg"/>
            <p:cNvPicPr/>
            <p:nvPr/>
          </p:nvPicPr>
          <p:blipFill>
            <a:blip r:embed="rId3"/>
            <a:srcRect l="1473" t="0" r="16864" b="0"/>
            <a:stretch/>
          </p:blipFill>
          <p:spPr>
            <a:xfrm>
              <a:off x="0" y="0"/>
              <a:ext cx="7467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742824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8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4DFB1-2E67-440B-A47F-69544DF118CA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9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B28A5-7F8D-4150-AB0D-2A6E5060D1B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42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45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709CD-0BA9-42D5-ADF6-BE8A32F47CFB}" type="datetime"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89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9D8EC-DEE2-4370-AF35-2BFD465BD4A8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74C5F-AE2E-4F5D-A3E9-51F9CCD62621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133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136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F36FB-1A95-4D0C-8923-234C1A7D8130}" type="datetime"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9"/>
          <p:cNvGrpSpPr/>
          <p:nvPr/>
        </p:nvGrpSpPr>
        <p:grpSpPr>
          <a:xfrm>
            <a:off x="0" y="0"/>
            <a:ext cx="9144000" cy="1190160"/>
            <a:chOff x="0" y="0"/>
            <a:chExt cx="9144000" cy="1190160"/>
          </a:xfrm>
        </p:grpSpPr>
        <p:pic>
          <p:nvPicPr>
            <p:cNvPr id="180" name="Picture 7" descr="Overlay-Blank.jpg"/>
            <p:cNvPicPr/>
            <p:nvPr/>
          </p:nvPicPr>
          <p:blipFill>
            <a:blip r:embed="rId3"/>
            <a:srcRect l="0" t="0" r="0" b="85561"/>
            <a:stretch/>
          </p:blipFill>
          <p:spPr>
            <a:xfrm>
              <a:off x="0" y="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Overlay-HorizontalBridge.jpg"/>
            <p:cNvPicPr/>
            <p:nvPr/>
          </p:nvPicPr>
          <p:blipFill>
            <a:blip r:embed="rId4"/>
            <a:stretch/>
          </p:blipFill>
          <p:spPr>
            <a:xfrm flipH="1" rot="10800000">
              <a:off x="0" y="92232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0"/>
          <p:cNvGrpSpPr/>
          <p:nvPr/>
        </p:nvGrpSpPr>
        <p:grpSpPr>
          <a:xfrm>
            <a:off x="0" y="5667480"/>
            <a:ext cx="9144000" cy="1190160"/>
            <a:chOff x="0" y="5667480"/>
            <a:chExt cx="9144000" cy="1190160"/>
          </a:xfrm>
        </p:grpSpPr>
        <p:pic>
          <p:nvPicPr>
            <p:cNvPr id="183" name="Picture 10" descr="Overlay-Blank.jpg"/>
            <p:cNvPicPr/>
            <p:nvPr/>
          </p:nvPicPr>
          <p:blipFill>
            <a:blip r:embed="rId5"/>
            <a:srcRect l="0" t="0" r="0" b="85561"/>
            <a:stretch/>
          </p:blipFill>
          <p:spPr>
            <a:xfrm flipH="1" rot="10800000">
              <a:off x="0" y="586728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1" descr="Overlay-HorizontalBridge.jpg"/>
            <p:cNvPicPr/>
            <p:nvPr/>
          </p:nvPicPr>
          <p:blipFill>
            <a:blip r:embed="rId6"/>
            <a:stretch/>
          </p:blipFill>
          <p:spPr>
            <a:xfrm>
              <a:off x="0" y="566748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2" descr="HR-Color.png"/>
          <p:cNvPicPr/>
          <p:nvPr/>
        </p:nvPicPr>
        <p:blipFill>
          <a:blip r:embed="rId7"/>
          <a:stretch/>
        </p:blipFill>
        <p:spPr>
          <a:xfrm>
            <a:off x="1554120" y="3259080"/>
            <a:ext cx="60357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20563-1BAE-447A-8A51-250B745AD613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79660-68D0-415C-AA52-B879AF131412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2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AB153-75B1-4A26-8BA4-C0549A4E4346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F7262-99A8-4CDD-B834-BC7672C06C87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72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9" descr="Overlay-HorizontalBridge.jpg"/>
          <p:cNvPicPr/>
          <p:nvPr/>
        </p:nvPicPr>
        <p:blipFill>
          <a:blip r:embed="rId5"/>
          <a:srcRect l="0" t="23426" r="61034" b="39798"/>
          <a:stretch/>
        </p:blipFill>
        <p:spPr>
          <a:xfrm>
            <a:off x="4765680" y="2460600"/>
            <a:ext cx="3564000" cy="9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Overlay-HorizontalBridge.jpg"/>
          <p:cNvPicPr/>
          <p:nvPr/>
        </p:nvPicPr>
        <p:blipFill>
          <a:blip r:embed="rId6"/>
          <a:srcRect l="0" t="23426" r="61034" b="39798"/>
          <a:stretch/>
        </p:blipFill>
        <p:spPr>
          <a:xfrm>
            <a:off x="779400" y="2460600"/>
            <a:ext cx="3564000" cy="98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DD0A9-4EEB-436F-957A-03599B0C7911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A186E-966D-4465-8F9C-073A0BE8979D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31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1F066-D9B9-4D68-8DA7-C5A6866AB3B6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FF3C0-FA35-4ECD-B106-E7849F1AA053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49218-50CC-4BD8-8B1F-C5913856DE96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DCB68-942C-47BF-90E2-840739CA5597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54000" y="369396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7152c2"/>
                </a:solidFill>
                <a:latin typeface="Mistral"/>
              </a:rPr>
              <a:t>Wangari Maathai </a:t>
            </a:r>
            <a:endParaRPr b="0" lang="en-US" sz="70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676520" y="5203440"/>
            <a:ext cx="582768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ndara"/>
              </a:rPr>
              <a:t>Nobel Peace Prize Winner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hildhood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Apple Casual"/>
                <a:ea typeface="Apple Casual"/>
              </a:rPr>
              <a:t>Wangari Maathai  was born on April 1, 1940. She was the first African women who got the Nobel Peace Prize. She was educated at  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1:48:24Z</dcterms:created>
  <dc:creator>Student</dc:creator>
  <dc:description/>
  <dc:language>en-US</dc:language>
  <cp:lastModifiedBy>Student</cp:lastModifiedBy>
  <dcterms:modified xsi:type="dcterms:W3CDTF">2009-10-05T02:01:12Z</dcterms:modified>
  <cp:revision>1</cp:revision>
  <dc:subject/>
  <dc:title>Wangari Maathai </dc:title>
</cp:coreProperties>
</file>