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3DC-A24A-4823-BDC5-4D3220FF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004-9F35-475E-9162-F51519C4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D16-DB9E-4D0A-915B-44AF6519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DC9-1616-482F-BC40-5519BA31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F86-7A6B-456C-9936-F7DDF680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417-0559-4C9A-9033-5687C2BB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3B0-EB53-4BE3-9EEC-B1988D4B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93A-C37C-4F72-9C99-77648085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76C-8117-4254-B0A5-DF95548C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582-BD04-4DB4-86B9-98EAE0FB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292-F4D8-426C-9ACA-07062C1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554-D21B-4463-88AA-854CB7C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338A-49A8-4E61-864C-B7DDEDB8C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aling the Man Behind the Cu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a Runtime Library for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Cut: A Modula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bage collect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skills: memory allocator and garbage collector design is a specialized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ternally developed garbage collectors to minimize team effort and obtain “best of breed”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needs of th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ized garbage coll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vs.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Support Interface: Platform-Specific Func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is most suited for providing information about the target archite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rt_stackTop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rt_stackBottom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rt_scanStaticData( void delegate( void*, void*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rt_finalize( void* p, bool det = tru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Management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en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dis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colle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nt   gc_getAttr( void* p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nt   gc_setAttr( void* p, uint 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int   gc_clrAttr( void* p, uint a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 gc_malloc( size_t sz, uint ba 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 gc_calloc( size_t sz, uint ba 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 gc_realloc( void* p, size_t sz, uint ba = 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 gc_free( void* p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ze_t gc_sizeOf( void* p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Realiz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: Replaceable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/ sweep vs. C mall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-time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import tango.stdc.stdlib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extern (C) void thread_ini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vate extern (C) void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* gc_malloc( size_t sz, uint ba = 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* p = malloc( sz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z &amp;&amp; p is null )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* gc_calloc( size_t sz, uint ba = 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* p = calloc( 1, sz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z &amp;&amp; p is null )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* gc_realloc( void* p, size_t sz, uint ba = 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 = realloc( p, sz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z &amp;&amp; p is null ) onOutOfMemoryError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 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 (C) void gc_free( void* p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ee( p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tango.core.Memo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tango.stdc.stdi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is( char[] n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ctor: %.*s\n", name = n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this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dtor: %.*s\n", nam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[] 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  autoVal  = new C( "autoVal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ope scopeVal = new C( "scopeVal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Val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C.collec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1,744 gcbasic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,517 gcmalloc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83 Main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9,680 phobos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6,048 tango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dmd -release Main gcbasic.lib tango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aut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tor: aut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dmd -release Main gcmalloc.d tango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aut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tor: scop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4,476 Main.exe - using gcbasic.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91,164 Main.exe - using gcmalloc.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3,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k Detection” and Dispos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e program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clean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 rt_finalize( void* p, bool det = tru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onCollectResource( Object obj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Disposab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~this()        { printf( "dtor: Disposable\n" 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ispose() { printf( "dispose: Disposable\n" )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this() { GC.collectHandler = &amp;onCollect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ol onCollect( Object o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( auto d = cast(Disposable) o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.dispose(); return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discardDisposabl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 d = new Dispos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id mai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uto d = new Disposab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\n***** delete *****\n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 = new Disposable; delete 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ntf( "\n*** GC.collect ***\n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C.collect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28195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2590920"/>
            <a:ext cx="3352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&gt; 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***** delete 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tor: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*** GC.collect 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dispose: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ridable Object Moni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following interf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Objec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 Moni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unlock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monitors must be strucutr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ias Object.Monitor IMonit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uct Monito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onitor imp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data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level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nd associative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ode-a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alling of C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rary Mutexes as Object Mon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o mutex = new Mut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uto cond  = new Condi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ready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ed( mutex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 !read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.wait(); // mutex released / ac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nchronized( mutex 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dy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d.notif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barrier for entry /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ould be trivial to write a simpl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should behave in a safe and predictable manner by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information o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applications can often benefit from access to low-level information about the program or control over program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t what you pay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 programmers may have very explicit requirements regarding code size, so hidden dependencies must be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er Requir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mpiler Wri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support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rray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ate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ve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F con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allocation /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er Requir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ibrary Develo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accessib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ut: Monolit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team and library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collaboration for integrat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/ system 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trol of garbag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d / inclusive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Cut: A Binary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formalize the interaction between components to decouple developmen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suppor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library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limitations to eliminate compile-time depend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Library Interface: Thr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rbage collector must interact with thread code to coordinate col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thread_suspendA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thread_scanAll( void delegate( void*, void* ) sc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* curStackTop = null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thread_resumeA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 Library Interface: Exce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 a means of signaling system errors to decouple exception hierarchy from language support compo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onArrayBoundsError( char[] file, size_t lin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onAssertError( char[] file, uint lin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onOutOfMemoryErr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7:41:24Z</dcterms:created>
  <dc:creator>Sean Kelly</dc:creator>
  <dc:description/>
  <dc:language>en-US</dc:language>
  <cp:lastModifiedBy>Sean Kelly</cp:lastModifiedBy>
  <dcterms:modified xsi:type="dcterms:W3CDTF">2007-08-23T08:00:27Z</dcterms:modified>
  <cp:revision>51</cp:revision>
  <dc:subject/>
  <dc:title>Slide 1</dc:title>
</cp:coreProperties>
</file>