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E05-ED81-4EE2-A1F8-70C13869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A9E-E8D8-4ACD-83DE-3B9ED323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A99-D344-4525-A319-431E1B58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D4D-A19D-43CC-BDD3-9B555E4F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E9D-EDE1-41A8-811C-84826CF7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017-86D7-47AE-AC50-E7A28BE0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21F-E543-46DE-BD48-5D3F8746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EEB-4D58-4B9D-9509-C15FD5A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9C9-300F-4C5F-8544-0A42F648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08F-A5C5-4AB8-8E3B-15DF78A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BBF-E9DF-4908-AB46-C3D320B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FC9-E2EE-4499-B8C7-A18BA60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06C2-3E44-45D2-A642-7788FDF0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ing the Man Behind the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a Runtime Library fo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Cut: A Modula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bage collec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skills: memory allocator and garbage collector design is a specialize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ternally developed garbage collectors to minimize team effort and obtain “best of breed”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needs of th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garbage col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vs.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Support Interface: Platform-Specific Func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is most suited for providing information about the target archite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rt_stackTo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rt_stackBottom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scanStaticData( void delegate( void*, void*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finalize( void* p, bool det = tr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ment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en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dis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coll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getAttr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setAttr( void* p, uint 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clrAttr( void* p, uint 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malloc(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calloc(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realloc( void* p,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free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_t gc_sizeOf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: Replaceable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/ sweep vs. C m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tim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import tango.stdc.stdlib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extern (C) void thread_ini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extern (C) void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malloc(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* p = malloc(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calloc(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* p = calloc( 1,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realloc( void* p,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= realloc( p,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 gc_free( void* p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ee( p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tango.core.Memo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tango.stdc.stdi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( char[] n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ctor: %.*s\n", name = n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thi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dtor: %.*s\n", na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[]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 autoVal  = new C( "autoVal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pe scopeVal = new C( "scopeVal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Val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.collec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1,744 gcbasic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,517 gcmalloc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83 Main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9,680 phobos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6,048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dmd -release Main gcbasic.lib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dmd -release Main gcmalloc.d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4,476 Main.exe - using gcbasic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1,164 Main.exe - using gcmalloc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,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k Detection” and Dispos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progra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clean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finalize( void* p, bool det = tr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onCollectResource( Object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isposab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this()        { printf( "dtor: Disposable\n" 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ispose() { printf( "dispose: Disposable\n" 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this() { GC.collectHandler = &amp;onCollect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l onCollect( Object o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( auto d = cast(Disposable) o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.dispose();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iscardDisposabl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d = new Dispos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d = new Dispos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\n***** delete *****\n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= new Disposable; delete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\n*** GC.collect ***\n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.collec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8195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2590920"/>
            <a:ext cx="3352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***** delete 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tor: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*** GC.collect 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spose: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able Object 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following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 Moni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un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onitors must be strucutr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ias Object.Monitor IMonit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Moni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onitor imp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data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nd associative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ode-a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alling of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rary Mutexes as Object Mon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 mutex = new Mut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 cond  = new Condi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ready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ed( mute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!read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.wait(); // mutex released / ac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ed( mute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y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.notif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barrier for entry /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trivial to write a simpl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should behave in a safe and predictable manner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information 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applications can often benefit from access to low-level information about the program or control over program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t what you pa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programmers may have very explicit requirements regarding code size, so hidden dependencies must be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er Requi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iler 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upport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ray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at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ve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F con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allocation /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er Requi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brary Develo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accessi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t: Monoli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team and librar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collaboration for integra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/ system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trol of garbag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d / inclusive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Cut: A Binar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rmalize the interaction between components to decouple developmen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suppor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library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limitations to eliminate compile-time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Library Interface: Thr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rbage collector must interact with thread code to coordinate 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suspend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scanAll( void delegate( void*, void* ) sc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curStackTop = nul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resume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Library Interface: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a means of signaling system errors to decouple exception hierarchy from language support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ArrayBoundsError( char[] file, size_t lin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AssertError( char[] file, uint lin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OutOfMemoryErr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7:41:24Z</dcterms:created>
  <dc:creator>Sean Kelly</dc:creator>
  <dc:description/>
  <dc:language>en-US</dc:language>
  <cp:lastModifiedBy>Sean Kelly</cp:lastModifiedBy>
  <dcterms:modified xsi:type="dcterms:W3CDTF">2007-08-23T08:00:27Z</dcterms:modified>
  <cp:revision>51</cp:revision>
  <dc:subject/>
  <dc:title>Slide 1</dc:title>
</cp:coreProperties>
</file>