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4F99-BFB0-4541-8FEA-763813F816A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ubtitle would be, “How I learned to be optimistic about concurrent program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Killer feature” of 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6785-2116-4EAC-B1E9-3030BC41E26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y doesn’t just churn the transaction over and over until there is an item in the queue.  It blocks, waiting for something in its read-set to change. Only when such a change occurs, it makes sense to try again. Other threads have to be aware of the wait-sets. When they commit, it’s easy for them to check if there is an overlap between their write-set and any of the wait-sets, and unblock the corresponding wait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case, the read-set at them moment of retry contains only the queue counter. Whoever changes the queue counter (presumably a producer) will wake us up.</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5C3F-EDA6-4928-B531-B837EE7B86F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seen, the consumer code is very simple—no signals, no waits, not even a loop in sight. The variable that is waited on—the queue counter—is implic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ly, the producer doesn’t have to worry about waking up the consumers—this is done by the runtime system. The producer code is even simp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id Put (Item * item) ato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_queue.push_back (i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called from an atomic blo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cQueue.Put (i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osability is automatic. If there is no items, the first Get will retry. If there is one item, the second Get will retry. Only if there are two or more items, both Gets will succeed and the transaction has a chance to commit. There is also a possibility of  composing actions using logical operations, such as ‘or’. </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3351-FF5C-488A-9630-09F135A57B8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schemes: word-based STM (WSTM) and object-based STM (OS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d-based one seems simpler, but it practically prevents the client from using even the simplest library functions from inside transactions. That’s because every single read inside a transaction must be instrumented (check the lock, search the write-set, log the read).  You can’t, for instance call strln from a trans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M requires more work from the client (explicit open calls), but it opens up libraries for use inside trans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identally, OSTM is usually faster than WSTM, because it avoids the overhead of many instrumented reads/wr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once the object is opened for writing, we can modify it to our hearts’ content.</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6A97-32B7-4F7C-9C42-82BE52AAA6C7}"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n object is opened for writing, a copy of it is created. All speculative writes are then made directly to this copy. This is why it’s important that the copy be deep—we don’t want to inadvertently modify any shared data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we don’t want to clone the whole composite data structure. For instance, when opening the root node of a tree, we don’t want to make a copy of the whole tree.  That’s why a transactable node doesn’t contain any explicit pointers to its children. It contains atomic handles, which are not deep-copied when making a c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omic object doesn’t have to define the clone operation. The default for value types is to use a copy constructor (which, for shallow structs, can itself be defaulted ).</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7696-0838-4B8C-A275-79D77B533A5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nciple, it’s possible to implemented STM as a library. It’s a bit clumsy to use, but it’ll work. The integration with the type system is essential if we want to give the compiler a stab at verifying the correctness of STM client code. Otherwise, the use of STM would be almost as error prone as the use of locking sche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dea was proposed in the Haskell implementation of STM, where the type system can be extended by using monads. Monads also help in preventing I/O operations during speculative execution of transacted code. We don’t have it (yet?) in D.</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22A0-440D-4F00-9C6A-18F77DD2B16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is example simple, we use the plus- and minus-infinity sentinels. This way we avoid edge c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list is not itself an atomic object—we don’t have to clone it in order to perform writes. On the other hand, there is nothing to write to. All its methods are atomic and they can only be called from inside a trans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actional, read-only access is given to the head of the list. The list can be modified using atomic methods Insert and Remove. They will perform their own cl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tations “atomic SNode” is used to introduce a handle to SNode. Other notations may be considered too. For instance the longer, template-like, “atomic!(SNod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4017D-B292-4F9D-A922-39083BFA284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tomic object. It must be stored in a handle and must be cloneable—here a default shallow copy does the right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typing the object “atomic” one could think of using inheritance, but it wouldn’t work with stru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object is atomic, all its methods, except the constructor, are automatically atomic. It follows, for instance, that one cannot read the value stored in SNode without a transaction—which is an important safe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modify the handle to next, the current object has to be open for writing (if it hasn’t already been open in this mo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a handle can be initialized with a const pointer. That’s because the object in a handle is never modified—only it’s clone may be modified.</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89C9-9FF1-4720-A576-B8F89F6BCA71}"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traverse the linked list. Most nodes are only open for read . This is done inside the method Next. Only the predecessor of the inserted node needs to be opened for writing. Again, this is done inside the method SetNext. </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18C4-63E9-43DC-8D1D-FF770FDBACF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Transactional Locking implementation of STM. There are other implementations, but this one addresses a very important problem—the creation of a consistent snapshot. Other implementations allow speculative execution based on inconsistent snapshots. They only detect the inconsistency in the commit phase. But even speculative execution, when based on an inconsistent snapshot, may lead to complex failures (protection faults, infinite loops, etc.). The use of a global version clock is used to guarantee the consistency of the snapshot at all ti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a lock-free implementation, but it’s generally faster than the lock-free ones.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2F7E-ED5B-425D-8A0D-DCD8673EEF06}"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action object contains read-version, write-version (used during commit), read-log, and write-lo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bject stores the version number of the last modification. If this number is greater than the read-version, it means that it’s been modified after our transaction was started. In such case, we cannot have a consistent snapshot (previously read values correspond to an earlier version—they might have changed too). Only the use of a global version clock allows such consistent versioning across all threads. In other schemes, each thread has its own independent version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ock on an object is taken, it means that another transaction is performing its commit as we are trying to ope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DC8F-9D0C-46F1-A362-3BCC8FC0874A}"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0E9A-A435-48F8-8F02-8CC835E50168}"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log is used later for the read-check during commit. Only the version of the object is relevant to read-ch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 mode can be upgraded from read to write. Important—open_write returns a new pointer.</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BD25-DE08-41C7-BF26-5051A8315E7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multiple objects are being locked, there is a possibility of a deadlock. One solution would be to fix the order of taking the locks, but this creates an unnecessary overhead. STM is based on optimistic assumptions. So instead the locks are taken in arbitrary order, and deadlocks are avoided by the use of bounded spinlocks. A bounded spinlock tries to acquire a lock in a counted loop. If the maximum count is reached without acquiring the lock, the transaction simply aborts. The lock is tested and modified atomically using the compare and store instruction (CAS) available on virtually all process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value is modified in memory after it’s been read-checked, we don’t care. The intervening transaction will have a higher version value than ours, so conceptually it occurred </a:t>
            </a:r>
            <a:r>
              <a:rPr b="0" i="1" lang="en-US" sz="1200" spc="-1" strike="noStrike">
                <a:solidFill>
                  <a:srgbClr val="000000"/>
                </a:solidFill>
                <a:latin typeface="Calibri"/>
              </a:rPr>
              <a:t>after</a:t>
            </a:r>
            <a:r>
              <a:rPr b="0" lang="en-US" sz="1200" spc="-1" strike="noStrike">
                <a:solidFill>
                  <a:srgbClr val="000000"/>
                </a:solidFill>
                <a:latin typeface="Calibri"/>
              </a:rPr>
              <a:t> our transaction. It’s result did not depend on our write set, because it was locked by us </a:t>
            </a:r>
            <a:r>
              <a:rPr b="0" i="1" lang="en-US" sz="1200" spc="-1" strike="noStrike">
                <a:solidFill>
                  <a:srgbClr val="000000"/>
                </a:solidFill>
                <a:latin typeface="Calibri"/>
              </a:rPr>
              <a:t>before</a:t>
            </a:r>
            <a:r>
              <a:rPr b="0" lang="en-US" sz="1200" spc="-1" strike="noStrike">
                <a:solidFill>
                  <a:srgbClr val="000000"/>
                </a:solidFill>
                <a:latin typeface="Calibri"/>
              </a:rPr>
              <a:t> we started the read-check. Welcome to the world of causal clock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EC40-4A2A-4C24-941B-873644400D19}"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can do our writes at a relaxed pace, since all locations are locked. The modified clones are substituted for previous objects. The clone will have a new write-version and it will be unlocked. The swap is done using an atomic CAS instruction.</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B131-C8DB-4BED-A6E2-07666263C0B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ot that hard. The devil is in the optimizations. For instance, read-only transactions should be performed without any logg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system is still in the state of flux.</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DD0A-35BB-400C-87F8-8D3D8CA847DD}"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articles describe the implementation we chose for D. They contain further references to the rich literature on S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ks to these two 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home.comcast.net/~pjbishop/Dave/GVTL-TL2-Disc06-060711-Camera.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research.microsoft.com/Users/simonpj/papers/stm/stm.pdf</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51ED-4D76-48B6-846B-6744BAA0373B}"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dactic example to introduce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ant point: the read moves value from shared memory to a </a:t>
            </a:r>
            <a:r>
              <a:rPr b="0" i="1" lang="en-US" sz="1200" spc="-1" strike="noStrike">
                <a:solidFill>
                  <a:srgbClr val="000000"/>
                </a:solidFill>
                <a:latin typeface="Calibri"/>
              </a:rPr>
              <a:t>temporary</a:t>
            </a:r>
            <a:r>
              <a:rPr b="0" lang="en-US" sz="1200" spc="-1" strike="noStrike">
                <a:solidFill>
                  <a:srgbClr val="000000"/>
                </a:solidFill>
                <a:latin typeface="Calibri"/>
              </a:rPr>
              <a:t> location, be it a stack temporary, or a regi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emporary is compared with z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is comparison, we write a new value to shared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482C-4D19-4604-B375-389EDC705675}"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pplying one of the theore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x is equal to zero, the new value of x is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x is not equal to zero, the new value of x is zer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we check which of the hypotheses is true. Based on that we reach a conclusion about the new value of x. We write the new value of x into mem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at the moment when we apply the theorem, its hypothesis might no longer be tr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make sure the premise stays correc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k shared memory for the duration, or</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e speculatively and then re-check  before writing</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8556-E95D-4059-B4C7-7E451009B1BE}"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ve execu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all rea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performing writes, log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 pha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ify, if successful th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3542-958C-4395-9E34-19611B89059C}"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looks like we still have to do something to make the commit phase atomic. Pre-empt other threads? Lock memory locations? Perform some lock-free mag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on is speculative, so it doesn’t interfere with other threads. No locks necessary. No concurrency wor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it phase is independent of of what the user code did, it works on the log. Processing the log is relegated to the runtime library.</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7EE1-29DA-4ECE-9B8B-346C42B6FB7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All the user has to do is to enclose his/her code in an atomic block. The runtime creates the log, logs all reads and writes (this is true for word-based STM, in object-based STM the user must explicitly open objects), and performs the commit. It also encloses the whole thing in a loop that repeats the whole process if the transaction abort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6C45-4D8E-4BCA-8BBE-CEE0698FE883}"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implement locking internal to accounts, we can’t transfer money from one account to another atomically. We have to expose the locks to the client, who then locks both accounts and performs the transfer.  Problem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encapsulation—increased compoexity</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s deadlocks possible—two threads try to take the locks in opposite order</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STM, both the withdrawal and the deposit are performed speculatively inside one transaction. Accounts are not locked—no deadlock possible. The transaction either commits, or aborts without making any change.</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EE68-3649-4CB8-82FA-53E2BBD19D70}"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blem is usually solved using a complex arrangement of locks and signals. Very hard to get it right on the first try. Here the code looks straightforward. If there are not items in the queue,  we can’t continue—we retry. But when there are items in the queue, we pop them speculatively and then try to commit. If another consumer swiped the item, the transaction will abort and will be restarted from scratch.</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5AD4-EB22-4DDD-A241-93ECA0E62982}" type="slidenum">
              <a:rPr b="0" lang="en-US" sz="1200" spc="-1" strike="noStrike">
                <a:solidFill>
                  <a:srgbClr val="000000"/>
                </a:solidFill>
                <a:latin typeface="Calibri"/>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B2B95-5B84-4BBD-9BF6-ECA9C9CAB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5A244-E17F-4E6B-BEB9-8D48D7DDA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55DB0-8C86-4672-AFFA-BC3BE320B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91D6B-4AF8-43CC-B04B-262DD5320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C7F84-0A03-4018-AD31-0559866EB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53987-D44C-4477-B60F-34B599667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A6451-2E94-47A3-BA64-B973A7679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AF55C-9B57-4B91-BF52-2148D68D0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9E46E-F4D7-43AA-BED4-CCC39FCB0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4AB7D-E0CE-4CE4-A96D-9A7CE8408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8FEC1-CD3B-4C1F-A004-921A9C7D8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0F0C9-62B6-4D62-8A17-253492266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Georgia"/>
              </a:rPr>
              <a:t>&lt;date/time&gt;</a:t>
            </a:r>
            <a:endParaRPr b="0" lang="en-US" sz="1200" spc="-1" strike="noStrike">
              <a:solidFill>
                <a:srgbClr val="000000"/>
              </a:solidFill>
              <a:latin typeface="Georgi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7223-4E97-4E16-9917-B1E22C291D46}" type="slidenum">
              <a:rPr b="0" lang="en-US" sz="1200" spc="-1" strike="noStrike">
                <a:solidFill>
                  <a:srgbClr val="898989"/>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home.comcast.net/~pjbishop/Dave/GVTL-TL2-Disc06-060711-Camera.pdf" TargetMode="External"/><Relationship Id="rId3" Type="http://schemas.openxmlformats.org/officeDocument/2006/relationships/hyperlink" Target="http://research.microsoft.com/Users/simonpj/papers/stm/stm.pdf" TargetMode="External"/><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682560" y="2004840"/>
            <a:ext cx="7785000" cy="1603440"/>
          </a:xfrm>
          <a:prstGeom prst="rect">
            <a:avLst/>
          </a:prstGeom>
          <a:ln w="0">
            <a:noFill/>
          </a:ln>
        </p:spPr>
      </p:pic>
      <p:sp>
        <p:nvSpPr>
          <p:cNvPr id="49" name="PlaceHolder 1"/>
          <p:cNvSpPr>
            <a:spLocks noGrp="1"/>
          </p:cNvSpPr>
          <p:nvPr>
            <p:ph type="subTitle"/>
          </p:nvPr>
        </p:nvSpPr>
        <p:spPr>
          <a:xfrm>
            <a:off x="1371600" y="3886200"/>
            <a:ext cx="6400800" cy="236232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Georgia"/>
              </a:rPr>
              <a:t>How D can make concurrent programming a piece of cake</a:t>
            </a:r>
            <a:endParaRPr b="0" lang="en-US" sz="3000" spc="-1" strike="noStrike">
              <a:solidFill>
                <a:srgbClr val="000000"/>
              </a:solidFill>
              <a:latin typeface="Georg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eorg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Georgia"/>
              </a:rPr>
              <a:t>Bartosz Milewski</a:t>
            </a:r>
            <a:endParaRPr b="0" lang="en-US" sz="3000" spc="-1" strike="noStrike">
              <a:solidFill>
                <a:srgbClr val="000000"/>
              </a:solidFill>
              <a:latin typeface="Georgi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Georgia"/>
              </a:rPr>
              <a:t>D Programming Language</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2" descr=""/>
          <p:cNvPicPr/>
          <p:nvPr/>
        </p:nvPicPr>
        <p:blipFill>
          <a:blip r:embed="rId1"/>
          <a:stretch/>
        </p:blipFill>
        <p:spPr>
          <a:xfrm>
            <a:off x="450720" y="268200"/>
            <a:ext cx="8242560" cy="1158840"/>
          </a:xfrm>
          <a:prstGeom prst="rect">
            <a:avLst/>
          </a:prstGeom>
          <a:ln w="0">
            <a:noFill/>
          </a:ln>
        </p:spPr>
      </p:pic>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tart transaction without destroying the log</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ke the read-log globally available</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lock until any of the logged read locations changes</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very commit checks the read-sets of blocked transactions and unblocks the ones that overlap with its write-set</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2" descr=""/>
          <p:cNvPicPr/>
          <p:nvPr/>
        </p:nvPicPr>
        <p:blipFill>
          <a:blip r:embed="rId1"/>
          <a:stretch/>
        </p:blipFill>
        <p:spPr>
          <a:xfrm>
            <a:off x="450720" y="268200"/>
            <a:ext cx="8242560" cy="1158840"/>
          </a:xfrm>
          <a:prstGeom prst="rect">
            <a:avLst/>
          </a:prstGeom>
          <a:ln w="0">
            <a:noFill/>
          </a:ln>
        </p:spPr>
      </p:pic>
      <p:sp>
        <p:nvSpPr>
          <p:cNvPr id="72" name=""/>
          <p:cNvSpPr txBox="1"/>
          <p:nvPr/>
        </p:nvSpPr>
        <p:spPr>
          <a:xfrm>
            <a:off x="457200" y="1599840"/>
            <a:ext cx="8229600" cy="25146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sumer doesn’t have to specify what it’s waiting for</a:t>
            </a:r>
            <a:endParaRPr b="0" lang="en-US" sz="3200" spc="-1" strike="noStrike">
              <a:solidFill>
                <a:srgbClr val="000000"/>
              </a:solidFill>
              <a:latin typeface="Georgia"/>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ducer doesn’t have to signal anybody</a:t>
            </a:r>
            <a:endParaRPr b="0" lang="en-US" sz="3200" spc="-1" strike="noStrike">
              <a:solidFill>
                <a:srgbClr val="000000"/>
              </a:solidFill>
              <a:latin typeface="Georgia"/>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posability: Wait for two items</a:t>
            </a:r>
            <a:endParaRPr b="0" lang="en-US" sz="3200" spc="-1" strike="noStrike">
              <a:solidFill>
                <a:srgbClr val="000000"/>
              </a:solidFill>
              <a:latin typeface="Georgia"/>
            </a:endParaRPr>
          </a:p>
        </p:txBody>
      </p:sp>
      <p:sp>
        <p:nvSpPr>
          <p:cNvPr id="73" name="TextBox 3"/>
          <p:cNvSpPr/>
          <p:nvPr/>
        </p:nvSpPr>
        <p:spPr>
          <a:xfrm>
            <a:off x="609480" y="411480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omic</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tem1 = pcQueue.Get ();</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item2 = pcQueue.Get ();</a:t>
            </a:r>
            <a:endParaRPr b="0" lang="en-US" sz="2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2" descr=""/>
          <p:cNvPicPr/>
          <p:nvPr/>
        </p:nvPicPr>
        <p:blipFill>
          <a:blip r:embed="rId1"/>
          <a:stretch/>
        </p:blipFill>
        <p:spPr>
          <a:xfrm>
            <a:off x="450720" y="268200"/>
            <a:ext cx="8242560" cy="1158840"/>
          </a:xfrm>
          <a:prstGeom prst="rect">
            <a:avLst/>
          </a:prstGeom>
          <a:ln w="0">
            <a:noFill/>
          </a:ln>
        </p:spPr>
      </p:pic>
      <p:sp>
        <p:nvSpPr>
          <p:cNvPr id="75" name=""/>
          <p:cNvSpPr txBox="1"/>
          <p:nvPr/>
        </p:nvSpPr>
        <p:spPr>
          <a:xfrm>
            <a:off x="457200" y="1371600"/>
            <a:ext cx="82296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ransactable (atomic) objects</a:t>
            </a:r>
            <a:endParaRPr b="0" lang="en-US" sz="32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sible as opaque handles</a:t>
            </a:r>
            <a:endParaRPr b="0" lang="en-US" sz="28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opened only inside transaction</a:t>
            </a:r>
            <a:endParaRPr b="0" lang="en-US" sz="28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pen (for read) returns a const pointer to the actual object</a:t>
            </a:r>
            <a:endParaRPr b="0" lang="en-US" sz="2800" spc="-1" strike="noStrike">
              <a:solidFill>
                <a:srgbClr val="000000"/>
              </a:solidFill>
              <a:latin typeface="Georgi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pen for write clones the object and returns pointer to the clone</a:t>
            </a:r>
            <a:endParaRPr b="0" lang="en-US" sz="2800" spc="-1" strike="noStrike">
              <a:solidFill>
                <a:srgbClr val="000000"/>
              </a:solidFill>
              <a:latin typeface="Georgia"/>
            </a:endParaRPr>
          </a:p>
        </p:txBody>
      </p:sp>
      <p:sp>
        <p:nvSpPr>
          <p:cNvPr id="76" name="TextBox 3"/>
          <p:cNvSpPr/>
          <p:nvPr/>
        </p:nvSpPr>
        <p:spPr>
          <a:xfrm>
            <a:off x="609480" y="4572000"/>
            <a:ext cx="8229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struct Foo { int x;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Foo f (new Foo); // an opaque handl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 // start transaction</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oo * foo = f.open_write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foo.x;</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2" descr=""/>
          <p:cNvPicPr/>
          <p:nvPr/>
        </p:nvPicPr>
        <p:blipFill>
          <a:blip r:embed="rId1"/>
          <a:stretch/>
        </p:blipFill>
        <p:spPr>
          <a:xfrm>
            <a:off x="450720" y="268200"/>
            <a:ext cx="8242560" cy="1158840"/>
          </a:xfrm>
          <a:prstGeom prst="rect">
            <a:avLst/>
          </a:prstGeom>
          <a:ln w="0">
            <a:noFill/>
          </a:ln>
        </p:spPr>
      </p:pic>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ep copy of the object</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mbedded atomic handles are copied but not the objects they refer to</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ransactable data structures build from small atomic objects (tree from nodes)</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alue-semantic objects (e.g. structs) cloned by copy construc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2" descr=""/>
          <p:cNvPicPr/>
          <p:nvPr/>
        </p:nvPicPr>
        <p:blipFill>
          <a:blip r:embed="rId1"/>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ruct or class marked as “atomic”—all methods (except constructor) “atomic”</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pen and open_write can be called only inside a transaction—i.e. from inside: </a:t>
            </a:r>
            <a:endParaRPr b="0" lang="en-US" sz="32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omic block</a:t>
            </a:r>
            <a:endParaRPr b="0" lang="en-US" sz="28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omic function/method</a:t>
            </a:r>
            <a:endParaRPr b="0" lang="en-US" sz="28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function/method may only be called from inside a transac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Title 2" descr=""/>
          <p:cNvPicPr/>
          <p:nvPr/>
        </p:nvPicPr>
        <p:blipFill>
          <a:blip r:embed="rId1"/>
          <a:stretch/>
        </p:blipFill>
        <p:spPr>
          <a:xfrm>
            <a:off x="450720" y="268200"/>
            <a:ext cx="8242560" cy="1158840"/>
          </a:xfrm>
          <a:prstGeom prst="rect">
            <a:avLst/>
          </a:prstGeom>
          <a:ln w="0">
            <a:noFill/>
          </a:ln>
        </p:spPr>
      </p:pic>
      <p:sp>
        <p:nvSpPr>
          <p:cNvPr id="82" name="TextBox 3"/>
          <p:cNvSpPr/>
          <p:nvPr/>
        </p:nvSpPr>
        <p:spPr>
          <a:xfrm>
            <a:off x="457200" y="1225440"/>
            <a:ext cx="8229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uct Slist // not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this ()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Insert sentinels</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last = new SNode (Infin, nul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head = new SNode (MinusInfin, las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omic methods</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Head () const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run _head.open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void Insert (int i)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void Remove (int i)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rivat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omic SNode _head; // atomic handl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Title 2" descr=""/>
          <p:cNvPicPr/>
          <p:nvPr/>
        </p:nvPicPr>
        <p:blipFill>
          <a:blip r:embed="rId1"/>
          <a:stretch/>
        </p:blipFill>
        <p:spPr>
          <a:xfrm>
            <a:off x="3486240" y="195120"/>
            <a:ext cx="2268360" cy="968400"/>
          </a:xfrm>
          <a:prstGeom prst="rect">
            <a:avLst/>
          </a:prstGeom>
          <a:ln w="0">
            <a:noFill/>
          </a:ln>
        </p:spPr>
      </p:pic>
      <p:sp>
        <p:nvSpPr>
          <p:cNvPr id="84" name="TextBox 3"/>
          <p:cNvSpPr/>
          <p:nvPr/>
        </p:nvSpPr>
        <p:spPr>
          <a:xfrm>
            <a:off x="304920" y="457200"/>
            <a:ext cx="82296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uct SNode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this (int i, </a:t>
            </a:r>
            <a:r>
              <a:rPr b="0" lang="en-US" sz="2000" spc="-1" strike="noStrike">
                <a:solidFill>
                  <a:srgbClr val="c00000"/>
                </a:solidFill>
                <a:latin typeface="Courier New"/>
                <a:ea typeface="Courier New"/>
              </a:rPr>
              <a:t>const</a:t>
            </a:r>
            <a:r>
              <a:rPr b="0" lang="en-US" sz="2000" spc="-1" strike="noStrike">
                <a:solidFill>
                  <a:srgbClr val="000000"/>
                </a:solidFill>
                <a:latin typeface="Courier New"/>
                <a:ea typeface="Courier New"/>
              </a:rPr>
              <a:t> (SNode) * 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val = i; _next = nex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omic methods (by defaul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nt Value () const { return _val;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Next () cons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urn _next.open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SetNext (const (SNode) * 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self = this.open_write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elf._next = nex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urn self;</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rivat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nt</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va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omic Snode</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_nex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2" descr=""/>
          <p:cNvPicPr/>
          <p:nvPr/>
        </p:nvPicPr>
        <p:blipFill>
          <a:blip r:embed="rId1"/>
          <a:stretch/>
        </p:blipFill>
        <p:spPr>
          <a:xfrm>
            <a:off x="3371760" y="195120"/>
            <a:ext cx="2505240" cy="957240"/>
          </a:xfrm>
          <a:prstGeom prst="rect">
            <a:avLst/>
          </a:prstGeom>
          <a:ln w="0">
            <a:noFill/>
          </a:ln>
        </p:spPr>
      </p:pic>
      <p:sp>
        <p:nvSpPr>
          <p:cNvPr id="86" name="TextBox 3"/>
          <p:cNvSpPr/>
          <p:nvPr/>
        </p:nvSpPr>
        <p:spPr>
          <a:xfrm>
            <a:off x="380880" y="1143000"/>
            <a:ext cx="82296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 { myList.Insert (x); } // transactioned</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void Insert (int i) 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prev = Head (); // sentine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nst (SNode) * cur = prev.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while (cur._val &lt; i)</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ev = cur;</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ur = prev.Nex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ssert (cur != 0); // at worst high sentinel</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Node * newNode = new SNode (i, cur);</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void) prev.SetNext (newNod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2" descr=""/>
          <p:cNvPicPr/>
          <p:nvPr/>
        </p:nvPicPr>
        <p:blipFill>
          <a:blip r:embed="rId1"/>
          <a:stretch/>
        </p:blipFill>
        <p:spPr>
          <a:xfrm>
            <a:off x="450720" y="268200"/>
            <a:ext cx="8242560" cy="1158840"/>
          </a:xfrm>
          <a:prstGeom prst="rect">
            <a:avLst/>
          </a:prstGeom>
          <a:ln w="0">
            <a:noFill/>
          </a:ln>
        </p:spPr>
      </p:pic>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ersioning and Locking</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Global Version Clock (always even)</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sion numbers always increase</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idden) version/lock word per atomic object (lock is the lowest bit)</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sistent Snapshot maintenance</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sion checks when opening an object</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check during commit</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2"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ransaction starts by reading Version Clock into the transaction’s </a:t>
            </a:r>
            <a:r>
              <a:rPr b="0" i="1" lang="en-US" sz="3200" spc="-1" strike="noStrike">
                <a:solidFill>
                  <a:srgbClr val="000000"/>
                </a:solidFill>
                <a:latin typeface="Georgia"/>
              </a:rPr>
              <a:t>read-version</a:t>
            </a:r>
            <a:r>
              <a:rPr b="0" lang="en-US" sz="3200" spc="-1" strike="noStrike">
                <a:solidFill>
                  <a:srgbClr val="000000"/>
                </a:solidFill>
                <a:latin typeface="Georgia"/>
              </a:rPr>
              <a:t> variable</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pen object</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ck the object lock (bit). If taken, abort</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ck object version number. If it’s greater than </a:t>
            </a:r>
            <a:r>
              <a:rPr b="0" i="1" lang="en-US" sz="2800" spc="-1" strike="noStrike">
                <a:solidFill>
                  <a:srgbClr val="000000"/>
                </a:solidFill>
                <a:latin typeface="Georgia"/>
              </a:rPr>
              <a:t>read-version</a:t>
            </a:r>
            <a:r>
              <a:rPr b="0" lang="en-US" sz="2800" spc="-1" strike="noStrike">
                <a:solidFill>
                  <a:srgbClr val="000000"/>
                </a:solidFill>
                <a:latin typeface="Georgia"/>
              </a:rPr>
              <a:t> abort</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2" descr=""/>
          <p:cNvPicPr/>
          <p:nvPr/>
        </p:nvPicPr>
        <p:blipFill>
          <a:blip r:embed="rId1"/>
          <a:stretch/>
        </p:blipFill>
        <p:spPr>
          <a:xfrm>
            <a:off x="450720" y="268200"/>
            <a:ext cx="8242560" cy="115884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ulti-Core is here to stay</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grammers must use concurrency</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ad-) Lock Oriented Programming is BAD</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ew paradigm badly neede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2"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very open is recorded in read-log</a:t>
            </a:r>
            <a:endParaRPr b="0" lang="en-US" sz="32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inter to original object (from which its version lock can be retrieved)</a:t>
            </a:r>
            <a:endParaRPr b="0" lang="en-US" sz="28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very open_write is recorded in read-log and write_log</a:t>
            </a:r>
            <a:endParaRPr b="0" lang="en-US" sz="32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inter to original object</a:t>
            </a:r>
            <a:endParaRPr b="0" lang="en-US" sz="2800" spc="-1" strike="noStrike">
              <a:solidFill>
                <a:srgbClr val="000000"/>
              </a:solidFill>
              <a:latin typeface="Georgia"/>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inter to clone</a:t>
            </a:r>
            <a:endParaRPr b="0" lang="en-US" sz="28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kay to call open_write after open (rea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2"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ock all objects recorded in the write-log</a:t>
            </a:r>
            <a:endParaRPr b="0" lang="en-US" sz="3200" spc="-1" strike="noStrike">
              <a:solidFill>
                <a:srgbClr val="000000"/>
              </a:solidFill>
              <a:latin typeface="Georgia"/>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unded spinlock on each version lock</a:t>
            </a:r>
            <a:endParaRPr b="0" lang="en-US" sz="2800" spc="-1" strike="noStrike">
              <a:solidFill>
                <a:srgbClr val="000000"/>
              </a:solidFill>
              <a:latin typeface="Georgia"/>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crement global Version Clock—store as transaction’s </a:t>
            </a:r>
            <a:r>
              <a:rPr b="0" i="1" lang="en-US" sz="3200" spc="-1" strike="noStrike">
                <a:solidFill>
                  <a:srgbClr val="000000"/>
                </a:solidFill>
                <a:latin typeface="Georgia"/>
              </a:rPr>
              <a:t>write-version</a:t>
            </a:r>
            <a:endParaRPr b="0" lang="en-US" sz="3200" spc="-1" strike="noStrike">
              <a:solidFill>
                <a:srgbClr val="000000"/>
              </a:solidFill>
              <a:latin typeface="Georgia"/>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quence Point (if transaction commits, that’s when it “happened”)</a:t>
            </a:r>
            <a:endParaRPr b="0" lang="en-US" sz="3200" spc="-1" strike="noStrike">
              <a:solidFill>
                <a:srgbClr val="000000"/>
              </a:solidFill>
              <a:latin typeface="Georgia"/>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d-check</a:t>
            </a:r>
            <a:endParaRPr b="0" lang="en-US" sz="3200" spc="-1" strike="noStrike">
              <a:solidFill>
                <a:srgbClr val="000000"/>
              </a:solidFill>
              <a:latin typeface="Georgia"/>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check object version numbers against </a:t>
            </a:r>
            <a:r>
              <a:rPr b="0" i="1" lang="en-US" sz="2800" spc="-1" strike="noStrike">
                <a:solidFill>
                  <a:srgbClr val="000000"/>
                </a:solidFill>
                <a:latin typeface="Georgia"/>
              </a:rPr>
              <a:t>read-ver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2"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r each location in the write-log</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wap the clone in place of original</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mp it with </a:t>
            </a:r>
            <a:r>
              <a:rPr b="0" i="1" lang="en-US" sz="2800" spc="-1" strike="noStrike">
                <a:solidFill>
                  <a:srgbClr val="000000"/>
                </a:solidFill>
                <a:latin typeface="Georgia"/>
              </a:rPr>
              <a:t>write-version</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loc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2"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e have C implementation (Brad Roberts’ port of GPL’d Dice, Shalev, and Shalit)</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rite D implementation</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odify type system</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itle 2" descr=""/>
          <p:cNvPicPr/>
          <p:nvPr/>
        </p:nvPicPr>
        <p:blipFill>
          <a:blip r:embed="rId1"/>
          <a:stretch/>
        </p:blipFill>
        <p:spPr>
          <a:xfrm>
            <a:off x="450720" y="268200"/>
            <a:ext cx="8242560" cy="1158840"/>
          </a:xfrm>
          <a:prstGeom prst="rect">
            <a:avLst/>
          </a:prstGeom>
          <a:ln w="0">
            <a:noFill/>
          </a:ln>
        </p:spPr>
      </p:pic>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ave Dice, Ori Shalev, and Nir Shavit. </a:t>
            </a:r>
            <a:r>
              <a:rPr b="0" lang="en-US" sz="3200" spc="-1" strike="noStrike" u="sng">
                <a:solidFill>
                  <a:srgbClr val="0000ff"/>
                </a:solidFill>
                <a:uFillTx/>
                <a:latin typeface="Georgia"/>
                <a:hlinkClick r:id="rId2"/>
              </a:rPr>
              <a:t>Transactional Locking II </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im Harris, Simon Marlow, Simon Peyton Jones, and Maurice Herlihy. </a:t>
            </a:r>
            <a:r>
              <a:rPr b="0" lang="en-US" sz="3200" spc="-1" strike="noStrike" u="sng">
                <a:solidFill>
                  <a:srgbClr val="0000ff"/>
                </a:solidFill>
                <a:uFillTx/>
                <a:latin typeface="Georgia"/>
                <a:hlinkClick r:id="rId3"/>
              </a:rPr>
              <a:t>Composable Memory Transactions</a:t>
            </a:r>
            <a:r>
              <a:rPr b="0" lang="en-US" sz="3200" spc="-1" strike="noStrike">
                <a:solidFill>
                  <a:srgbClr val="000000"/>
                </a:solidFill>
                <a:latin typeface="Georgia"/>
              </a:rPr>
              <a:t>. </a:t>
            </a:r>
            <a:r>
              <a:rPr b="0" i="1" lang="en-US" sz="3200" spc="-1" strike="noStrike">
                <a:solidFill>
                  <a:srgbClr val="000000"/>
                </a:solidFill>
                <a:latin typeface="Georgia"/>
              </a:rPr>
              <a:t>ACM Conference on Principles and Practice of Parallel Programming 2005</a:t>
            </a:r>
            <a:r>
              <a:rPr b="0" lang="en-US" sz="3200" spc="-1" strike="noStrike">
                <a:solidFill>
                  <a:srgbClr val="000000"/>
                </a:solidFill>
                <a:latin typeface="Georgia"/>
              </a:rPr>
              <a:t> (PPoPP'05). 2005. </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0720" y="268200"/>
            <a:ext cx="8242560" cy="1158840"/>
          </a:xfrm>
          <a:prstGeom prst="rect">
            <a:avLst/>
          </a:prstGeom>
          <a:ln w="0">
            <a:noFill/>
          </a:ln>
        </p:spPr>
      </p:pic>
      <p:sp>
        <p:nvSpPr>
          <p:cNvPr id="53" name=""/>
          <p:cNvSpPr txBox="1"/>
          <p:nvPr/>
        </p:nvSpPr>
        <p:spPr>
          <a:xfrm>
            <a:off x="457200" y="1599840"/>
            <a:ext cx="2743200" cy="3048120"/>
          </a:xfrm>
          <a:prstGeom prst="rect">
            <a:avLst/>
          </a:prstGeom>
          <a:solidFill>
            <a:srgbClr val="ffffff"/>
          </a:solidFill>
          <a:ln w="25560">
            <a:solidFill>
              <a:srgbClr val="4f81bd"/>
            </a:solidFill>
            <a:miter/>
          </a:ln>
        </p:spPr>
        <p:txBody>
          <a:bodyPr anchor="t">
            <a:normAutofit/>
          </a:bodyPr>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void Toggle ()</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if (x == 0)</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x = 1;</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else</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    </a:t>
            </a:r>
            <a:r>
              <a:rPr b="0" lang="en-US" sz="2400" spc="-1" strike="noStrike">
                <a:solidFill>
                  <a:srgbClr val="000000"/>
                </a:solidFill>
                <a:latin typeface="Courier New"/>
                <a:ea typeface="Cambria Math"/>
              </a:rPr>
              <a:t>x = 0;</a:t>
            </a:r>
            <a:endParaRPr b="0" lang="en-US" sz="2400" spc="-1" strike="noStrike">
              <a:solidFill>
                <a:srgbClr val="000000"/>
              </a:solidFill>
              <a:latin typeface="Georgia"/>
            </a:endParaRPr>
          </a:p>
          <a:p>
            <a:pPr marL="341280" indent="-3412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ambria Math"/>
              </a:rPr>
              <a:t>}</a:t>
            </a:r>
            <a:endParaRPr b="0" lang="en-US" sz="2400" spc="-1" strike="noStrike">
              <a:solidFill>
                <a:srgbClr val="000000"/>
              </a:solidFill>
              <a:latin typeface="Georgia"/>
            </a:endParaRPr>
          </a:p>
        </p:txBody>
      </p:sp>
      <p:sp>
        <p:nvSpPr>
          <p:cNvPr id="54" name="TextBox 3"/>
          <p:cNvSpPr/>
          <p:nvPr/>
        </p:nvSpPr>
        <p:spPr>
          <a:xfrm>
            <a:off x="3657600" y="1600200"/>
            <a:ext cx="441972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Fetch value of x</a:t>
            </a:r>
            <a:endParaRPr b="0" lang="en-US" sz="28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Store it in a temporary</a:t>
            </a:r>
            <a:endParaRPr b="0" lang="en-US" sz="28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ompare with zero</a:t>
            </a:r>
            <a:endParaRPr b="0" lang="en-US" sz="2800" spc="-1" strike="noStrike">
              <a:solidFill>
                <a:srgbClr val="000000"/>
              </a:solidFill>
              <a:latin typeface="Georgi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Based on the result, write new value</a:t>
            </a:r>
            <a:endParaRPr b="0" lang="en-US" sz="2800" spc="-1" strike="noStrike">
              <a:solidFill>
                <a:srgbClr val="000000"/>
              </a:solidFill>
              <a:latin typeface="Georgia"/>
            </a:endParaRPr>
          </a:p>
        </p:txBody>
      </p:sp>
      <p:sp>
        <p:nvSpPr>
          <p:cNvPr id="55" name="TextBox 4"/>
          <p:cNvSpPr/>
          <p:nvPr/>
        </p:nvSpPr>
        <p:spPr>
          <a:xfrm>
            <a:off x="609480" y="4788000"/>
            <a:ext cx="7772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f, in the meanwhile, the original x was modified by another thread? </a:t>
            </a:r>
            <a:endParaRPr b="0" lang="en-US" sz="2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eorgia"/>
              </a:rPr>
              <a:t>Write is based on incorrect assumpt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2" descr=""/>
          <p:cNvPicPr/>
          <p:nvPr/>
        </p:nvPicPr>
        <p:blipFill>
          <a:blip r:embed="rId1"/>
          <a:stretch/>
        </p:blipFill>
        <p:spPr>
          <a:xfrm>
            <a:off x="450720" y="268200"/>
            <a:ext cx="8242560" cy="1158840"/>
          </a:xfrm>
          <a:prstGeom prst="rect">
            <a:avLst/>
          </a:prstGeom>
          <a:ln w="0">
            <a:noFill/>
          </a:ln>
        </p:spPr>
      </p:pic>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orem:</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ypothesis: x == 0 (read x, compare to 0)</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clusion: x = 1 (write 1 into x)</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blem: Hypothesis invalidated before conclusion reached</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ust re-check the hypothesis before writing!</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2" descr=""/>
          <p:cNvPicPr/>
          <p:nvPr/>
        </p:nvPicPr>
        <p:blipFill>
          <a:blip r:embed="rId1"/>
          <a:stretch/>
        </p:blipFill>
        <p:spPr>
          <a:xfrm>
            <a:off x="450720" y="268200"/>
            <a:ext cx="8242560" cy="1158840"/>
          </a:xfrm>
          <a:prstGeom prst="rect">
            <a:avLst/>
          </a:prstGeom>
          <a:ln w="0">
            <a:noFill/>
          </a:ln>
        </p:spPr>
      </p:pic>
      <p:sp>
        <p:nvSpPr>
          <p:cNvPr id="5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elay checking: Log read values for later</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ust re-check before writing: Log the “intent to write” (speculative writes) for later execution</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erify hypothesis : Are read values unchanged?</a:t>
            </a:r>
            <a:endParaRPr b="0" lang="en-US" sz="3200" spc="-1" strike="noStrike">
              <a:solidFill>
                <a:srgbClr val="000000"/>
              </a:solidFill>
              <a:latin typeface="Georgia"/>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ch conclusion: Execute writes from log to memory</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2" descr=""/>
          <p:cNvPicPr/>
          <p:nvPr/>
        </p:nvPicPr>
        <p:blipFill>
          <a:blip r:embed="rId1"/>
          <a:stretch/>
        </p:blipFill>
        <p:spPr>
          <a:xfrm>
            <a:off x="450720" y="268200"/>
            <a:ext cx="8242560" cy="115884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currency issues postponed to the commit phase (read-check and write)</a:t>
            </a:r>
            <a:endParaRPr b="0" lang="en-US" sz="3200" spc="-1" strike="noStrike">
              <a:solidFill>
                <a:srgbClr val="000000"/>
              </a:solidFill>
              <a:latin typeface="Georgia"/>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it uses generic code, which can be optimized and tested once for all</a:t>
            </a:r>
            <a:endParaRPr b="0" lang="en-US" sz="3200" spc="-1" strike="noStrike">
              <a:solidFill>
                <a:srgbClr val="000000"/>
              </a:solidFill>
              <a:latin typeface="Georgia"/>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er code simple, less error-prone—code as if there were a single global lock</a:t>
            </a:r>
            <a:endParaRPr b="0" lang="en-US" sz="3200" spc="-1" strike="noStrike">
              <a:solidFill>
                <a:srgbClr val="000000"/>
              </a:solidFill>
              <a:latin typeface="Georgia"/>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creased concurrency—executes as if every word were separately locked</a:t>
            </a:r>
            <a:endParaRPr b="0" lang="en-US" sz="3200" spc="-1" strike="noStrike">
              <a:solidFill>
                <a:srgbClr val="000000"/>
              </a:solidFill>
              <a:latin typeface="Georgia"/>
            </a:endParaRPr>
          </a:p>
          <a:p>
            <a:pPr marL="335880" indent="-3358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eorgia"/>
              </a:rPr>
              <a:t>No deadlocks!</a:t>
            </a:r>
            <a:endParaRPr b="0" lang="en-US" sz="3200" spc="-1" strike="noStrike">
              <a:solidFill>
                <a:srgbClr val="000000"/>
              </a:solidFill>
              <a:latin typeface="Georgia"/>
            </a:endParaRPr>
          </a:p>
          <a:p>
            <a:pPr marL="335880" indent="-335880">
              <a:lnSpc>
                <a:spcPct val="9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itle 2" descr=""/>
          <p:cNvPicPr/>
          <p:nvPr/>
        </p:nvPicPr>
        <p:blipFill>
          <a:blip r:embed="rId1"/>
          <a:stretch/>
        </p:blipFill>
        <p:spPr>
          <a:xfrm>
            <a:off x="450720" y="268200"/>
            <a:ext cx="8242560" cy="1158840"/>
          </a:xfrm>
          <a:prstGeom prst="rect">
            <a:avLst/>
          </a:prstGeom>
          <a:ln w="0">
            <a:noFill/>
          </a:ln>
        </p:spPr>
      </p:pic>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tart a transaction: create log</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peculative execution—reads and writes logged</a:t>
            </a:r>
            <a:endParaRPr b="0" lang="en-US" sz="32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mit phase (atomic)</a:t>
            </a:r>
            <a:endParaRPr b="0" lang="en-US" sz="32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check</a:t>
            </a:r>
            <a:endParaRPr b="0" lang="en-US" sz="2800" spc="-1" strike="noStrike">
              <a:solidFill>
                <a:srgbClr val="000000"/>
              </a:solidFill>
              <a:latin typeface="Georgi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rite to memory</a:t>
            </a:r>
            <a:endParaRPr b="0" lang="en-US" sz="2800" spc="-1" strike="noStrike">
              <a:solidFill>
                <a:srgbClr val="000000"/>
              </a:solidFill>
              <a:latin typeface="Georgi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f failure, restart transac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2" descr=""/>
          <p:cNvPicPr/>
          <p:nvPr/>
        </p:nvPicPr>
        <p:blipFill>
          <a:blip r:embed="rId1"/>
          <a:stretch/>
        </p:blipFill>
        <p:spPr>
          <a:xfrm>
            <a:off x="450720" y="268200"/>
            <a:ext cx="8242560" cy="1158840"/>
          </a:xfrm>
          <a:prstGeom prst="rect">
            <a:avLst/>
          </a:prstGeom>
          <a:ln w="0">
            <a:noFill/>
          </a:ln>
        </p:spPr>
      </p:pic>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mbining atomic operations using locks—almost impossible!</a:t>
            </a:r>
            <a:endParaRPr b="0" lang="en-US" sz="3200" spc="-1" strike="noStrike">
              <a:solidFill>
                <a:srgbClr val="000000"/>
              </a:solidFill>
              <a:latin typeface="Georgia"/>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transacted) withdrawal</a:t>
            </a:r>
            <a:br>
              <a:rPr sz="3200"/>
            </a:br>
            <a:r>
              <a:rPr b="0" lang="en-US" sz="2600" spc="-1" strike="noStrike">
                <a:solidFill>
                  <a:srgbClr val="000000"/>
                </a:solidFill>
                <a:latin typeface="Georgia"/>
              </a:rPr>
              <a:t>atomic { acc.Withdraw (sum); }</a:t>
            </a:r>
            <a:endParaRPr b="0" lang="en-US" sz="2600" spc="-1" strike="noStrike">
              <a:solidFill>
                <a:srgbClr val="000000"/>
              </a:solidFill>
              <a:latin typeface="Georgia"/>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deposit—similar</a:t>
            </a:r>
            <a:endParaRPr b="0" lang="en-US" sz="3200" spc="-1" strike="noStrike">
              <a:solidFill>
                <a:srgbClr val="000000"/>
              </a:solidFill>
              <a:latin typeface="Georgia"/>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omic transfer</a:t>
            </a:r>
            <a:br>
              <a:rPr sz="3200"/>
            </a:br>
            <a:r>
              <a:rPr b="0" lang="en-US" sz="2600" spc="-1" strike="noStrike">
                <a:solidFill>
                  <a:srgbClr val="000000"/>
                </a:solidFill>
                <a:latin typeface="Georgia"/>
              </a:rPr>
              <a:t>atomic {</a:t>
            </a:r>
            <a:br>
              <a:rPr sz="2600"/>
            </a:br>
            <a:r>
              <a:rPr b="0" lang="en-US" sz="2600" spc="-1" strike="noStrike">
                <a:solidFill>
                  <a:srgbClr val="000000"/>
                </a:solidFill>
                <a:latin typeface="Georgia"/>
              </a:rPr>
              <a:t>    accOne.Withdraw (sum);</a:t>
            </a:r>
            <a:br>
              <a:rPr sz="2600"/>
            </a:br>
            <a:r>
              <a:rPr b="0" lang="en-US" sz="2600" spc="-1" strike="noStrike">
                <a:solidFill>
                  <a:srgbClr val="000000"/>
                </a:solidFill>
                <a:latin typeface="Georgia"/>
              </a:rPr>
              <a:t>    accTwo.Deposit (sum);</a:t>
            </a:r>
            <a:br>
              <a:rPr sz="2600"/>
            </a:br>
            <a:r>
              <a:rPr b="0" lang="en-US" sz="2600" spc="-1" strike="noStrike">
                <a:solidFill>
                  <a:srgbClr val="000000"/>
                </a:solidFill>
                <a:latin typeface="Georgia"/>
              </a:rPr>
              <a: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2" descr=""/>
          <p:cNvPicPr/>
          <p:nvPr/>
        </p:nvPicPr>
        <p:blipFill>
          <a:blip r:embed="rId1"/>
          <a:stretch/>
        </p:blipFill>
        <p:spPr>
          <a:xfrm>
            <a:off x="450720" y="268200"/>
            <a:ext cx="8242560" cy="1158840"/>
          </a:xfrm>
          <a:prstGeom prst="rect">
            <a:avLst/>
          </a:prstGeom>
          <a:ln w="0">
            <a:noFill/>
          </a:ln>
        </p:spPr>
      </p:pic>
      <p:sp>
        <p:nvSpPr>
          <p:cNvPr id="67" name=""/>
          <p:cNvSpPr txBox="1"/>
          <p:nvPr/>
        </p:nvSpPr>
        <p:spPr>
          <a:xfrm>
            <a:off x="457200" y="1600200"/>
            <a:ext cx="8229600" cy="83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ample: Producer/Consumer</a:t>
            </a:r>
            <a:endParaRPr b="0" lang="en-US" sz="3200" spc="-1" strike="noStrike">
              <a:solidFill>
                <a:srgbClr val="000000"/>
              </a:solidFill>
              <a:latin typeface="Georgia"/>
            </a:endParaRPr>
          </a:p>
        </p:txBody>
      </p:sp>
      <p:sp>
        <p:nvSpPr>
          <p:cNvPr id="68" name="TextBox 3"/>
          <p:cNvSpPr/>
          <p:nvPr/>
        </p:nvSpPr>
        <p:spPr>
          <a:xfrm>
            <a:off x="533520" y="236232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omic</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tem * item = pcQueue.Ge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tem * Get () atomic // PCQueue method</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_queue.Count () == 0)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1" lang="en-US" sz="2000" spc="-1" strike="noStrike">
                <a:solidFill>
                  <a:srgbClr val="c00000"/>
                </a:solidFill>
                <a:latin typeface="Courier New"/>
                <a:ea typeface="Courier New"/>
              </a:rPr>
              <a:t>retry</a:t>
            </a: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else</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eturn _queue.pop_front ();</a:t>
            </a:r>
            <a:endParaRPr b="0" lang="en-US" sz="20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8T22:57:50Z</dcterms:created>
  <dc:creator>Bartosz</dc:creator>
  <dc:description/>
  <dc:language>en-US</dc:language>
  <cp:lastModifiedBy>Bartosz</cp:lastModifiedBy>
  <dcterms:modified xsi:type="dcterms:W3CDTF">2007-08-26T17:56:53Z</dcterms:modified>
  <cp:revision>226</cp:revision>
  <dc:subject/>
  <dc:title>Software Transactional Memory</dc:title>
</cp:coreProperties>
</file>